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20B-6E37-47C8-BB03-D2BDF94C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090-DB48-4ED3-946E-78E70329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9FB-CF58-4C7F-BC97-9FB03356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A42-22A7-447A-8A04-FA0DC5CF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F2B-53D4-4CCF-BBEA-F3D4F726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DF1-2328-4FE5-B7FD-E183F1CE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78F-AA0E-4BAE-8109-B4D4F2A9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A173-30F5-403A-86CF-F85CE920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78C-EAAE-4D69-A84F-F4FE2A19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1CD-866D-4D45-A9A2-8A832429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386-913C-4DA8-9FA8-F5AFAE3B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526-421E-4A40-9564-E440AC73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8670-D660-4F15-B200-E71C8E8B6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SICOQUIMICA DE PROCESOS METALUR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Nº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- Estructura de Silicatos 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s básicos: rompedor de red, de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, Mg, Na, K, Li,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 ácido: formador de red, 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Pb, B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razón entre carga/rad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fóter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, Ti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hacen lo opuesto a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6245"/>
          <a:stretch/>
        </p:blipFill>
        <p:spPr>
          <a:xfrm>
            <a:off x="755640" y="136440"/>
            <a:ext cx="555948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6237360"/>
            <a:ext cx="720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ficies de saturación para algunos sistemas binarios de sil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95640" y="465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149720"/>
            <a:ext cx="1441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os eficiente en romper la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508464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mon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350028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d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oxígeno en esc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enlazado, carga doble, “libre”.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ce simple, carga unitaria, “terminal” o “non-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lemente enlazado, sin carga, “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710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tres tipos de oxígeno deben estar en equilib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11280" y="4381560"/>
                <a:ext cx="1917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11640" y="4137120"/>
                <a:ext cx="161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65360" y="5183280"/>
                <a:ext cx="401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39640" y="57992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alor 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ende de los cationes presentes en el líquido y en la temperatura. Para óxidos altamente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Para óxidos menos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valores may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65160" y="1339920"/>
            <a:ext cx="5413680" cy="4681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595620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 (modelo de Toops &amp; Sam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35194" t="0" r="0" b="6571"/>
          <a:stretch/>
        </p:blipFill>
        <p:spPr>
          <a:xfrm>
            <a:off x="1403280" y="1728720"/>
            <a:ext cx="6134040" cy="3235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508464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148" t="4075" r="33829" b="5137"/>
          <a:stretch/>
        </p:blipFill>
        <p:spPr>
          <a:xfrm>
            <a:off x="468360" y="1544760"/>
            <a:ext cx="5111640" cy="451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80000" y="1773360"/>
            <a:ext cx="2952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ergía libre de mezcla de silicatos calculada para varios valores de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abiertos corresponden a valores medidos de energía libre de mezcla integral para PbO y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 11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cerrados, corresponden a valores calculados para CaO-SiO2 a 16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s Termodinám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7507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solución 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mezcla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s relacionados 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0440" y="1171440"/>
            <a:ext cx="63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dades calculadas en base a modelos de 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30064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: E. T. Turkdogan, “Physicochemical properties of molten slags and glasses”, The Metal Society, London, 1983, capítulo 3, pp. 142-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dad fundamental: tetraedro de sí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 de 4 átomos (o iones) de O alrededor de un pequeño átomo d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oxígeno en los vértices del tetraedro tiene una valencia res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grupo (tetraedro) tiene 4 cargas neg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tetraedros pueden compartir vértices, pero no lados con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2080" y="1720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0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68280" y="2492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1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6200" y="220500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140000" y="1557360"/>
            <a:ext cx="7189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55736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349360"/>
            <a:ext cx="71892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5928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349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134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781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7242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átomos de O forman una red casi cerrada (close pack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620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626920" y="479736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l tetraed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944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522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500720" y="479736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7044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ristalina, los grupos de tetraedros se distribuyen en arreglos regulares, compartiendo todos sus vé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a: vista en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5693"/>
          <a:stretch/>
        </p:blipFill>
        <p:spPr>
          <a:xfrm>
            <a:off x="1692360" y="3284640"/>
            <a:ext cx="2146320" cy="239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24360" y="3573360"/>
            <a:ext cx="280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stancia formada tiene la formula estequimétric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dida o vítrea, todas o casi todas las esquinas permanecen compartidas. Sin embargo, con alguna disto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b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75080" y="3022560"/>
            <a:ext cx="2193840" cy="299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24360" y="357336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rden de corto rango no se ha roto. A largo rango se ha desordenado o desapare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7515" t="4675" r="9180" b="9228"/>
          <a:stretch/>
        </p:blipFill>
        <p:spPr>
          <a:xfrm>
            <a:off x="1258920" y="3284640"/>
            <a:ext cx="1584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602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2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on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24228" t="0" r="22557" b="14578"/>
          <a:stretch/>
        </p:blipFill>
        <p:spPr>
          <a:xfrm>
            <a:off x="1042920" y="2133720"/>
            <a:ext cx="2374920" cy="331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205000"/>
            <a:ext cx="482436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un óxido metálico se agrega 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undido, los iones de oxígeno desde el óxido agregado se unen al tetraedro de sílice, por lo que una esquina compartida se libera en cada punto en que se agrega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átomo de O agregado, tiene una carga negativa, por lo que el catión metálico permanece cerca del quie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602136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parcial de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515772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minuye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i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5482" r="1579" b="7054"/>
          <a:stretch/>
        </p:blipFill>
        <p:spPr>
          <a:xfrm>
            <a:off x="539640" y="256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7280" y="2205000"/>
            <a:ext cx="43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este caso, un óxido divalente es agregado, por lo que debe compartir dos vértices en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fuerte enlace covalente es reemplazado por un enlace iónico menos f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-O-Si + CaO = Si-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Si + 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0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polimer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umentar aún más la cantidad de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602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total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349360"/>
            <a:ext cx="280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ye drásticamente l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d se rompe casi to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tetraedro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oxígenos “lib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472"/>
          <a:stretch/>
        </p:blipFill>
        <p:spPr>
          <a:xfrm>
            <a:off x="1187280" y="2492280"/>
            <a:ext cx="3876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en siderurgia, en procesos de desulfurización y defosforización, se requiere la presencia de oxígenos libres en la red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coria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be aumentar la capacidad de S y P (capacidad de retener S o P en la esc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a que los iones de S y P son muy grandes, no se van a introducir en la red, necesitan los oxígenos libre (para reempla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3:53:09Z</dcterms:created>
  <dc:creator>Tanai Marin</dc:creator>
  <dc:description/>
  <dc:language>en-US</dc:language>
  <cp:lastModifiedBy>Tanai Marin</cp:lastModifiedBy>
  <dcterms:modified xsi:type="dcterms:W3CDTF">2006-11-21T13:43:31Z</dcterms:modified>
  <cp:revision>16</cp:revision>
  <dc:subject/>
  <dc:title>FISICOQUIMICA DE PROCESOS METALURGICOS</dc:title>
</cp:coreProperties>
</file>