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7AB-52FF-4920-98DA-62011DF0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614-839D-4053-9C5A-EAF77063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C77-BB35-4395-9B88-2C0273C1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C76-AE1F-4512-9847-7F06EE8C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3C1-F102-4AFD-A419-D4DA56B7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BDF-0334-4C6D-A390-0C9973AF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08F-26D9-408E-9AC3-94A33104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8B5-418A-40E2-8384-E5D00C77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786-5C90-40C5-A627-460B7D51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747-01B7-4DD9-AF66-D8756D80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1F8-F714-4960-B77C-0E4885E0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B65-CE22-4A39-A22B-81310B13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860D-CCA3-447F-80E0-D7C37E30F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SICOQUIMICA DE PROCESOS METALUR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Nº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- Estructura de Silicatos 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s básicos: rompedor de red, de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, Mg, Na, K, Li,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 ácido: formador de red, 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Pb, B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razón entre carga/rad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fóter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, Ti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hacen lo opuesto a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6245"/>
          <a:stretch/>
        </p:blipFill>
        <p:spPr>
          <a:xfrm>
            <a:off x="755640" y="136440"/>
            <a:ext cx="55594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6237360"/>
            <a:ext cx="720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s de saturación para algunos sistemas binarios de sil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95640" y="465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149720"/>
            <a:ext cx="1441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s eficiente en romper la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08464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mon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50028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d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oxígeno en esc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enlazado, carga doble, “libre”.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ce simple, carga unitaria, “terminal” o “non-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lemente enlazado, sin carga, “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710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res tipos de oxígeno deben estar en equilib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11280" y="4381560"/>
                <a:ext cx="1917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11640" y="4137120"/>
                <a:ext cx="161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65360" y="5183280"/>
                <a:ext cx="401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9640" y="57992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e de los cationes presentes en el líquido y en la temperatura. Para óxidos altamente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Para óxidos menos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valores may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65160" y="1339920"/>
            <a:ext cx="5413680" cy="468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95620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 (modelo de Toops &amp; Sam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35194" t="0" r="0" b="6571"/>
          <a:stretch/>
        </p:blipFill>
        <p:spPr>
          <a:xfrm>
            <a:off x="1403280" y="1728720"/>
            <a:ext cx="6134040" cy="32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508464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148" t="4075" r="33829" b="5137"/>
          <a:stretch/>
        </p:blipFill>
        <p:spPr>
          <a:xfrm>
            <a:off x="468360" y="1544760"/>
            <a:ext cx="5111640" cy="45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80000" y="1773360"/>
            <a:ext cx="2952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ergía libre de mezcla de silicatos calculada para varios valores de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abiertos corresponden a valores medidos de energía libre de mezcla integral para PbO y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 11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cerrados, corresponden a valores calculados para CaO-SiO2 a 16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s Termodinám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507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solución 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mezcla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s relacionados 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0440" y="117144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dades calculadas en base a modelos de 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300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: E. T. Turkdogan, “Physicochemical properties of molten slags and glasses”, The Metal Society, London, 1983, capítulo 3, pp. 142-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dad fundamental: tetraedro de sí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 de 4 átomos (o iones) de O alrededor de un pequeño átom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oxígeno en los vértices del tetraedro tiene una valencia res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grupo (tetraedro) tiene 4 cargas neg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tetraedros pueden compartir vértices, pero no lad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2080" y="1720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0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68280" y="2492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6200" y="2205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140000" y="1557360"/>
            <a:ext cx="7189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57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349360"/>
            <a:ext cx="71892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5928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134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781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242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átomos de O forman una red casi cerrada (close pack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620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26920" y="4797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l tetraed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944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500720" y="479736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04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ristalina, los grupos de tetraedros se distribuyen en arreglos regulares, compartiendo todos sus vé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a: vista en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5693"/>
          <a:stretch/>
        </p:blipFill>
        <p:spPr>
          <a:xfrm>
            <a:off x="1692360" y="3284640"/>
            <a:ext cx="2146320" cy="239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573360"/>
            <a:ext cx="280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stancia formada tiene la formula estequimétric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dida o vítrea, todas o casi todas las esquinas permanecen compartidas. Sin embargo, con alguna disto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b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75080" y="3022560"/>
            <a:ext cx="2193840" cy="299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24360" y="357336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corto rango no se ha roto. A largo rango se ha desordenado o desapare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7515" t="4675" r="9180" b="9228"/>
          <a:stretch/>
        </p:blipFill>
        <p:spPr>
          <a:xfrm>
            <a:off x="1258920" y="328464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2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n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4228" t="0" r="22557" b="14578"/>
          <a:stretch/>
        </p:blipFill>
        <p:spPr>
          <a:xfrm>
            <a:off x="1042920" y="2133720"/>
            <a:ext cx="2374920" cy="331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205000"/>
            <a:ext cx="482436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óxido metálico se agrega 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undido, los iones de oxígeno desde el óxido agregado se unen al tetraedro de sílice, por lo que una esquina compartida se libera en cada punto en que se agrega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átomo de O agregado, tiene una carga negativa, por lo que el catión metálico permanece cerca del qui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02136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parcial de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15772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minuye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i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5482" r="1579" b="7054"/>
          <a:stretch/>
        </p:blipFill>
        <p:spPr>
          <a:xfrm>
            <a:off x="539640" y="256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7280" y="2205000"/>
            <a:ext cx="43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ste caso, un óxido divalente es agregado, por lo que debe compartir dos vértices en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uerte enlace covalente es reemplazado por un enlace iónico menos f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-O-Si + CaO = Si-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Si + 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polimer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umentar aún más la cantidad de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602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total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349360"/>
            <a:ext cx="28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ye drásticamente l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d se rompe casi to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tetraedro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oxígenos “lib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472"/>
          <a:stretch/>
        </p:blipFill>
        <p:spPr>
          <a:xfrm>
            <a:off x="1187280" y="2492280"/>
            <a:ext cx="387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en siderurgia, en procesos de desulfurización y defosforización, se requiere la presencia de oxígenos libres en la re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coria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be aumentar la capacidad de S y P (capacidad de retener S o P en la esc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a que los iones de S y P son muy grandes, no se van a introducir en la red, necesitan los oxígenos libre (para reempla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53:09Z</dcterms:created>
  <dc:creator>Tanai Marin</dc:creator>
  <dc:description/>
  <dc:language>en-US</dc:language>
  <cp:lastModifiedBy>Tanai Marin</cp:lastModifiedBy>
  <dcterms:modified xsi:type="dcterms:W3CDTF">2006-11-21T13:43:31Z</dcterms:modified>
  <cp:revision>16</cp:revision>
  <dc:subject/>
  <dc:title>FISICOQUIMICA DE PROCESOS METALURGICOS</dc:title>
</cp:coreProperties>
</file>