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7051675" cy="9363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3B3C-C9CF-4FF0-868B-0CEF334C9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F09A-FB82-41BF-9F35-F28C9A93C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4CFD-E8A1-45A8-AFFA-2F7D13222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BE58-DE4C-454E-B033-A0FD416F7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46D1-3B96-4CEF-B5E0-2015C5773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9B72-7D0C-487D-B25B-3E8DCA448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5922-97D6-4431-8DBA-B0EF2030F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B015-CDEA-4BB7-8D42-21A783355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B541-633D-4DCD-8B02-CCAD21847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39CC-C790-40C1-8298-547E27B4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7C70-1981-486F-8FF5-406B33FB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7FCE-EC3F-412A-A40D-234BFCC1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DE7F9-E1BE-40B2-A89E-9648B1228E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895480"/>
            <a:ext cx="8077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 u="sng">
                <a:solidFill>
                  <a:srgbClr val="990000"/>
                </a:solidFill>
                <a:uFillTx/>
                <a:latin typeface="Times New Roman"/>
                <a:ea typeface="Times New Roman"/>
              </a:rPr>
              <a:t>MI75D - LECCIÓN 4</a:t>
            </a:r>
            <a:r>
              <a:rPr b="1" lang="es-CL" sz="3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: SIMULACIÓN PLURIGAUSSIAN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ODELO PLURIGAUSSIANO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173052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Princip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2286000"/>
            <a:ext cx="830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dar más flexibilidad en la definición de las unidades geológicas, la idea es trabajar con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s variables Gaussiana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Por ejempl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38480" y="3276720"/>
            <a:ext cx="266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si Y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&lt;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38480" y="3718080"/>
            <a:ext cx="3429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si Y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 Y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&lt;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718080"/>
            <a:ext cx="1676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86200" y="3368520"/>
            <a:ext cx="76320" cy="1127160"/>
          </a:xfrm>
          <a:custGeom>
            <a:avLst/>
            <a:gdLst>
              <a:gd name="textAreaLeft" fmla="*/ 48960 w 76320"/>
              <a:gd name="textAreaRight" fmla="*/ 76320 w 76320"/>
              <a:gd name="textAreaTop" fmla="*/ 29160 h 1127160"/>
              <a:gd name="textAreaBottom" fmla="*/ 1098000 h 1127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038480" y="4175280"/>
            <a:ext cx="3429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si Y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 Y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876920"/>
            <a:ext cx="8381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esta construcción, el usuario dispone de varios parámetros libres: el número de Gaussianas, sus variogramas simples y cruzados, así como la definición de la truncación. De este modo, se obtiene una clase amplia de modelos categór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ODELO PLURIGAUSSIANO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173052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Influencia de los variogramas de las Gaussia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5750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arab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icos en el ori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76920" y="257508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ineales en el ori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tipo_variograma1" descr=""/>
          <p:cNvPicPr/>
          <p:nvPr/>
        </p:nvPicPr>
        <p:blipFill>
          <a:blip r:embed="rId1"/>
          <a:stretch/>
        </p:blipFill>
        <p:spPr>
          <a:xfrm>
            <a:off x="428760" y="3048120"/>
            <a:ext cx="83343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ODELO PLURIGAUSSIANO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173052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Influencia de los variogramas de las Gaussia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25750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sótro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76920" y="257508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sótropo + anisótro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tipo_variograma2" descr=""/>
          <p:cNvPicPr/>
          <p:nvPr/>
        </p:nvPicPr>
        <p:blipFill>
          <a:blip r:embed="rId1"/>
          <a:stretch/>
        </p:blipFill>
        <p:spPr>
          <a:xfrm>
            <a:off x="457200" y="3048120"/>
            <a:ext cx="83343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ODELO PLURIGAUSSIANO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1600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Influencia del modo de truncación de las Gaussia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tipo_corte" descr=""/>
          <p:cNvPicPr/>
          <p:nvPr/>
        </p:nvPicPr>
        <p:blipFill>
          <a:blip r:embed="rId1"/>
          <a:stretch/>
        </p:blipFill>
        <p:spPr>
          <a:xfrm>
            <a:off x="103320" y="2057400"/>
            <a:ext cx="896436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correlaciones" descr=""/>
          <p:cNvPicPr/>
          <p:nvPr/>
        </p:nvPicPr>
        <p:blipFill>
          <a:blip r:embed="rId1"/>
          <a:stretch/>
        </p:blipFill>
        <p:spPr>
          <a:xfrm>
            <a:off x="1828800" y="2133720"/>
            <a:ext cx="5761080" cy="46767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ODELO PLURIGAUSSIANO 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129528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Influencia de la correlación entre Gaussia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00200" y="18288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= 0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95680" y="18288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= 0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00200" y="43434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= 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43434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ODELO PLURIGAUSSIANO (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173052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Limitaciones práct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228600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la práctica, para limitar el número de parámetros y facilitar la inferencia de estos, se suele trabajar con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riables Gaussianas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ependiente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2767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ólo se requiere defini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5470560"/>
            <a:ext cx="830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gramas de las Gaussiana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influyen en los variogramas simples y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cruzados de los indicadores de cada unidad geoló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3794040"/>
            <a:ext cx="85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o de truncació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“bandera”): influye en los contactos entre las unidades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geológicas y en sus jerarqu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4632480"/>
            <a:ext cx="853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mbrale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influye en las proporciones del espacio ocupadas por las distintas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unidades geológ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ODELO PLURIGAUSSIANO (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173052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Etapas de la simulación condi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228600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erir los parámetros del modelo a partir de los datos categóricos, esto es: tipo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de bandera, umbrales, variogramas de las Gaussia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3184560"/>
            <a:ext cx="8381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r los valores de las Gaussianas en los sitios de muestreo, condicionados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por los datos categó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4098960"/>
            <a:ext cx="8381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r los valores de las Gaussianas en el resto del espacio, condicionados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por sus valores en los sitios de muestreo (ej: método secuencial Gaussiano o de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bandas rotant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53182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licar las truncaciones para obtener las unidades geológicas simul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ODELO PLURIGAUSSIANO (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173052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Simulación de datos Gaussianos en los sitios de muestr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2286000"/>
            <a:ext cx="8458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existe una relación única entre los datos categóricos y los valores Gaussianos. La idea es simular valores Gaussianos en los sitios de muestreo tales que sean consistentes con la información categórica (pertenencia de las muestras a tal o cual unidad geológic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3870360"/>
            <a:ext cx="85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ello, se utiliza un método iterativo conocido como “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estreador de Gibb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(Gibbs sample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ODELO PLURIGAUSSIANO (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" y="173052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Muestreador de Gib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28600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r un estado inicial que respeta las condiciones impuestas por los datos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categóric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31240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e iterativ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3657600"/>
            <a:ext cx="8381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cionar un sitio de muestreo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4175280"/>
            <a:ext cx="838188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ar la distribución de los valores Gaussianos en este sitio condicionados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por los valores Gaussianos en {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(son distribuciones Gaussianas, de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media igual al kriging simple y varianza igual a la varianza de kriging simp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5318280"/>
            <a:ext cx="83818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r los valores Gaussianos en el sitio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ondicionalmente a los valores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categóricos en este sitio (aceptación y rechaz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6156360"/>
            <a:ext cx="8381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ualizar los valores Gaussianos en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 ite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ODELOS NO ESTACIONARIOS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173052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Curvas de proporción vertic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2286000"/>
            <a:ext cx="8458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ele suceder que una unidad geológica desaparezca para niveles profundos (ej: unidad de óxidos). En estos casos, se elabora un modelo donde las proporciones de las unidades varían según la profundidad. Se define una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va de proporción vertic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n donde las proporciones de las unidades están calculadas planta a planta. Este tipo de curva es muy usado para modelar depósitos sedimentari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81080" y="4572000"/>
            <a:ext cx="152640" cy="380880"/>
          </a:xfrm>
          <a:prstGeom prst="rect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81080" y="4952880"/>
            <a:ext cx="152640" cy="381240"/>
          </a:xfrm>
          <a:prstGeom prst="rect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81080" y="5334120"/>
            <a:ext cx="152640" cy="380880"/>
          </a:xfrm>
          <a:prstGeom prst="rect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81080" y="5715000"/>
            <a:ext cx="152640" cy="38088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81080" y="6095880"/>
            <a:ext cx="152640" cy="38124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438280" y="4572000"/>
            <a:ext cx="152640" cy="380880"/>
          </a:xfrm>
          <a:prstGeom prst="rect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438280" y="4952880"/>
            <a:ext cx="152640" cy="381240"/>
          </a:xfrm>
          <a:prstGeom prst="rect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438280" y="5334120"/>
            <a:ext cx="152640" cy="380880"/>
          </a:xfrm>
          <a:prstGeom prst="rect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280" y="5715000"/>
            <a:ext cx="152640" cy="380880"/>
          </a:xfrm>
          <a:prstGeom prst="rect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438280" y="6095880"/>
            <a:ext cx="152640" cy="381240"/>
          </a:xfrm>
          <a:prstGeom prst="rect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95480" y="4572000"/>
            <a:ext cx="152640" cy="380880"/>
          </a:xfrm>
          <a:prstGeom prst="rect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95480" y="4952880"/>
            <a:ext cx="152640" cy="381240"/>
          </a:xfrm>
          <a:prstGeom prst="rect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95480" y="5334120"/>
            <a:ext cx="152640" cy="380880"/>
          </a:xfrm>
          <a:prstGeom prst="rect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895480" y="5715000"/>
            <a:ext cx="152640" cy="380880"/>
          </a:xfrm>
          <a:prstGeom prst="rect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95480" y="6095880"/>
            <a:ext cx="152640" cy="381240"/>
          </a:xfrm>
          <a:prstGeom prst="rect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52680" y="4572000"/>
            <a:ext cx="152640" cy="380880"/>
          </a:xfrm>
          <a:prstGeom prst="rect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352680" y="4952880"/>
            <a:ext cx="152640" cy="381240"/>
          </a:xfrm>
          <a:prstGeom prst="rect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352680" y="5334120"/>
            <a:ext cx="152640" cy="380880"/>
          </a:xfrm>
          <a:prstGeom prst="rect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52680" y="5715000"/>
            <a:ext cx="152640" cy="380880"/>
          </a:xfrm>
          <a:prstGeom prst="rect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352680" y="6095880"/>
            <a:ext cx="152640" cy="38124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9880" y="4572000"/>
            <a:ext cx="152640" cy="380880"/>
          </a:xfrm>
          <a:prstGeom prst="rect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9880" y="4952880"/>
            <a:ext cx="152640" cy="381240"/>
          </a:xfrm>
          <a:prstGeom prst="rect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09880" y="5334120"/>
            <a:ext cx="152640" cy="380880"/>
          </a:xfrm>
          <a:prstGeom prst="rect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09880" y="5715000"/>
            <a:ext cx="152640" cy="38088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9880" y="6095880"/>
            <a:ext cx="152640" cy="38124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1981080" y="4572000"/>
            <a:ext cx="2514600" cy="1905120"/>
            <a:chOff x="1981080" y="4572000"/>
            <a:chExt cx="2514600" cy="1905120"/>
          </a:xfrm>
        </p:grpSpPr>
        <p:grpSp>
          <p:nvGrpSpPr>
            <p:cNvPr id="173" name=""/>
            <p:cNvGrpSpPr/>
            <p:nvPr/>
          </p:nvGrpSpPr>
          <p:grpSpPr>
            <a:xfrm>
              <a:off x="1981080" y="4572000"/>
              <a:ext cx="2514600" cy="762120"/>
              <a:chOff x="1981080" y="4572000"/>
              <a:chExt cx="2514600" cy="762120"/>
            </a:xfrm>
          </p:grpSpPr>
          <p:sp>
            <p:nvSpPr>
              <p:cNvPr id="174" name=""/>
              <p:cNvSpPr/>
              <p:nvPr/>
            </p:nvSpPr>
            <p:spPr>
              <a:xfrm>
                <a:off x="1981080" y="4572000"/>
                <a:ext cx="25146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981080" y="4953240"/>
                <a:ext cx="25146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981080" y="5334120"/>
                <a:ext cx="25146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1981080" y="5715000"/>
              <a:ext cx="2514600" cy="762120"/>
              <a:chOff x="1981080" y="5715000"/>
              <a:chExt cx="2514600" cy="762120"/>
            </a:xfrm>
          </p:grpSpPr>
          <p:sp>
            <p:nvSpPr>
              <p:cNvPr id="178" name=""/>
              <p:cNvSpPr/>
              <p:nvPr/>
            </p:nvSpPr>
            <p:spPr>
              <a:xfrm>
                <a:off x="1981080" y="5715000"/>
                <a:ext cx="25146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981080" y="6096240"/>
                <a:ext cx="25146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981080" y="6477120"/>
                <a:ext cx="25146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1" name=""/>
          <p:cNvGrpSpPr/>
          <p:nvPr/>
        </p:nvGrpSpPr>
        <p:grpSpPr>
          <a:xfrm>
            <a:off x="5486400" y="4572000"/>
            <a:ext cx="2514600" cy="1905120"/>
            <a:chOff x="5486400" y="4572000"/>
            <a:chExt cx="2514600" cy="1905120"/>
          </a:xfrm>
        </p:grpSpPr>
        <p:grpSp>
          <p:nvGrpSpPr>
            <p:cNvPr id="182" name=""/>
            <p:cNvGrpSpPr/>
            <p:nvPr/>
          </p:nvGrpSpPr>
          <p:grpSpPr>
            <a:xfrm>
              <a:off x="5486400" y="4572000"/>
              <a:ext cx="2514600" cy="762120"/>
              <a:chOff x="5486400" y="4572000"/>
              <a:chExt cx="2514600" cy="762120"/>
            </a:xfrm>
          </p:grpSpPr>
          <p:sp>
            <p:nvSpPr>
              <p:cNvPr id="183" name=""/>
              <p:cNvSpPr/>
              <p:nvPr/>
            </p:nvSpPr>
            <p:spPr>
              <a:xfrm>
                <a:off x="5486400" y="4572000"/>
                <a:ext cx="25146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486400" y="4953240"/>
                <a:ext cx="25146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486400" y="5334120"/>
                <a:ext cx="25146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5486400" y="5715000"/>
              <a:ext cx="2514600" cy="762120"/>
              <a:chOff x="5486400" y="5715000"/>
              <a:chExt cx="2514600" cy="762120"/>
            </a:xfrm>
          </p:grpSpPr>
          <p:sp>
            <p:nvSpPr>
              <p:cNvPr id="187" name=""/>
              <p:cNvSpPr/>
              <p:nvPr/>
            </p:nvSpPr>
            <p:spPr>
              <a:xfrm>
                <a:off x="5486400" y="5715000"/>
                <a:ext cx="25146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486400" y="6096240"/>
                <a:ext cx="25146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486400" y="6477120"/>
                <a:ext cx="25146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0" name=""/>
          <p:cNvGrpSpPr/>
          <p:nvPr/>
        </p:nvGrpSpPr>
        <p:grpSpPr>
          <a:xfrm>
            <a:off x="5486400" y="6095880"/>
            <a:ext cx="1904760" cy="380880"/>
            <a:chOff x="5486400" y="6095880"/>
            <a:chExt cx="1904760" cy="380880"/>
          </a:xfrm>
        </p:grpSpPr>
        <p:sp>
          <p:nvSpPr>
            <p:cNvPr id="191" name=""/>
            <p:cNvSpPr/>
            <p:nvPr/>
          </p:nvSpPr>
          <p:spPr>
            <a:xfrm>
              <a:off x="5486400" y="6095880"/>
              <a:ext cx="380880" cy="380880"/>
            </a:xfrm>
            <a:prstGeom prst="rect">
              <a:avLst/>
            </a:prstGeom>
            <a:solidFill>
              <a:srgbClr val="ff66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867280" y="6095880"/>
              <a:ext cx="380880" cy="380880"/>
            </a:xfrm>
            <a:prstGeom prst="rect">
              <a:avLst/>
            </a:prstGeom>
            <a:solidFill>
              <a:srgbClr val="ff66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48160" y="6095880"/>
              <a:ext cx="381240" cy="380880"/>
            </a:xfrm>
            <a:prstGeom prst="rect">
              <a:avLst/>
            </a:prstGeom>
            <a:solidFill>
              <a:srgbClr val="ff66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629400" y="6095880"/>
              <a:ext cx="380880" cy="380880"/>
            </a:xfrm>
            <a:prstGeom prst="rect">
              <a:avLst/>
            </a:prstGeom>
            <a:solidFill>
              <a:srgbClr val="ff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010280" y="6095880"/>
              <a:ext cx="380880" cy="380880"/>
            </a:xfrm>
            <a:prstGeom prst="rect">
              <a:avLst/>
            </a:prstGeom>
            <a:solidFill>
              <a:srgbClr val="ff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5486400" y="5715000"/>
            <a:ext cx="1904760" cy="380880"/>
            <a:chOff x="5486400" y="5715000"/>
            <a:chExt cx="1904760" cy="380880"/>
          </a:xfrm>
        </p:grpSpPr>
        <p:sp>
          <p:nvSpPr>
            <p:cNvPr id="197" name=""/>
            <p:cNvSpPr/>
            <p:nvPr/>
          </p:nvSpPr>
          <p:spPr>
            <a:xfrm>
              <a:off x="5486400" y="5715000"/>
              <a:ext cx="380880" cy="380880"/>
            </a:xfrm>
            <a:prstGeom prst="rect">
              <a:avLst/>
            </a:prstGeom>
            <a:solidFill>
              <a:srgbClr val="ff66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867280" y="5715000"/>
              <a:ext cx="380880" cy="380880"/>
            </a:xfrm>
            <a:prstGeom prst="rect">
              <a:avLst/>
            </a:prstGeom>
            <a:solidFill>
              <a:srgbClr val="ff66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248160" y="5715000"/>
              <a:ext cx="381240" cy="380880"/>
            </a:xfrm>
            <a:prstGeom prst="rect">
              <a:avLst/>
            </a:prstGeom>
            <a:solidFill>
              <a:srgbClr val="ff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629400" y="5715000"/>
              <a:ext cx="380880" cy="380880"/>
            </a:xfrm>
            <a:prstGeom prst="rect">
              <a:avLst/>
            </a:prstGeom>
            <a:solidFill>
              <a:srgbClr val="ff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010280" y="5715000"/>
              <a:ext cx="380880" cy="380880"/>
            </a:xfrm>
            <a:prstGeom prst="rect">
              <a:avLst/>
            </a:prstGeom>
            <a:solidFill>
              <a:srgbClr val="ff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5486400" y="4952880"/>
            <a:ext cx="1904760" cy="380880"/>
            <a:chOff x="5486400" y="4952880"/>
            <a:chExt cx="1904760" cy="380880"/>
          </a:xfrm>
        </p:grpSpPr>
        <p:sp>
          <p:nvSpPr>
            <p:cNvPr id="203" name=""/>
            <p:cNvSpPr/>
            <p:nvPr/>
          </p:nvSpPr>
          <p:spPr>
            <a:xfrm>
              <a:off x="5486400" y="4952880"/>
              <a:ext cx="380880" cy="380880"/>
            </a:xfrm>
            <a:prstGeom prst="rect">
              <a:avLst/>
            </a:prstGeom>
            <a:solidFill>
              <a:srgbClr val="ffff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867280" y="4952880"/>
              <a:ext cx="380880" cy="380880"/>
            </a:xfrm>
            <a:prstGeom prst="rect">
              <a:avLst/>
            </a:prstGeom>
            <a:solidFill>
              <a:srgbClr val="00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248160" y="4952880"/>
              <a:ext cx="381240" cy="380880"/>
            </a:xfrm>
            <a:prstGeom prst="rect">
              <a:avLst/>
            </a:prstGeom>
            <a:solidFill>
              <a:srgbClr val="00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629400" y="4952880"/>
              <a:ext cx="380880" cy="380880"/>
            </a:xfrm>
            <a:prstGeom prst="rect">
              <a:avLst/>
            </a:prstGeom>
            <a:solidFill>
              <a:srgbClr val="00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010280" y="4952880"/>
              <a:ext cx="380880" cy="380880"/>
            </a:xfrm>
            <a:prstGeom prst="rect">
              <a:avLst/>
            </a:prstGeom>
            <a:solidFill>
              <a:srgbClr val="00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5486400" y="4572000"/>
            <a:ext cx="1904760" cy="380880"/>
            <a:chOff x="5486400" y="4572000"/>
            <a:chExt cx="1904760" cy="380880"/>
          </a:xfrm>
        </p:grpSpPr>
        <p:sp>
          <p:nvSpPr>
            <p:cNvPr id="209" name=""/>
            <p:cNvSpPr/>
            <p:nvPr/>
          </p:nvSpPr>
          <p:spPr>
            <a:xfrm>
              <a:off x="5486400" y="4572000"/>
              <a:ext cx="380880" cy="380880"/>
            </a:xfrm>
            <a:prstGeom prst="rect">
              <a:avLst/>
            </a:prstGeom>
            <a:solidFill>
              <a:srgbClr val="00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867280" y="4572000"/>
              <a:ext cx="380880" cy="380880"/>
            </a:xfrm>
            <a:prstGeom prst="rect">
              <a:avLst/>
            </a:prstGeom>
            <a:solidFill>
              <a:srgbClr val="00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48160" y="4572000"/>
              <a:ext cx="381240" cy="380880"/>
            </a:xfrm>
            <a:prstGeom prst="rect">
              <a:avLst/>
            </a:prstGeom>
            <a:solidFill>
              <a:srgbClr val="00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29400" y="4572000"/>
              <a:ext cx="380880" cy="380880"/>
            </a:xfrm>
            <a:prstGeom prst="rect">
              <a:avLst/>
            </a:prstGeom>
            <a:solidFill>
              <a:srgbClr val="00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010280" y="4572000"/>
              <a:ext cx="380880" cy="380880"/>
            </a:xfrm>
            <a:prstGeom prst="rect">
              <a:avLst/>
            </a:prstGeom>
            <a:solidFill>
              <a:srgbClr val="00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5486400" y="5334120"/>
            <a:ext cx="1904760" cy="380880"/>
            <a:chOff x="5486400" y="5334120"/>
            <a:chExt cx="1904760" cy="380880"/>
          </a:xfrm>
        </p:grpSpPr>
        <p:sp>
          <p:nvSpPr>
            <p:cNvPr id="215" name=""/>
            <p:cNvSpPr/>
            <p:nvPr/>
          </p:nvSpPr>
          <p:spPr>
            <a:xfrm>
              <a:off x="5486400" y="5334120"/>
              <a:ext cx="380880" cy="380880"/>
            </a:xfrm>
            <a:prstGeom prst="rect">
              <a:avLst/>
            </a:prstGeom>
            <a:solidFill>
              <a:srgbClr val="ffff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867280" y="5334120"/>
              <a:ext cx="380880" cy="380880"/>
            </a:xfrm>
            <a:prstGeom prst="rect">
              <a:avLst/>
            </a:prstGeom>
            <a:solidFill>
              <a:srgbClr val="ffff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248160" y="5334120"/>
              <a:ext cx="381240" cy="380880"/>
            </a:xfrm>
            <a:prstGeom prst="rect">
              <a:avLst/>
            </a:prstGeom>
            <a:solidFill>
              <a:srgbClr val="ff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629400" y="5334120"/>
              <a:ext cx="380880" cy="380880"/>
            </a:xfrm>
            <a:prstGeom prst="rect">
              <a:avLst/>
            </a:prstGeom>
            <a:solidFill>
              <a:srgbClr val="ff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10280" y="5334120"/>
              <a:ext cx="380880" cy="380880"/>
            </a:xfrm>
            <a:prstGeom prst="rect">
              <a:avLst/>
            </a:prstGeom>
            <a:solidFill>
              <a:srgbClr val="00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5336280" y="651996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088760" y="649620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0" y="409896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sondaj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638680" y="411480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r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7360" y="4997520"/>
            <a:ext cx="136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profund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4300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PROBLEM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Á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730520"/>
            <a:ext cx="807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busca simular la extensión espacial de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dades geológica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as cuales se pueden codificar mediante una variable categór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272736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tenece a la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ésima unidad geoló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3352680"/>
            <a:ext cx="8001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general, la definición de modelos de funciones aleatorias categóricas y su posterior simulación constituyen un tema complejo (conectividad espacial de las unidades, contactos con otras unidades, regularidad de las fronteras, etc.). La simulación plurigaussiana logra conciliar varios aspec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48006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icidad de us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533412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ilidad: permite definir y jerarquizar los contactos entre las unidades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geológic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608004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encia matemá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ODELOS NO ESTACIONARIO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4920" y="173052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Regionalización de las proporciones de las unidades geológ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920" y="2193840"/>
            <a:ext cx="861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modelo aun más complejo consiste en definir proporciones que varían también en el plano horizontal. En este caso, las proporciones se calculan localmente en las zonas muestreadas y se interpolan / extrapolan en todo el espacio mediante kriging o inverso de la distan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3835440"/>
            <a:ext cx="11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profund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685800" y="3124080"/>
            <a:ext cx="8153280" cy="3657600"/>
            <a:chOff x="685800" y="3124080"/>
            <a:chExt cx="8153280" cy="3657600"/>
          </a:xfrm>
        </p:grpSpPr>
        <p:pic>
          <p:nvPicPr>
            <p:cNvPr id="231" name="" descr=""/>
            <p:cNvPicPr/>
            <p:nvPr/>
          </p:nvPicPr>
          <p:blipFill>
            <a:blip r:embed="rId1"/>
            <a:stretch/>
          </p:blipFill>
          <p:spPr>
            <a:xfrm>
              <a:off x="3809880" y="3692520"/>
              <a:ext cx="228600" cy="17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8384760" y="50292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737560" y="4876920"/>
              <a:ext cx="101520" cy="685800"/>
            </a:xfrm>
            <a:prstGeom prst="upArrow">
              <a:avLst>
                <a:gd name="adj1" fmla="val 50000"/>
                <a:gd name="adj2" fmla="val 168883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4" name="" descr=""/>
            <p:cNvPicPr/>
            <p:nvPr/>
          </p:nvPicPr>
          <p:blipFill>
            <a:blip r:embed="rId2"/>
            <a:stretch/>
          </p:blipFill>
          <p:spPr>
            <a:xfrm>
              <a:off x="2036880" y="4162320"/>
              <a:ext cx="1544400" cy="209736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pic>
          <p:nvPicPr>
            <p:cNvPr id="235" name="" descr=""/>
            <p:cNvPicPr/>
            <p:nvPr/>
          </p:nvPicPr>
          <p:blipFill>
            <a:blip r:embed="rId3"/>
            <a:stretch/>
          </p:blipFill>
          <p:spPr>
            <a:xfrm>
              <a:off x="1457280" y="5110200"/>
              <a:ext cx="1011240" cy="97956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pic>
          <p:nvPicPr>
            <p:cNvPr id="236" name="" descr=""/>
            <p:cNvPicPr/>
            <p:nvPr/>
          </p:nvPicPr>
          <p:blipFill>
            <a:blip r:embed="rId4"/>
            <a:stretch/>
          </p:blipFill>
          <p:spPr>
            <a:xfrm>
              <a:off x="3581280" y="5807160"/>
              <a:ext cx="1011240" cy="97452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pic>
          <p:nvPicPr>
            <p:cNvPr id="237" name="" descr=""/>
            <p:cNvPicPr/>
            <p:nvPr/>
          </p:nvPicPr>
          <p:blipFill>
            <a:blip r:embed="rId5"/>
            <a:stretch/>
          </p:blipFill>
          <p:spPr>
            <a:xfrm>
              <a:off x="1249200" y="3692520"/>
              <a:ext cx="1011240" cy="97632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238" name=""/>
            <p:cNvSpPr/>
            <p:nvPr/>
          </p:nvSpPr>
          <p:spPr>
            <a:xfrm>
              <a:off x="2036880" y="4299120"/>
              <a:ext cx="431640" cy="206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 flipV="1">
              <a:off x="3352680" y="5824800"/>
              <a:ext cx="355320" cy="321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2282760" y="5444280"/>
              <a:ext cx="570240" cy="100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85800" y="4116240"/>
              <a:ext cx="0" cy="30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552760" y="6451560"/>
              <a:ext cx="757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</a:rPr>
                <a:t>100 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689200" y="6434280"/>
              <a:ext cx="30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962520" y="3657600"/>
              <a:ext cx="190476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hale flood pl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r. sand Chann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and chann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hardgrou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r. sand lago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udstone lago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andstone washo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arine mudst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5" name="" descr=""/>
            <p:cNvPicPr/>
            <p:nvPr/>
          </p:nvPicPr>
          <p:blipFill>
            <a:blip r:embed="rId6"/>
            <a:stretch/>
          </p:blipFill>
          <p:spPr>
            <a:xfrm>
              <a:off x="5622840" y="3692520"/>
              <a:ext cx="2530440" cy="298764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246" name=""/>
            <p:cNvSpPr/>
            <p:nvPr/>
          </p:nvSpPr>
          <p:spPr>
            <a:xfrm flipH="1" rot="5400000">
              <a:off x="6920640" y="3213000"/>
              <a:ext cx="101520" cy="685800"/>
            </a:xfrm>
            <a:prstGeom prst="upArrow">
              <a:avLst>
                <a:gd name="adj1" fmla="val 50000"/>
                <a:gd name="adj2" fmla="val 168883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707160" y="31240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ODELOS NO ESTACIONARIOS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04920" y="173052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Análisis variográf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04920" y="2286000"/>
            <a:ext cx="85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supone que las funciones aleatorias Gaussianas son estacionarias, es decir, que sus variogramas sólo dependen de la separación entre da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4920" y="3260880"/>
            <a:ext cx="853416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hora, al hacer variar las proporciones de cada unidad geológica en el espacio, la truncación no es la misma en todo el espacio y los variogramas de los indicadores de estas unidades ya no son estacionarios... Para el análisis variográfico, se trabaja con variogramas “promedio”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ejemplo, si la truncación varía sólo en la dirección vertical, se puede calcular los variogramas de indicadores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n cada planta (puesto que son estacionarios en el plano horizontal)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uego se promedian todos estos variogramas horizont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ODELOS NO ESTACIONARIOS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4920" y="173052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Unidades estratigráf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4920" y="2286000"/>
            <a:ext cx="8458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estudio también puede llevarse a cabo en unidades estratigráficas homogéneas (ej: unidades sedimentarias, unidades definidas por techo, piso o por superficies características). Cada unidad estratigráfica se analiza y se simula por separado. En general, el análisis se acompaña de un cambio del sistema referenci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ODELOS NO ESTACIONARIOS 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0880" y="1432080"/>
            <a:ext cx="696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uperficies de correlac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n paralelas a una superficie de ref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0880" y="4343400"/>
            <a:ext cx="46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istema de correlac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nes propor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76320" y="2076480"/>
            <a:ext cx="8124840" cy="1620720"/>
            <a:chOff x="76320" y="2076480"/>
            <a:chExt cx="8124840" cy="1620720"/>
          </a:xfrm>
        </p:grpSpPr>
        <p:sp>
          <p:nvSpPr>
            <p:cNvPr id="259" name=""/>
            <p:cNvSpPr/>
            <p:nvPr/>
          </p:nvSpPr>
          <p:spPr>
            <a:xfrm>
              <a:off x="6168960" y="2585880"/>
              <a:ext cx="2032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138400" y="3483000"/>
              <a:ext cx="128520" cy="1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465280" y="3568680"/>
              <a:ext cx="65160" cy="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547640" y="2541600"/>
              <a:ext cx="2032200" cy="257040"/>
            </a:xfrm>
            <a:custGeom>
              <a:avLst/>
              <a:gdLst/>
              <a:ahLst/>
              <a:rect l="l" t="t" r="r" b="b"/>
              <a:pathLst>
                <a:path w="1488" h="288">
                  <a:moveTo>
                    <a:pt x="0" y="0"/>
                  </a:moveTo>
                  <a:cubicBezTo>
                    <a:pt x="13" y="2"/>
                    <a:pt x="50" y="12"/>
                    <a:pt x="78" y="14"/>
                  </a:cubicBezTo>
                  <a:cubicBezTo>
                    <a:pt x="106" y="16"/>
                    <a:pt x="140" y="8"/>
                    <a:pt x="167" y="14"/>
                  </a:cubicBezTo>
                  <a:cubicBezTo>
                    <a:pt x="194" y="20"/>
                    <a:pt x="210" y="38"/>
                    <a:pt x="240" y="48"/>
                  </a:cubicBezTo>
                  <a:cubicBezTo>
                    <a:pt x="270" y="58"/>
                    <a:pt x="318" y="53"/>
                    <a:pt x="350" y="77"/>
                  </a:cubicBezTo>
                  <a:cubicBezTo>
                    <a:pt x="382" y="101"/>
                    <a:pt x="410" y="181"/>
                    <a:pt x="432" y="192"/>
                  </a:cubicBezTo>
                  <a:cubicBezTo>
                    <a:pt x="454" y="203"/>
                    <a:pt x="465" y="142"/>
                    <a:pt x="480" y="144"/>
                  </a:cubicBezTo>
                  <a:cubicBezTo>
                    <a:pt x="495" y="146"/>
                    <a:pt x="500" y="191"/>
                    <a:pt x="520" y="203"/>
                  </a:cubicBezTo>
                  <a:cubicBezTo>
                    <a:pt x="540" y="215"/>
                    <a:pt x="578" y="212"/>
                    <a:pt x="603" y="216"/>
                  </a:cubicBezTo>
                  <a:cubicBezTo>
                    <a:pt x="628" y="220"/>
                    <a:pt x="647" y="228"/>
                    <a:pt x="672" y="229"/>
                  </a:cubicBezTo>
                  <a:cubicBezTo>
                    <a:pt x="697" y="230"/>
                    <a:pt x="730" y="228"/>
                    <a:pt x="754" y="222"/>
                  </a:cubicBezTo>
                  <a:cubicBezTo>
                    <a:pt x="778" y="216"/>
                    <a:pt x="798" y="197"/>
                    <a:pt x="816" y="192"/>
                  </a:cubicBezTo>
                  <a:cubicBezTo>
                    <a:pt x="834" y="187"/>
                    <a:pt x="840" y="200"/>
                    <a:pt x="864" y="192"/>
                  </a:cubicBezTo>
                  <a:cubicBezTo>
                    <a:pt x="888" y="184"/>
                    <a:pt x="930" y="153"/>
                    <a:pt x="960" y="144"/>
                  </a:cubicBezTo>
                  <a:cubicBezTo>
                    <a:pt x="990" y="135"/>
                    <a:pt x="1018" y="141"/>
                    <a:pt x="1045" y="140"/>
                  </a:cubicBezTo>
                  <a:cubicBezTo>
                    <a:pt x="1072" y="139"/>
                    <a:pt x="1094" y="139"/>
                    <a:pt x="1120" y="140"/>
                  </a:cubicBezTo>
                  <a:cubicBezTo>
                    <a:pt x="1146" y="141"/>
                    <a:pt x="1171" y="143"/>
                    <a:pt x="1200" y="144"/>
                  </a:cubicBezTo>
                  <a:cubicBezTo>
                    <a:pt x="1229" y="145"/>
                    <a:pt x="1272" y="144"/>
                    <a:pt x="1296" y="144"/>
                  </a:cubicBezTo>
                  <a:cubicBezTo>
                    <a:pt x="1320" y="144"/>
                    <a:pt x="1320" y="128"/>
                    <a:pt x="1344" y="144"/>
                  </a:cubicBezTo>
                  <a:cubicBezTo>
                    <a:pt x="1368" y="160"/>
                    <a:pt x="1416" y="216"/>
                    <a:pt x="1440" y="240"/>
                  </a:cubicBezTo>
                  <a:cubicBezTo>
                    <a:pt x="1464" y="264"/>
                    <a:pt x="1480" y="280"/>
                    <a:pt x="1488" y="288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547640" y="3479760"/>
              <a:ext cx="1967040" cy="182520"/>
            </a:xfrm>
            <a:custGeom>
              <a:avLst/>
              <a:gdLst/>
              <a:ahLst/>
              <a:rect l="l" t="t" r="r" b="b"/>
              <a:pathLst>
                <a:path w="1440" h="205">
                  <a:moveTo>
                    <a:pt x="0" y="196"/>
                  </a:moveTo>
                  <a:cubicBezTo>
                    <a:pt x="20" y="197"/>
                    <a:pt x="91" y="200"/>
                    <a:pt x="123" y="200"/>
                  </a:cubicBezTo>
                  <a:cubicBezTo>
                    <a:pt x="155" y="200"/>
                    <a:pt x="172" y="205"/>
                    <a:pt x="192" y="196"/>
                  </a:cubicBezTo>
                  <a:cubicBezTo>
                    <a:pt x="212" y="187"/>
                    <a:pt x="227" y="159"/>
                    <a:pt x="243" y="143"/>
                  </a:cubicBezTo>
                  <a:cubicBezTo>
                    <a:pt x="259" y="127"/>
                    <a:pt x="273" y="99"/>
                    <a:pt x="288" y="100"/>
                  </a:cubicBezTo>
                  <a:cubicBezTo>
                    <a:pt x="303" y="101"/>
                    <a:pt x="320" y="140"/>
                    <a:pt x="336" y="148"/>
                  </a:cubicBezTo>
                  <a:cubicBezTo>
                    <a:pt x="352" y="156"/>
                    <a:pt x="368" y="156"/>
                    <a:pt x="384" y="148"/>
                  </a:cubicBezTo>
                  <a:cubicBezTo>
                    <a:pt x="400" y="140"/>
                    <a:pt x="408" y="116"/>
                    <a:pt x="432" y="100"/>
                  </a:cubicBezTo>
                  <a:cubicBezTo>
                    <a:pt x="456" y="84"/>
                    <a:pt x="504" y="68"/>
                    <a:pt x="528" y="52"/>
                  </a:cubicBezTo>
                  <a:cubicBezTo>
                    <a:pt x="552" y="36"/>
                    <a:pt x="546" y="8"/>
                    <a:pt x="576" y="4"/>
                  </a:cubicBezTo>
                  <a:cubicBezTo>
                    <a:pt x="606" y="0"/>
                    <a:pt x="670" y="29"/>
                    <a:pt x="710" y="29"/>
                  </a:cubicBezTo>
                  <a:cubicBezTo>
                    <a:pt x="750" y="29"/>
                    <a:pt x="790" y="0"/>
                    <a:pt x="816" y="4"/>
                  </a:cubicBezTo>
                  <a:cubicBezTo>
                    <a:pt x="842" y="8"/>
                    <a:pt x="840" y="36"/>
                    <a:pt x="864" y="52"/>
                  </a:cubicBezTo>
                  <a:cubicBezTo>
                    <a:pt x="888" y="68"/>
                    <a:pt x="928" y="92"/>
                    <a:pt x="960" y="100"/>
                  </a:cubicBezTo>
                  <a:cubicBezTo>
                    <a:pt x="992" y="108"/>
                    <a:pt x="1027" y="98"/>
                    <a:pt x="1056" y="100"/>
                  </a:cubicBezTo>
                  <a:cubicBezTo>
                    <a:pt x="1085" y="102"/>
                    <a:pt x="1109" y="111"/>
                    <a:pt x="1133" y="111"/>
                  </a:cubicBezTo>
                  <a:cubicBezTo>
                    <a:pt x="1157" y="111"/>
                    <a:pt x="1173" y="102"/>
                    <a:pt x="1200" y="100"/>
                  </a:cubicBezTo>
                  <a:cubicBezTo>
                    <a:pt x="1227" y="98"/>
                    <a:pt x="1272" y="108"/>
                    <a:pt x="1296" y="100"/>
                  </a:cubicBezTo>
                  <a:cubicBezTo>
                    <a:pt x="1320" y="92"/>
                    <a:pt x="1320" y="60"/>
                    <a:pt x="1344" y="52"/>
                  </a:cubicBezTo>
                  <a:cubicBezTo>
                    <a:pt x="1368" y="44"/>
                    <a:pt x="1404" y="48"/>
                    <a:pt x="1440" y="52"/>
                  </a:cubicBezTo>
                </a:path>
              </a:pathLst>
            </a:custGeom>
            <a:noFill/>
            <a:ln w="2844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1547640" y="2585880"/>
              <a:ext cx="392400" cy="1068480"/>
              <a:chOff x="1547640" y="2585880"/>
              <a:chExt cx="392400" cy="1068480"/>
            </a:xfrm>
          </p:grpSpPr>
          <p:sp>
            <p:nvSpPr>
              <p:cNvPr id="265" name=""/>
              <p:cNvSpPr/>
              <p:nvPr/>
            </p:nvSpPr>
            <p:spPr>
              <a:xfrm>
                <a:off x="1678320" y="2585880"/>
                <a:ext cx="0" cy="10684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47640" y="2585880"/>
                <a:ext cx="261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547640" y="3654360"/>
                <a:ext cx="261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678320" y="3098880"/>
                <a:ext cx="261720" cy="170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678320" y="2585880"/>
                <a:ext cx="65160" cy="17064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678320" y="2756520"/>
                <a:ext cx="261720" cy="12816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678320" y="2884680"/>
                <a:ext cx="130680" cy="12816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678320" y="3013200"/>
                <a:ext cx="196200" cy="8532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678320" y="3269520"/>
                <a:ext cx="130680" cy="12816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678320" y="3397680"/>
                <a:ext cx="65160" cy="17100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678320" y="3569040"/>
                <a:ext cx="130680" cy="8532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2266920" y="2754720"/>
              <a:ext cx="394920" cy="728280"/>
              <a:chOff x="2266920" y="2754720"/>
              <a:chExt cx="394920" cy="728280"/>
            </a:xfrm>
          </p:grpSpPr>
          <p:sp>
            <p:nvSpPr>
              <p:cNvPr id="277" name=""/>
              <p:cNvSpPr/>
              <p:nvPr/>
            </p:nvSpPr>
            <p:spPr>
              <a:xfrm>
                <a:off x="2398680" y="2755800"/>
                <a:ext cx="0" cy="7272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66920" y="2755800"/>
                <a:ext cx="2635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266920" y="3483000"/>
                <a:ext cx="2635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398680" y="3226320"/>
                <a:ext cx="263160" cy="170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5359200">
                <a:off x="2411280" y="2742480"/>
                <a:ext cx="171000" cy="19764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398680" y="2926800"/>
                <a:ext cx="65520" cy="12816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398680" y="3140640"/>
                <a:ext cx="197640" cy="8568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398680" y="3054960"/>
                <a:ext cx="131400" cy="8532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398680" y="3440160"/>
                <a:ext cx="65520" cy="4284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398680" y="3354480"/>
                <a:ext cx="131400" cy="8532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2989440" y="2670120"/>
              <a:ext cx="393480" cy="898560"/>
              <a:chOff x="2989440" y="2670120"/>
              <a:chExt cx="393480" cy="898560"/>
            </a:xfrm>
          </p:grpSpPr>
          <p:sp>
            <p:nvSpPr>
              <p:cNvPr id="288" name=""/>
              <p:cNvSpPr/>
              <p:nvPr/>
            </p:nvSpPr>
            <p:spPr>
              <a:xfrm>
                <a:off x="2989440" y="2670120"/>
                <a:ext cx="2624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9" name=""/>
              <p:cNvGrpSpPr/>
              <p:nvPr/>
            </p:nvGrpSpPr>
            <p:grpSpPr>
              <a:xfrm>
                <a:off x="2989440" y="2670120"/>
                <a:ext cx="393480" cy="898560"/>
                <a:chOff x="2989440" y="2670120"/>
                <a:chExt cx="393480" cy="89856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3120480" y="2670120"/>
                  <a:ext cx="0" cy="89856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2989440" y="3568680"/>
                  <a:ext cx="26244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3120480" y="3183480"/>
                  <a:ext cx="262440" cy="171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3120480" y="2670120"/>
                  <a:ext cx="131040" cy="128160"/>
                </a:xfrm>
                <a:prstGeom prst="rect">
                  <a:avLst/>
                </a:prstGeom>
                <a:noFill/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3120480" y="2926800"/>
                  <a:ext cx="131040" cy="128160"/>
                </a:xfrm>
                <a:prstGeom prst="rect">
                  <a:avLst/>
                </a:prstGeom>
                <a:noFill/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3120480" y="3054960"/>
                  <a:ext cx="131040" cy="128160"/>
                </a:xfrm>
                <a:prstGeom prst="rect">
                  <a:avLst/>
                </a:prstGeom>
                <a:noFill/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3120480" y="2798280"/>
                  <a:ext cx="65520" cy="128160"/>
                </a:xfrm>
                <a:prstGeom prst="rect">
                  <a:avLst/>
                </a:prstGeom>
                <a:noFill/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3120480" y="3354840"/>
                  <a:ext cx="65520" cy="128160"/>
                </a:xfrm>
                <a:prstGeom prst="rect">
                  <a:avLst/>
                </a:prstGeom>
                <a:noFill/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8" name=""/>
            <p:cNvSpPr/>
            <p:nvPr/>
          </p:nvSpPr>
          <p:spPr>
            <a:xfrm>
              <a:off x="3121200" y="3483000"/>
              <a:ext cx="196560" cy="856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9" name=""/>
            <p:cNvGrpSpPr/>
            <p:nvPr/>
          </p:nvGrpSpPr>
          <p:grpSpPr>
            <a:xfrm>
              <a:off x="6234120" y="2585880"/>
              <a:ext cx="393480" cy="1068480"/>
              <a:chOff x="6234120" y="2585880"/>
              <a:chExt cx="393480" cy="1068480"/>
            </a:xfrm>
          </p:grpSpPr>
          <p:sp>
            <p:nvSpPr>
              <p:cNvPr id="300" name=""/>
              <p:cNvSpPr/>
              <p:nvPr/>
            </p:nvSpPr>
            <p:spPr>
              <a:xfrm>
                <a:off x="6365160" y="2585880"/>
                <a:ext cx="0" cy="10684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234120" y="2585880"/>
                <a:ext cx="2624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234120" y="3654360"/>
                <a:ext cx="2624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365160" y="3098880"/>
                <a:ext cx="262440" cy="170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365160" y="2585880"/>
                <a:ext cx="65520" cy="17064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365160" y="2756520"/>
                <a:ext cx="262440" cy="12816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365160" y="2884680"/>
                <a:ext cx="131400" cy="12816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365160" y="3013200"/>
                <a:ext cx="196920" cy="8532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365160" y="3269520"/>
                <a:ext cx="131400" cy="12816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365160" y="3397680"/>
                <a:ext cx="65520" cy="17100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365160" y="3569040"/>
                <a:ext cx="131400" cy="8532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7086600" y="2585880"/>
              <a:ext cx="0" cy="768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954840" y="2585880"/>
              <a:ext cx="263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954840" y="3354480"/>
              <a:ext cx="263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086600" y="3098880"/>
              <a:ext cx="262080" cy="171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5359200">
              <a:off x="7099560" y="2572200"/>
              <a:ext cx="169920" cy="1969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86600" y="2755800"/>
              <a:ext cx="65160" cy="1717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86600" y="3013200"/>
              <a:ext cx="196920" cy="856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086600" y="2927520"/>
              <a:ext cx="131760" cy="856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086600" y="3313080"/>
              <a:ext cx="65160" cy="414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086600" y="3227400"/>
              <a:ext cx="131760" cy="856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7677000" y="2585880"/>
              <a:ext cx="392400" cy="897120"/>
              <a:chOff x="7677000" y="2585880"/>
              <a:chExt cx="392400" cy="897120"/>
            </a:xfrm>
          </p:grpSpPr>
          <p:sp>
            <p:nvSpPr>
              <p:cNvPr id="322" name=""/>
              <p:cNvSpPr/>
              <p:nvPr/>
            </p:nvSpPr>
            <p:spPr>
              <a:xfrm>
                <a:off x="7677000" y="2585880"/>
                <a:ext cx="261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3" name=""/>
              <p:cNvGrpSpPr/>
              <p:nvPr/>
            </p:nvGrpSpPr>
            <p:grpSpPr>
              <a:xfrm>
                <a:off x="7677000" y="2585880"/>
                <a:ext cx="392400" cy="897120"/>
                <a:chOff x="7677000" y="2585880"/>
                <a:chExt cx="392400" cy="89712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7807680" y="2585880"/>
                  <a:ext cx="0" cy="8971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7677000" y="3483000"/>
                  <a:ext cx="26172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7807680" y="3098520"/>
                  <a:ext cx="261720" cy="170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7807680" y="2585880"/>
                  <a:ext cx="130680" cy="128160"/>
                </a:xfrm>
                <a:prstGeom prst="rect">
                  <a:avLst/>
                </a:prstGeom>
                <a:noFill/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7807680" y="2842200"/>
                  <a:ext cx="130680" cy="128160"/>
                </a:xfrm>
                <a:prstGeom prst="rect">
                  <a:avLst/>
                </a:prstGeom>
                <a:noFill/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7807680" y="2970360"/>
                  <a:ext cx="130680" cy="128160"/>
                </a:xfrm>
                <a:prstGeom prst="rect">
                  <a:avLst/>
                </a:prstGeom>
                <a:noFill/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7807680" y="2714040"/>
                  <a:ext cx="65160" cy="128160"/>
                </a:xfrm>
                <a:prstGeom prst="rect">
                  <a:avLst/>
                </a:prstGeom>
                <a:noFill/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7807680" y="3269520"/>
                  <a:ext cx="65160" cy="128160"/>
                </a:xfrm>
                <a:prstGeom prst="rect">
                  <a:avLst/>
                </a:prstGeom>
                <a:noFill/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2" name=""/>
            <p:cNvSpPr/>
            <p:nvPr/>
          </p:nvSpPr>
          <p:spPr>
            <a:xfrm>
              <a:off x="7807320" y="3398760"/>
              <a:ext cx="196920" cy="8424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890280" y="3654360"/>
              <a:ext cx="5252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890280" y="2585880"/>
              <a:ext cx="5252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6320" y="274320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Times New Roman"/>
                </a:rPr>
                <a:t>espesor m</a:t>
              </a:r>
              <a:r>
                <a:rPr b="1" lang="es-C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á</a:t>
              </a:r>
              <a:r>
                <a:rPr b="1" lang="es-CL" sz="1800" spc="-1" strike="noStrike">
                  <a:solidFill>
                    <a:srgbClr val="000000"/>
                  </a:solidFill>
                  <a:latin typeface="Times New Roman"/>
                </a:rPr>
                <a:t>xim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1219320" y="2590560"/>
              <a:ext cx="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5578200" y="3654360"/>
              <a:ext cx="5238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5578200" y="2585880"/>
              <a:ext cx="5238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9" name=""/>
            <p:cNvGrpSpPr/>
            <p:nvPr/>
          </p:nvGrpSpPr>
          <p:grpSpPr>
            <a:xfrm>
              <a:off x="1547640" y="2243160"/>
              <a:ext cx="260640" cy="255600"/>
              <a:chOff x="1547640" y="2243160"/>
              <a:chExt cx="260640" cy="255600"/>
            </a:xfrm>
          </p:grpSpPr>
          <p:sp>
            <p:nvSpPr>
              <p:cNvPr id="340" name=""/>
              <p:cNvSpPr/>
              <p:nvPr/>
            </p:nvSpPr>
            <p:spPr>
              <a:xfrm>
                <a:off x="1547640" y="2243160"/>
                <a:ext cx="260640" cy="25560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1" name=""/>
              <p:cNvGrpSpPr/>
              <p:nvPr/>
            </p:nvGrpSpPr>
            <p:grpSpPr>
              <a:xfrm>
                <a:off x="1547640" y="2370960"/>
                <a:ext cx="260280" cy="127800"/>
                <a:chOff x="1547640" y="2370960"/>
                <a:chExt cx="260280" cy="12780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1612800" y="2370960"/>
                  <a:ext cx="195120" cy="127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 flipH="1">
                  <a:off x="1547640" y="2370960"/>
                  <a:ext cx="195120" cy="127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1612800" y="2370960"/>
                  <a:ext cx="129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5" name=""/>
            <p:cNvGrpSpPr/>
            <p:nvPr/>
          </p:nvGrpSpPr>
          <p:grpSpPr>
            <a:xfrm>
              <a:off x="2266920" y="2371680"/>
              <a:ext cx="263520" cy="255600"/>
              <a:chOff x="2266920" y="2371680"/>
              <a:chExt cx="263520" cy="255600"/>
            </a:xfrm>
          </p:grpSpPr>
          <p:sp>
            <p:nvSpPr>
              <p:cNvPr id="346" name=""/>
              <p:cNvSpPr/>
              <p:nvPr/>
            </p:nvSpPr>
            <p:spPr>
              <a:xfrm>
                <a:off x="2266920" y="2371680"/>
                <a:ext cx="263520" cy="25560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7" name=""/>
              <p:cNvGrpSpPr/>
              <p:nvPr/>
            </p:nvGrpSpPr>
            <p:grpSpPr>
              <a:xfrm>
                <a:off x="2266920" y="2499480"/>
                <a:ext cx="263160" cy="127800"/>
                <a:chOff x="2266920" y="2499480"/>
                <a:chExt cx="263160" cy="12780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2332800" y="2499480"/>
                  <a:ext cx="197280" cy="127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flipH="1">
                  <a:off x="2266920" y="2499480"/>
                  <a:ext cx="197280" cy="127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2332800" y="2499480"/>
                  <a:ext cx="131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1" name=""/>
            <p:cNvGrpSpPr/>
            <p:nvPr/>
          </p:nvGrpSpPr>
          <p:grpSpPr>
            <a:xfrm>
              <a:off x="2989440" y="2284560"/>
              <a:ext cx="263520" cy="257040"/>
              <a:chOff x="2989440" y="2284560"/>
              <a:chExt cx="263520" cy="257040"/>
            </a:xfrm>
          </p:grpSpPr>
          <p:sp>
            <p:nvSpPr>
              <p:cNvPr id="352" name=""/>
              <p:cNvSpPr/>
              <p:nvPr/>
            </p:nvSpPr>
            <p:spPr>
              <a:xfrm>
                <a:off x="2989440" y="2284560"/>
                <a:ext cx="263520" cy="25704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3" name=""/>
              <p:cNvGrpSpPr/>
              <p:nvPr/>
            </p:nvGrpSpPr>
            <p:grpSpPr>
              <a:xfrm>
                <a:off x="2989440" y="2413080"/>
                <a:ext cx="263160" cy="128520"/>
                <a:chOff x="2989440" y="2413080"/>
                <a:chExt cx="263160" cy="12852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3055320" y="2413080"/>
                  <a:ext cx="197280" cy="128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 flipH="1">
                  <a:off x="2989440" y="2413080"/>
                  <a:ext cx="197280" cy="128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3055320" y="2413080"/>
                  <a:ext cx="131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7" name=""/>
            <p:cNvGrpSpPr/>
            <p:nvPr/>
          </p:nvGrpSpPr>
          <p:grpSpPr>
            <a:xfrm>
              <a:off x="6233760" y="2200320"/>
              <a:ext cx="262440" cy="255600"/>
              <a:chOff x="6233760" y="2200320"/>
              <a:chExt cx="262440" cy="255600"/>
            </a:xfrm>
          </p:grpSpPr>
          <p:sp>
            <p:nvSpPr>
              <p:cNvPr id="358" name=""/>
              <p:cNvSpPr/>
              <p:nvPr/>
            </p:nvSpPr>
            <p:spPr>
              <a:xfrm>
                <a:off x="6234120" y="2200320"/>
                <a:ext cx="262080" cy="25560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9" name=""/>
              <p:cNvGrpSpPr/>
              <p:nvPr/>
            </p:nvGrpSpPr>
            <p:grpSpPr>
              <a:xfrm>
                <a:off x="6233760" y="2328120"/>
                <a:ext cx="262080" cy="127800"/>
                <a:chOff x="6233760" y="2328120"/>
                <a:chExt cx="262080" cy="12780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6299640" y="2328120"/>
                  <a:ext cx="196200" cy="127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 flipH="1">
                  <a:off x="6233760" y="2328120"/>
                  <a:ext cx="196200" cy="127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6299640" y="2328120"/>
                  <a:ext cx="130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3" name=""/>
            <p:cNvGrpSpPr/>
            <p:nvPr/>
          </p:nvGrpSpPr>
          <p:grpSpPr>
            <a:xfrm>
              <a:off x="6954840" y="2200320"/>
              <a:ext cx="263520" cy="255600"/>
              <a:chOff x="6954840" y="2200320"/>
              <a:chExt cx="263520" cy="255600"/>
            </a:xfrm>
          </p:grpSpPr>
          <p:sp>
            <p:nvSpPr>
              <p:cNvPr id="364" name=""/>
              <p:cNvSpPr/>
              <p:nvPr/>
            </p:nvSpPr>
            <p:spPr>
              <a:xfrm>
                <a:off x="6954840" y="2200320"/>
                <a:ext cx="263520" cy="25560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5" name=""/>
              <p:cNvGrpSpPr/>
              <p:nvPr/>
            </p:nvGrpSpPr>
            <p:grpSpPr>
              <a:xfrm>
                <a:off x="6954840" y="2328120"/>
                <a:ext cx="263160" cy="127800"/>
                <a:chOff x="6954840" y="2328120"/>
                <a:chExt cx="263160" cy="12780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7020720" y="2328120"/>
                  <a:ext cx="197280" cy="127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 flipH="1">
                  <a:off x="6954840" y="2328120"/>
                  <a:ext cx="197280" cy="127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7020720" y="2328120"/>
                  <a:ext cx="131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9" name=""/>
            <p:cNvGrpSpPr/>
            <p:nvPr/>
          </p:nvGrpSpPr>
          <p:grpSpPr>
            <a:xfrm>
              <a:off x="7677000" y="2200320"/>
              <a:ext cx="260640" cy="255600"/>
              <a:chOff x="7677000" y="2200320"/>
              <a:chExt cx="260640" cy="255600"/>
            </a:xfrm>
          </p:grpSpPr>
          <p:sp>
            <p:nvSpPr>
              <p:cNvPr id="370" name=""/>
              <p:cNvSpPr/>
              <p:nvPr/>
            </p:nvSpPr>
            <p:spPr>
              <a:xfrm>
                <a:off x="7677000" y="2200320"/>
                <a:ext cx="260640" cy="25560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1" name=""/>
              <p:cNvGrpSpPr/>
              <p:nvPr/>
            </p:nvGrpSpPr>
            <p:grpSpPr>
              <a:xfrm>
                <a:off x="7677000" y="2328120"/>
                <a:ext cx="260280" cy="127800"/>
                <a:chOff x="7677000" y="2328120"/>
                <a:chExt cx="260280" cy="12780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7742160" y="2328120"/>
                  <a:ext cx="195120" cy="127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 flipH="1">
                  <a:off x="7677000" y="2328120"/>
                  <a:ext cx="195120" cy="127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742160" y="2328120"/>
                  <a:ext cx="129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75" name=""/>
            <p:cNvSpPr/>
            <p:nvPr/>
          </p:nvSpPr>
          <p:spPr>
            <a:xfrm>
              <a:off x="6168960" y="2541600"/>
              <a:ext cx="2032200" cy="11556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234120" y="3184560"/>
              <a:ext cx="19670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57600" y="2076480"/>
              <a:ext cx="190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99"/>
                  </a:solidFill>
                  <a:latin typeface="Times New Roman"/>
                </a:rPr>
                <a:t>Nivel de referenc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3306240" y="2367000"/>
              <a:ext cx="427320" cy="2239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86400" y="2362320"/>
              <a:ext cx="609480" cy="1522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038480" y="3019320"/>
              <a:ext cx="480960" cy="333360"/>
            </a:xfrm>
            <a:custGeom>
              <a:avLst/>
              <a:gdLst>
                <a:gd name="textAreaLeft" fmla="*/ 74880 w 480960"/>
                <a:gd name="textAreaRight" fmla="*/ 420840 w 480960"/>
                <a:gd name="textAreaTop" fmla="*/ 83160 h 333360"/>
                <a:gd name="textAreaBottom" fmla="*/ 250200 h 3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648320" y="274320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Times New Roman"/>
                </a:rPr>
                <a:t>espesor m</a:t>
              </a:r>
              <a:r>
                <a:rPr b="1" lang="es-C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á</a:t>
              </a:r>
              <a:r>
                <a:rPr b="1" lang="es-CL" sz="1800" spc="-1" strike="noStrike">
                  <a:solidFill>
                    <a:srgbClr val="000000"/>
                  </a:solidFill>
                  <a:latin typeface="Times New Roman"/>
                </a:rPr>
                <a:t>xim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5867280" y="2590560"/>
              <a:ext cx="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228600" y="4876920"/>
            <a:ext cx="7797600" cy="1752480"/>
            <a:chOff x="228600" y="4876920"/>
            <a:chExt cx="7797600" cy="1752480"/>
          </a:xfrm>
        </p:grpSpPr>
        <p:sp>
          <p:nvSpPr>
            <p:cNvPr id="384" name=""/>
            <p:cNvSpPr/>
            <p:nvPr/>
          </p:nvSpPr>
          <p:spPr>
            <a:xfrm>
              <a:off x="5941800" y="5180040"/>
              <a:ext cx="184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347920" y="6456600"/>
              <a:ext cx="12384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660400" y="6542280"/>
              <a:ext cx="61920" cy="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086520" y="5267520"/>
              <a:ext cx="1939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720800" y="5240520"/>
              <a:ext cx="1939680" cy="260280"/>
            </a:xfrm>
            <a:custGeom>
              <a:avLst/>
              <a:gdLst/>
              <a:ahLst/>
              <a:rect l="l" t="t" r="r" b="b"/>
              <a:pathLst>
                <a:path w="1488" h="288">
                  <a:moveTo>
                    <a:pt x="0" y="0"/>
                  </a:moveTo>
                  <a:cubicBezTo>
                    <a:pt x="13" y="2"/>
                    <a:pt x="50" y="12"/>
                    <a:pt x="78" y="14"/>
                  </a:cubicBezTo>
                  <a:cubicBezTo>
                    <a:pt x="106" y="16"/>
                    <a:pt x="140" y="8"/>
                    <a:pt x="167" y="14"/>
                  </a:cubicBezTo>
                  <a:cubicBezTo>
                    <a:pt x="194" y="20"/>
                    <a:pt x="210" y="38"/>
                    <a:pt x="240" y="48"/>
                  </a:cubicBezTo>
                  <a:cubicBezTo>
                    <a:pt x="270" y="58"/>
                    <a:pt x="318" y="53"/>
                    <a:pt x="350" y="77"/>
                  </a:cubicBezTo>
                  <a:cubicBezTo>
                    <a:pt x="382" y="101"/>
                    <a:pt x="410" y="181"/>
                    <a:pt x="432" y="192"/>
                  </a:cubicBezTo>
                  <a:cubicBezTo>
                    <a:pt x="454" y="203"/>
                    <a:pt x="465" y="142"/>
                    <a:pt x="480" y="144"/>
                  </a:cubicBezTo>
                  <a:cubicBezTo>
                    <a:pt x="495" y="146"/>
                    <a:pt x="500" y="191"/>
                    <a:pt x="520" y="203"/>
                  </a:cubicBezTo>
                  <a:cubicBezTo>
                    <a:pt x="540" y="215"/>
                    <a:pt x="578" y="212"/>
                    <a:pt x="603" y="216"/>
                  </a:cubicBezTo>
                  <a:cubicBezTo>
                    <a:pt x="628" y="220"/>
                    <a:pt x="647" y="228"/>
                    <a:pt x="672" y="229"/>
                  </a:cubicBezTo>
                  <a:cubicBezTo>
                    <a:pt x="697" y="230"/>
                    <a:pt x="730" y="228"/>
                    <a:pt x="754" y="222"/>
                  </a:cubicBezTo>
                  <a:cubicBezTo>
                    <a:pt x="778" y="216"/>
                    <a:pt x="798" y="197"/>
                    <a:pt x="816" y="192"/>
                  </a:cubicBezTo>
                  <a:cubicBezTo>
                    <a:pt x="834" y="187"/>
                    <a:pt x="840" y="200"/>
                    <a:pt x="864" y="192"/>
                  </a:cubicBezTo>
                  <a:cubicBezTo>
                    <a:pt x="888" y="184"/>
                    <a:pt x="930" y="153"/>
                    <a:pt x="960" y="144"/>
                  </a:cubicBezTo>
                  <a:cubicBezTo>
                    <a:pt x="990" y="135"/>
                    <a:pt x="1018" y="141"/>
                    <a:pt x="1045" y="140"/>
                  </a:cubicBezTo>
                  <a:cubicBezTo>
                    <a:pt x="1072" y="139"/>
                    <a:pt x="1094" y="139"/>
                    <a:pt x="1120" y="140"/>
                  </a:cubicBezTo>
                  <a:cubicBezTo>
                    <a:pt x="1146" y="141"/>
                    <a:pt x="1171" y="143"/>
                    <a:pt x="1200" y="144"/>
                  </a:cubicBezTo>
                  <a:cubicBezTo>
                    <a:pt x="1229" y="145"/>
                    <a:pt x="1272" y="144"/>
                    <a:pt x="1296" y="144"/>
                  </a:cubicBezTo>
                  <a:cubicBezTo>
                    <a:pt x="1320" y="144"/>
                    <a:pt x="1320" y="128"/>
                    <a:pt x="1344" y="144"/>
                  </a:cubicBezTo>
                  <a:cubicBezTo>
                    <a:pt x="1368" y="160"/>
                    <a:pt x="1416" y="216"/>
                    <a:pt x="1440" y="240"/>
                  </a:cubicBezTo>
                  <a:cubicBezTo>
                    <a:pt x="1464" y="264"/>
                    <a:pt x="1480" y="280"/>
                    <a:pt x="1488" y="288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720800" y="6191280"/>
              <a:ext cx="1878120" cy="185760"/>
            </a:xfrm>
            <a:custGeom>
              <a:avLst/>
              <a:gdLst/>
              <a:ahLst/>
              <a:rect l="l" t="t" r="r" b="b"/>
              <a:pathLst>
                <a:path w="1440" h="205">
                  <a:moveTo>
                    <a:pt x="0" y="196"/>
                  </a:moveTo>
                  <a:cubicBezTo>
                    <a:pt x="20" y="197"/>
                    <a:pt x="91" y="200"/>
                    <a:pt x="123" y="200"/>
                  </a:cubicBezTo>
                  <a:cubicBezTo>
                    <a:pt x="155" y="200"/>
                    <a:pt x="172" y="205"/>
                    <a:pt x="192" y="196"/>
                  </a:cubicBezTo>
                  <a:cubicBezTo>
                    <a:pt x="212" y="187"/>
                    <a:pt x="227" y="159"/>
                    <a:pt x="243" y="143"/>
                  </a:cubicBezTo>
                  <a:cubicBezTo>
                    <a:pt x="259" y="127"/>
                    <a:pt x="273" y="99"/>
                    <a:pt x="288" y="100"/>
                  </a:cubicBezTo>
                  <a:cubicBezTo>
                    <a:pt x="303" y="101"/>
                    <a:pt x="320" y="140"/>
                    <a:pt x="336" y="148"/>
                  </a:cubicBezTo>
                  <a:cubicBezTo>
                    <a:pt x="352" y="156"/>
                    <a:pt x="368" y="156"/>
                    <a:pt x="384" y="148"/>
                  </a:cubicBezTo>
                  <a:cubicBezTo>
                    <a:pt x="400" y="140"/>
                    <a:pt x="408" y="116"/>
                    <a:pt x="432" y="100"/>
                  </a:cubicBezTo>
                  <a:cubicBezTo>
                    <a:pt x="456" y="84"/>
                    <a:pt x="504" y="68"/>
                    <a:pt x="528" y="52"/>
                  </a:cubicBezTo>
                  <a:cubicBezTo>
                    <a:pt x="552" y="36"/>
                    <a:pt x="546" y="8"/>
                    <a:pt x="576" y="4"/>
                  </a:cubicBezTo>
                  <a:cubicBezTo>
                    <a:pt x="606" y="0"/>
                    <a:pt x="670" y="29"/>
                    <a:pt x="710" y="29"/>
                  </a:cubicBezTo>
                  <a:cubicBezTo>
                    <a:pt x="750" y="29"/>
                    <a:pt x="790" y="0"/>
                    <a:pt x="816" y="4"/>
                  </a:cubicBezTo>
                  <a:cubicBezTo>
                    <a:pt x="842" y="8"/>
                    <a:pt x="840" y="36"/>
                    <a:pt x="864" y="52"/>
                  </a:cubicBezTo>
                  <a:cubicBezTo>
                    <a:pt x="888" y="68"/>
                    <a:pt x="928" y="92"/>
                    <a:pt x="960" y="100"/>
                  </a:cubicBezTo>
                  <a:cubicBezTo>
                    <a:pt x="992" y="108"/>
                    <a:pt x="1027" y="98"/>
                    <a:pt x="1056" y="100"/>
                  </a:cubicBezTo>
                  <a:cubicBezTo>
                    <a:pt x="1085" y="102"/>
                    <a:pt x="1109" y="111"/>
                    <a:pt x="1133" y="111"/>
                  </a:cubicBezTo>
                  <a:cubicBezTo>
                    <a:pt x="1157" y="111"/>
                    <a:pt x="1173" y="102"/>
                    <a:pt x="1200" y="100"/>
                  </a:cubicBezTo>
                  <a:cubicBezTo>
                    <a:pt x="1227" y="98"/>
                    <a:pt x="1272" y="108"/>
                    <a:pt x="1296" y="100"/>
                  </a:cubicBezTo>
                  <a:cubicBezTo>
                    <a:pt x="1320" y="92"/>
                    <a:pt x="1320" y="60"/>
                    <a:pt x="1344" y="52"/>
                  </a:cubicBezTo>
                  <a:cubicBezTo>
                    <a:pt x="1368" y="44"/>
                    <a:pt x="1404" y="48"/>
                    <a:pt x="1440" y="52"/>
                  </a:cubicBezTo>
                </a:path>
              </a:pathLst>
            </a:custGeom>
            <a:noFill/>
            <a:ln w="381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0" name=""/>
            <p:cNvGrpSpPr/>
            <p:nvPr/>
          </p:nvGrpSpPr>
          <p:grpSpPr>
            <a:xfrm>
              <a:off x="1720800" y="5283360"/>
              <a:ext cx="376200" cy="1085760"/>
              <a:chOff x="1720800" y="5283360"/>
              <a:chExt cx="376200" cy="1085760"/>
            </a:xfrm>
          </p:grpSpPr>
          <p:sp>
            <p:nvSpPr>
              <p:cNvPr id="391" name=""/>
              <p:cNvSpPr/>
              <p:nvPr/>
            </p:nvSpPr>
            <p:spPr>
              <a:xfrm>
                <a:off x="1846080" y="5283360"/>
                <a:ext cx="0" cy="1085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720800" y="5283360"/>
                <a:ext cx="2509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720800" y="6369120"/>
                <a:ext cx="2509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846080" y="5804640"/>
                <a:ext cx="250920" cy="173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846080" y="5283360"/>
                <a:ext cx="62640" cy="17352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846080" y="5456880"/>
                <a:ext cx="250920" cy="13032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846080" y="5587200"/>
                <a:ext cx="125280" cy="13032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846080" y="5717520"/>
                <a:ext cx="187920" cy="8676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846080" y="5978160"/>
                <a:ext cx="125280" cy="13032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846080" y="6108480"/>
                <a:ext cx="62640" cy="17352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846080" y="6282360"/>
                <a:ext cx="125280" cy="8676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2409840" y="5456880"/>
              <a:ext cx="374040" cy="739080"/>
              <a:chOff x="2409840" y="5456880"/>
              <a:chExt cx="374040" cy="739080"/>
            </a:xfrm>
          </p:grpSpPr>
          <p:sp>
            <p:nvSpPr>
              <p:cNvPr id="403" name=""/>
              <p:cNvSpPr/>
              <p:nvPr/>
            </p:nvSpPr>
            <p:spPr>
              <a:xfrm>
                <a:off x="2534760" y="5457960"/>
                <a:ext cx="0" cy="7380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409840" y="5457960"/>
                <a:ext cx="2494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409840" y="6195960"/>
                <a:ext cx="2494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534760" y="5935320"/>
                <a:ext cx="249120" cy="173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5359200">
                <a:off x="2541240" y="5451120"/>
                <a:ext cx="173520" cy="18720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534760" y="5631480"/>
                <a:ext cx="61920" cy="12996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534760" y="5848560"/>
                <a:ext cx="187200" cy="8676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534760" y="5761800"/>
                <a:ext cx="124560" cy="8640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534760" y="6152400"/>
                <a:ext cx="61920" cy="4320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534760" y="6065640"/>
                <a:ext cx="124560" cy="8640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3098520" y="5370480"/>
              <a:ext cx="374400" cy="911520"/>
              <a:chOff x="3098520" y="5370480"/>
              <a:chExt cx="374400" cy="911520"/>
            </a:xfrm>
          </p:grpSpPr>
          <p:sp>
            <p:nvSpPr>
              <p:cNvPr id="414" name=""/>
              <p:cNvSpPr/>
              <p:nvPr/>
            </p:nvSpPr>
            <p:spPr>
              <a:xfrm>
                <a:off x="3098520" y="5370480"/>
                <a:ext cx="2498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5" name=""/>
              <p:cNvGrpSpPr/>
              <p:nvPr/>
            </p:nvGrpSpPr>
            <p:grpSpPr>
              <a:xfrm>
                <a:off x="3098520" y="5370480"/>
                <a:ext cx="374400" cy="911520"/>
                <a:chOff x="3098520" y="5370480"/>
                <a:chExt cx="374400" cy="91152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3223080" y="5370480"/>
                  <a:ext cx="0" cy="9115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3098520" y="6282000"/>
                  <a:ext cx="24984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3223080" y="5891400"/>
                  <a:ext cx="249840" cy="173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3223080" y="5370480"/>
                  <a:ext cx="124920" cy="129960"/>
                </a:xfrm>
                <a:prstGeom prst="rect">
                  <a:avLst/>
                </a:prstGeom>
                <a:noFill/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3223080" y="5630760"/>
                  <a:ext cx="124920" cy="129960"/>
                </a:xfrm>
                <a:prstGeom prst="rect">
                  <a:avLst/>
                </a:prstGeom>
                <a:noFill/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3223080" y="5761080"/>
                  <a:ext cx="124920" cy="129960"/>
                </a:xfrm>
                <a:prstGeom prst="rect">
                  <a:avLst/>
                </a:prstGeom>
                <a:noFill/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3223080" y="5500440"/>
                  <a:ext cx="62280" cy="129960"/>
                </a:xfrm>
                <a:prstGeom prst="rect">
                  <a:avLst/>
                </a:prstGeom>
                <a:noFill/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3223080" y="6064920"/>
                  <a:ext cx="62280" cy="129960"/>
                </a:xfrm>
                <a:prstGeom prst="rect">
                  <a:avLst/>
                </a:prstGeom>
                <a:noFill/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4" name=""/>
            <p:cNvSpPr/>
            <p:nvPr/>
          </p:nvSpPr>
          <p:spPr>
            <a:xfrm>
              <a:off x="3222360" y="6195960"/>
              <a:ext cx="189000" cy="8604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5" name=""/>
            <p:cNvGrpSpPr/>
            <p:nvPr/>
          </p:nvGrpSpPr>
          <p:grpSpPr>
            <a:xfrm>
              <a:off x="6148440" y="5267520"/>
              <a:ext cx="376200" cy="1085760"/>
              <a:chOff x="6148440" y="5267520"/>
              <a:chExt cx="376200" cy="1085760"/>
            </a:xfrm>
          </p:grpSpPr>
          <p:sp>
            <p:nvSpPr>
              <p:cNvPr id="426" name=""/>
              <p:cNvSpPr/>
              <p:nvPr/>
            </p:nvSpPr>
            <p:spPr>
              <a:xfrm>
                <a:off x="6273720" y="5267520"/>
                <a:ext cx="0" cy="1085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148440" y="5267520"/>
                <a:ext cx="2509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148440" y="6353280"/>
                <a:ext cx="2509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273720" y="5788800"/>
                <a:ext cx="250920" cy="173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273720" y="5267520"/>
                <a:ext cx="62640" cy="17352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273720" y="5441040"/>
                <a:ext cx="250920" cy="13032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273720" y="5571360"/>
                <a:ext cx="125280" cy="13032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273720" y="5701680"/>
                <a:ext cx="187920" cy="8676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273720" y="5962320"/>
                <a:ext cx="125280" cy="13032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273720" y="6092640"/>
                <a:ext cx="62640" cy="17352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273720" y="6266520"/>
                <a:ext cx="125280" cy="8676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7" name=""/>
            <p:cNvGrpSpPr/>
            <p:nvPr/>
          </p:nvGrpSpPr>
          <p:grpSpPr>
            <a:xfrm>
              <a:off x="7588080" y="5267520"/>
              <a:ext cx="376200" cy="1085760"/>
              <a:chOff x="7588080" y="5267520"/>
              <a:chExt cx="376200" cy="1085760"/>
            </a:xfrm>
          </p:grpSpPr>
          <p:grpSp>
            <p:nvGrpSpPr>
              <p:cNvPr id="438" name=""/>
              <p:cNvGrpSpPr/>
              <p:nvPr/>
            </p:nvGrpSpPr>
            <p:grpSpPr>
              <a:xfrm>
                <a:off x="7588080" y="5267520"/>
                <a:ext cx="376200" cy="1085760"/>
                <a:chOff x="7588080" y="5267520"/>
                <a:chExt cx="376200" cy="108576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7588080" y="5267520"/>
                  <a:ext cx="25092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0" name=""/>
                <p:cNvGrpSpPr/>
                <p:nvPr/>
              </p:nvGrpSpPr>
              <p:grpSpPr>
                <a:xfrm>
                  <a:off x="7588080" y="5267520"/>
                  <a:ext cx="376200" cy="1085760"/>
                  <a:chOff x="7588080" y="5267520"/>
                  <a:chExt cx="376200" cy="1085760"/>
                </a:xfrm>
              </p:grpSpPr>
              <p:sp>
                <p:nvSpPr>
                  <p:cNvPr id="441" name=""/>
                  <p:cNvSpPr/>
                  <p:nvPr/>
                </p:nvSpPr>
                <p:spPr>
                  <a:xfrm>
                    <a:off x="7713360" y="5267520"/>
                    <a:ext cx="0" cy="108576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7588080" y="6353280"/>
                    <a:ext cx="250920" cy="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7713360" y="5887800"/>
                    <a:ext cx="250920" cy="2066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7713360" y="5267520"/>
                    <a:ext cx="125280" cy="154800"/>
                  </a:xfrm>
                  <a:prstGeom prst="rect">
                    <a:avLst/>
                  </a:prstGeom>
                  <a:noFill/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7713360" y="5577480"/>
                    <a:ext cx="125280" cy="154800"/>
                  </a:xfrm>
                  <a:prstGeom prst="rect">
                    <a:avLst/>
                  </a:prstGeom>
                  <a:noFill/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7713360" y="5732640"/>
                    <a:ext cx="125280" cy="154800"/>
                  </a:xfrm>
                  <a:prstGeom prst="rect">
                    <a:avLst/>
                  </a:prstGeom>
                  <a:noFill/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7713360" y="5422320"/>
                    <a:ext cx="62640" cy="154800"/>
                  </a:xfrm>
                  <a:prstGeom prst="rect">
                    <a:avLst/>
                  </a:prstGeom>
                  <a:noFill/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7713360" y="6094800"/>
                    <a:ext cx="62640" cy="154800"/>
                  </a:xfrm>
                  <a:prstGeom prst="rect">
                    <a:avLst/>
                  </a:prstGeom>
                  <a:noFill/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49" name=""/>
              <p:cNvSpPr/>
              <p:nvPr/>
            </p:nvSpPr>
            <p:spPr>
              <a:xfrm>
                <a:off x="7713360" y="6249600"/>
                <a:ext cx="187920" cy="10332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0" name=""/>
            <p:cNvSpPr/>
            <p:nvPr/>
          </p:nvSpPr>
          <p:spPr>
            <a:xfrm flipH="1">
              <a:off x="1094760" y="6324840"/>
              <a:ext cx="5000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1094760" y="5257800"/>
              <a:ext cx="5000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5522400" y="6324840"/>
              <a:ext cx="5000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522400" y="5257800"/>
              <a:ext cx="5000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037040" y="5718240"/>
              <a:ext cx="480960" cy="333360"/>
            </a:xfrm>
            <a:custGeom>
              <a:avLst/>
              <a:gdLst>
                <a:gd name="textAreaLeft" fmla="*/ 74880 w 480960"/>
                <a:gd name="textAreaRight" fmla="*/ 420840 w 480960"/>
                <a:gd name="textAreaTop" fmla="*/ 83160 h 333360"/>
                <a:gd name="textAreaBottom" fmla="*/ 250200 h 3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5" name=""/>
            <p:cNvGrpSpPr/>
            <p:nvPr/>
          </p:nvGrpSpPr>
          <p:grpSpPr>
            <a:xfrm>
              <a:off x="1720800" y="4935600"/>
              <a:ext cx="250920" cy="260280"/>
              <a:chOff x="1720800" y="4935600"/>
              <a:chExt cx="250920" cy="260280"/>
            </a:xfrm>
          </p:grpSpPr>
          <p:sp>
            <p:nvSpPr>
              <p:cNvPr id="456" name=""/>
              <p:cNvSpPr/>
              <p:nvPr/>
            </p:nvSpPr>
            <p:spPr>
              <a:xfrm>
                <a:off x="1720800" y="4935600"/>
                <a:ext cx="250920" cy="260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7" name=""/>
              <p:cNvGrpSpPr/>
              <p:nvPr/>
            </p:nvGrpSpPr>
            <p:grpSpPr>
              <a:xfrm>
                <a:off x="1720800" y="5065560"/>
                <a:ext cx="250560" cy="129960"/>
                <a:chOff x="1720800" y="5065560"/>
                <a:chExt cx="250560" cy="12996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1783440" y="5065560"/>
                  <a:ext cx="187920" cy="129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 flipH="1">
                  <a:off x="1720800" y="5065560"/>
                  <a:ext cx="187920" cy="129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1783440" y="5065560"/>
                  <a:ext cx="125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1" name=""/>
            <p:cNvGrpSpPr/>
            <p:nvPr/>
          </p:nvGrpSpPr>
          <p:grpSpPr>
            <a:xfrm>
              <a:off x="2409480" y="5065920"/>
              <a:ext cx="250920" cy="261720"/>
              <a:chOff x="2409480" y="5065920"/>
              <a:chExt cx="250920" cy="261720"/>
            </a:xfrm>
          </p:grpSpPr>
          <p:sp>
            <p:nvSpPr>
              <p:cNvPr id="462" name=""/>
              <p:cNvSpPr/>
              <p:nvPr/>
            </p:nvSpPr>
            <p:spPr>
              <a:xfrm>
                <a:off x="2409840" y="5065920"/>
                <a:ext cx="250560" cy="26172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3" name=""/>
              <p:cNvGrpSpPr/>
              <p:nvPr/>
            </p:nvGrpSpPr>
            <p:grpSpPr>
              <a:xfrm>
                <a:off x="2409480" y="5196600"/>
                <a:ext cx="250560" cy="130680"/>
                <a:chOff x="2409480" y="5196600"/>
                <a:chExt cx="250560" cy="13068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2472480" y="5196600"/>
                  <a:ext cx="187560" cy="130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 flipH="1">
                  <a:off x="2409480" y="5196600"/>
                  <a:ext cx="187560" cy="130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2472480" y="5196600"/>
                  <a:ext cx="124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7" name=""/>
            <p:cNvGrpSpPr/>
            <p:nvPr/>
          </p:nvGrpSpPr>
          <p:grpSpPr>
            <a:xfrm>
              <a:off x="3098160" y="4980240"/>
              <a:ext cx="249840" cy="260280"/>
              <a:chOff x="3098160" y="4980240"/>
              <a:chExt cx="249840" cy="260280"/>
            </a:xfrm>
          </p:grpSpPr>
          <p:sp>
            <p:nvSpPr>
              <p:cNvPr id="468" name=""/>
              <p:cNvSpPr/>
              <p:nvPr/>
            </p:nvSpPr>
            <p:spPr>
              <a:xfrm>
                <a:off x="3098520" y="4980240"/>
                <a:ext cx="249480" cy="260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9" name=""/>
              <p:cNvGrpSpPr/>
              <p:nvPr/>
            </p:nvGrpSpPr>
            <p:grpSpPr>
              <a:xfrm>
                <a:off x="3098160" y="5110200"/>
                <a:ext cx="249480" cy="129960"/>
                <a:chOff x="3098160" y="5110200"/>
                <a:chExt cx="249480" cy="129960"/>
              </a:xfrm>
            </p:grpSpPr>
            <p:sp>
              <p:nvSpPr>
                <p:cNvPr id="470" name=""/>
                <p:cNvSpPr/>
                <p:nvPr/>
              </p:nvSpPr>
              <p:spPr>
                <a:xfrm>
                  <a:off x="3160800" y="5110200"/>
                  <a:ext cx="186840" cy="129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 flipH="1">
                  <a:off x="3098160" y="5110200"/>
                  <a:ext cx="186840" cy="129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3160800" y="5110200"/>
                  <a:ext cx="124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73" name=""/>
            <p:cNvGrpSpPr/>
            <p:nvPr/>
          </p:nvGrpSpPr>
          <p:grpSpPr>
            <a:xfrm>
              <a:off x="6148080" y="4876920"/>
              <a:ext cx="250920" cy="260280"/>
              <a:chOff x="6148080" y="4876920"/>
              <a:chExt cx="250920" cy="260280"/>
            </a:xfrm>
          </p:grpSpPr>
          <p:sp>
            <p:nvSpPr>
              <p:cNvPr id="474" name=""/>
              <p:cNvSpPr/>
              <p:nvPr/>
            </p:nvSpPr>
            <p:spPr>
              <a:xfrm>
                <a:off x="6148440" y="4876920"/>
                <a:ext cx="250560" cy="260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5" name=""/>
              <p:cNvGrpSpPr/>
              <p:nvPr/>
            </p:nvGrpSpPr>
            <p:grpSpPr>
              <a:xfrm>
                <a:off x="6148080" y="5006880"/>
                <a:ext cx="250560" cy="129960"/>
                <a:chOff x="6148080" y="5006880"/>
                <a:chExt cx="250560" cy="129960"/>
              </a:xfrm>
            </p:grpSpPr>
            <p:sp>
              <p:nvSpPr>
                <p:cNvPr id="476" name=""/>
                <p:cNvSpPr/>
                <p:nvPr/>
              </p:nvSpPr>
              <p:spPr>
                <a:xfrm>
                  <a:off x="6211080" y="5006880"/>
                  <a:ext cx="187560" cy="129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 flipH="1">
                  <a:off x="6148080" y="5006880"/>
                  <a:ext cx="187560" cy="129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6211080" y="5006880"/>
                  <a:ext cx="124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79" name=""/>
            <p:cNvGrpSpPr/>
            <p:nvPr/>
          </p:nvGrpSpPr>
          <p:grpSpPr>
            <a:xfrm>
              <a:off x="6837120" y="4876920"/>
              <a:ext cx="250920" cy="260280"/>
              <a:chOff x="6837120" y="4876920"/>
              <a:chExt cx="250920" cy="260280"/>
            </a:xfrm>
          </p:grpSpPr>
          <p:sp>
            <p:nvSpPr>
              <p:cNvPr id="480" name=""/>
              <p:cNvSpPr/>
              <p:nvPr/>
            </p:nvSpPr>
            <p:spPr>
              <a:xfrm>
                <a:off x="6837120" y="4876920"/>
                <a:ext cx="250920" cy="260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1" name=""/>
              <p:cNvGrpSpPr/>
              <p:nvPr/>
            </p:nvGrpSpPr>
            <p:grpSpPr>
              <a:xfrm>
                <a:off x="6837120" y="5006880"/>
                <a:ext cx="250560" cy="129960"/>
                <a:chOff x="6837120" y="5006880"/>
                <a:chExt cx="250560" cy="129960"/>
              </a:xfrm>
            </p:grpSpPr>
            <p:sp>
              <p:nvSpPr>
                <p:cNvPr id="482" name=""/>
                <p:cNvSpPr/>
                <p:nvPr/>
              </p:nvSpPr>
              <p:spPr>
                <a:xfrm>
                  <a:off x="6899760" y="5006880"/>
                  <a:ext cx="187920" cy="129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 flipH="1">
                  <a:off x="6837120" y="5006880"/>
                  <a:ext cx="187920" cy="129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6899760" y="5006880"/>
                  <a:ext cx="125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85" name=""/>
            <p:cNvGrpSpPr/>
            <p:nvPr/>
          </p:nvGrpSpPr>
          <p:grpSpPr>
            <a:xfrm>
              <a:off x="7526160" y="4876920"/>
              <a:ext cx="249120" cy="260280"/>
              <a:chOff x="7526160" y="4876920"/>
              <a:chExt cx="249120" cy="260280"/>
            </a:xfrm>
          </p:grpSpPr>
          <p:sp>
            <p:nvSpPr>
              <p:cNvPr id="486" name=""/>
              <p:cNvSpPr/>
              <p:nvPr/>
            </p:nvSpPr>
            <p:spPr>
              <a:xfrm>
                <a:off x="7526160" y="4876920"/>
                <a:ext cx="249120" cy="260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7" name=""/>
              <p:cNvGrpSpPr/>
              <p:nvPr/>
            </p:nvGrpSpPr>
            <p:grpSpPr>
              <a:xfrm>
                <a:off x="7526160" y="5006880"/>
                <a:ext cx="248760" cy="129960"/>
                <a:chOff x="7526160" y="5006880"/>
                <a:chExt cx="248760" cy="12996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7588440" y="5006880"/>
                  <a:ext cx="186480" cy="129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 flipH="1">
                  <a:off x="7526160" y="5006880"/>
                  <a:ext cx="186480" cy="129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7588440" y="5006880"/>
                  <a:ext cx="124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1" name=""/>
            <p:cNvSpPr/>
            <p:nvPr/>
          </p:nvSpPr>
          <p:spPr>
            <a:xfrm>
              <a:off x="6086520" y="5224680"/>
              <a:ext cx="1939680" cy="117144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962760" y="5267520"/>
              <a:ext cx="0" cy="10857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837120" y="5267520"/>
              <a:ext cx="250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837120" y="6353280"/>
              <a:ext cx="250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962760" y="5991480"/>
              <a:ext cx="249120" cy="241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5359200">
              <a:off x="6935400" y="5294520"/>
              <a:ext cx="241200" cy="1872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962760" y="5508720"/>
              <a:ext cx="61920" cy="2412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962760" y="5870520"/>
              <a:ext cx="187200" cy="120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962760" y="5749920"/>
              <a:ext cx="125280" cy="1206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962760" y="6292800"/>
              <a:ext cx="61920" cy="604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962760" y="6172200"/>
              <a:ext cx="125280" cy="1206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086520" y="6353280"/>
              <a:ext cx="193968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28600" y="545472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Times New Roman"/>
                </a:rPr>
                <a:t>espesor m</a:t>
              </a:r>
              <a:r>
                <a:rPr b="1" lang="es-C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á</a:t>
              </a:r>
              <a:r>
                <a:rPr b="1" lang="es-CL" sz="1800" spc="-1" strike="noStrike">
                  <a:solidFill>
                    <a:srgbClr val="000000"/>
                  </a:solidFill>
                  <a:latin typeface="Times New Roman"/>
                </a:rPr>
                <a:t>xim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647960" y="545472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Times New Roman"/>
                </a:rPr>
                <a:t>espesor m</a:t>
              </a:r>
              <a:r>
                <a:rPr b="1" lang="es-C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á</a:t>
              </a:r>
              <a:r>
                <a:rPr b="1" lang="es-CL" sz="1800" spc="-1" strike="noStrike">
                  <a:solidFill>
                    <a:srgbClr val="000000"/>
                  </a:solidFill>
                  <a:latin typeface="Times New Roman"/>
                </a:rPr>
                <a:t>xim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5867280" y="5257800"/>
              <a:ext cx="0" cy="106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1371600" y="5257800"/>
              <a:ext cx="0" cy="106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EFERE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57200" y="4249800"/>
            <a:ext cx="8229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Loc’h G, Beucher H, Galli A, Doligez B, Heresim Grou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994) Improvement in the truncated Gaussian method: combining several Gaussian functions, in: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. ECMOR IV, Fourth European Conference on the Mathematics of Oil Recover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Røros, Norway, 7-10 June 1994, Topic B: Heterogeneity Description and Assessment of Uncertainty, 13 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57200" y="16765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mstrong M, Galli A, Le Loc’h G, Geffroy F, Eschard 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2003)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urigaussian simulations in geoscienc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Berlin: Springer-Verlag, 160 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57200" y="34732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tuéjoul 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2002)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statistical simulation, models and algorithm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Berlin: Springer-Verlag, 256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57200" y="578952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heron G, Beucher H, de Fouquet C, Galli A, Guérillot D, Ravenne 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987) Conditional simulation of a fluvio-deltaic reservoir, in: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nd Annual Technical Conference and Exhibition of SP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PE paper 16753, Dallas, p 591-599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57200" y="242244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ulon X, de Fouquet 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993) Conditioning a Gaussian model with inequalities, in: A. Soares (Ed.)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statistics Tróia’9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ordrecht: Kluwer Academic Publishers,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p. 201-21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STIMACIÓN CONTRA SIM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836640" y="2023920"/>
          <a:ext cx="7316640" cy="171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6640" y="2023920"/>
                    <a:ext cx="7316640" cy="17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838080" y="4699080"/>
          <a:ext cx="7337520" cy="170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4699080"/>
                    <a:ext cx="733752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457200" y="152388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i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7528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ción condi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GAUSSIANA TRUNCADA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173052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Princip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228600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fine una variable categórica al truncar una variable continua {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i="1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de distribución espacial multigaussian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327560"/>
            <a:ext cx="8458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valor del umbral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fine la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rció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l espacio ocupado por cada unidad geológica. Por ejemplo, si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, ambas unidades ocupan la mitad del espacio. En el caso general, la unidad “1” ocupa una proporción del espacio igual a G(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la unidad “2” ocupa la proporción complementaria. De aquí se puede determinar el valor del umbral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76520" y="320040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si 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&lt;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76520" y="358128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si 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8120" y="34290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3292560"/>
            <a:ext cx="76320" cy="609480"/>
          </a:xfrm>
          <a:custGeom>
            <a:avLst/>
            <a:gdLst>
              <a:gd name="textAreaLeft" fmla="*/ 48960 w 76320"/>
              <a:gd name="textAreaRight" fmla="*/ 76320 w 7632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GAUSSIANA TRUNCADA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173052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Ilustración: truncación con distintos umbr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monoGauss_truncada" descr=""/>
          <p:cNvPicPr/>
          <p:nvPr/>
        </p:nvPicPr>
        <p:blipFill>
          <a:blip r:embed="rId1"/>
          <a:stretch/>
        </p:blipFill>
        <p:spPr>
          <a:xfrm>
            <a:off x="152280" y="2394000"/>
            <a:ext cx="873468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GAUSSIANA TRUNCADA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173052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Relación entre los variogramas de la Gaussiana y de su indic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2219400"/>
            <a:ext cx="83818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ste una relación entre el variograma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e la función aleatoria Gaussiana y el variograma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,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e la variable indicad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468440" y="3225960"/>
                <a:ext cx="593424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 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 </m:t>
                        </m:r>
                        <m:r>
                          <m:t xml:space="preserve">[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 </m:t>
                            </m:r>
                            <m:r>
                              <m:t xml:space="preserve">θ</m:t>
                            </m:r>
                          </m:den>
                        </m:f>
                        <m:r>
                          <m:t xml:space="preserve">]</m:t>
                        </m:r>
                        <m:r>
                          <m:t xml:space="preserve"> </m:t>
                        </m:r>
                        <m:r>
                          <m:t xml:space="preserve">dθ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04920" y="4267080"/>
            <a:ext cx="83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ejemplo, para el umbral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 (indicador de la mediana), se tie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577548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los otros umbrales, el variograma del indicador se puede calcular gracias a una integración numérica, o a un desarrollo en polinomios de Herm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2847960" y="4897440"/>
                <a:ext cx="317196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rcsen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GAUSSIANA TRUNCADA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173052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Análisis variográf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2270160"/>
            <a:ext cx="830556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la práctica, se tiene datos sobre la existencia de las unidades geológicas (0 ó 1) en sitios de muestreo, por lo cual se puede calcular el variograma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,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e la variable indicado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ego, se busca el variograma correspondiente para la variable Gaussiana, invirtiendo la relación anterior entre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,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y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4479840"/>
            <a:ext cx="8381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variograma de la variable Gaussiana {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i="1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controla la regularidad de la frontera entre ambas unidades geológicas: si este variograma es parabólico en el origen, se tendrá una frontera regular; sino la frontera será errát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GAUSSIANA TRUNCADA 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13716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Ejemp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Gauss_truncada" descr=""/>
          <p:cNvPicPr/>
          <p:nvPr/>
        </p:nvPicPr>
        <p:blipFill>
          <a:blip r:embed="rId1"/>
          <a:stretch/>
        </p:blipFill>
        <p:spPr>
          <a:xfrm>
            <a:off x="1600200" y="1752480"/>
            <a:ext cx="6499080" cy="50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GAUSSIANA TRUNCADA (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173052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Extensión a más de dos unidades geológ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4784760"/>
            <a:ext cx="8534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problema de esta definición es que conduce a unidades geológicas que están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rarquizada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ara pasar de la unidad “1” a la unidad “3”, se tiene que cruzar la unidad “2” (a menos que exista un efecto pepita). O sea, no se puede controlar los contactos entre unidades geológicas. Tampoco se tiene mucho control sobre los variogramas de las distintas unidades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geológica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ues todos ellos se deducen del variograma de la función aleatoria Gaussia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228600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generaliza el procedimiento anterior al definir varias truncaciones de la misma función aleatoria Gaussian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67080" y="3276720"/>
            <a:ext cx="266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si 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&lt;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67080" y="3718080"/>
            <a:ext cx="3429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si 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 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&lt;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38280" y="3718080"/>
            <a:ext cx="1676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368520"/>
            <a:ext cx="76320" cy="1127160"/>
          </a:xfrm>
          <a:custGeom>
            <a:avLst/>
            <a:gdLst>
              <a:gd name="textAreaLeft" fmla="*/ 48960 w 76320"/>
              <a:gd name="textAreaRight" fmla="*/ 76320 w 76320"/>
              <a:gd name="textAreaTop" fmla="*/ 29160 h 1127160"/>
              <a:gd name="textAreaBottom" fmla="*/ 1098000 h 1127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4175280"/>
            <a:ext cx="2438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si 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9:07:57Z</dcterms:created>
  <dc:creator>Xavier Emery</dc:creator>
  <dc:description/>
  <dc:language>en-US</dc:language>
  <cp:lastModifiedBy>Xavier Emery</cp:lastModifiedBy>
  <dcterms:modified xsi:type="dcterms:W3CDTF">2007-10-22T19:35:18Z</dcterms:modified>
  <cp:revision>126</cp:revision>
  <dc:subject/>
  <dc:title>Presentación de PowerPoint</dc:title>
</cp:coreProperties>
</file>