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516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985-D448-498C-B906-4C8D6C78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C3B-E524-441A-BD81-2D650086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92A-7599-4CC2-9A51-48C77AA0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2CB-4EF8-4AF2-BC76-13997CAA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C5D-2F8D-4D77-BCC3-4C7076A1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B94-0959-4DE1-81C5-E5A6B319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2B0-67BB-47C0-9E9B-FC19693C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A3B-47FE-466E-83D5-A24EA192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324-7103-4D1D-8381-3AA657E0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8B5-D3BE-4CE6-9AA3-BAA37A02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7C0-0351-416E-A3D1-334A5712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133-31AA-4796-817D-F3DA3838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E174-D4FA-4524-827B-C85F6EB66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8954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MI75D - LECCIÓN 4</a:t>
            </a: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SIMULACIÓN PLURIGAUSSIA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28600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ar más flexibilidad en la definición de las unidades geológicas, la idea es trabajar co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s variables Gaussian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or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27672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i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7180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i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7180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3368520"/>
            <a:ext cx="76320" cy="1127160"/>
          </a:xfrm>
          <a:custGeom>
            <a:avLst/>
            <a:gdLst>
              <a:gd name="textAreaLeft" fmla="*/ 48960 w 76320"/>
              <a:gd name="textAreaRight" fmla="*/ 76320 w 76320"/>
              <a:gd name="textAreaTop" fmla="*/ 29160 h 1127160"/>
              <a:gd name="textAreaBottom" fmla="*/ 1098000 h 112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41752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i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87692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construcción, el usuario dispone de varios parámetros libres: el número de Gaussianas, sus variogramas simples y cruzados, así como la definición de la truncación. De este modo, se obtiene una clase amplia de modelos categó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 los variogramas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575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ra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os en e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25750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neales en e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ipo_variograma1" descr=""/>
          <p:cNvPicPr/>
          <p:nvPr/>
        </p:nvPicPr>
        <p:blipFill>
          <a:blip r:embed="rId1"/>
          <a:stretch/>
        </p:blipFill>
        <p:spPr>
          <a:xfrm>
            <a:off x="428760" y="3048120"/>
            <a:ext cx="833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 los variogramas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75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sótro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25750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sótropo + anisótr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tipo_variograma2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833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00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l modo de truncación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ipo_corte" descr=""/>
          <p:cNvPicPr/>
          <p:nvPr/>
        </p:nvPicPr>
        <p:blipFill>
          <a:blip r:embed="rId1"/>
          <a:stretch/>
        </p:blipFill>
        <p:spPr>
          <a:xfrm>
            <a:off x="103320" y="2057400"/>
            <a:ext cx="89643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rrelaciones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761080" cy="467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2952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 la correlación entre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1828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1828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imitaciones prác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2860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para limitar el número de parámetros y facilitar la inferencia de estos, se suele trabajar co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 Gaussiana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2767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ólo se requiere defin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547056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s de las Gaussian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fluyen en los variogramas simples y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ruzados de los indicadores de cada unidad ge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7940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o de trunc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bandera”): influye en los contactos entre las unidad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ológicas y en sus jerarqu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6324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br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fluye en las proporciones del espacio ocupadas por las distinta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idades ge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tapas de la 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2860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r los parámetros del modelo a partir de los datos categóricos, esto es: tip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bandera, umbrales, variogramas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18456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los valores de las Gaussianas en los sitios de muestreo, condicionad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r los datos categ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09896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los valores de las Gaussianas en el resto del espacio, condicionad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r sus valores en los sitios de muestreo (ej: método secuencial Gaussiano o d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andas rota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18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las truncaciones para obtener las unidades geológicas simu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imulación de datos Gaussian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28600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iste una relación única entre los datos categóricos y los valores Gaussianos. La idea es simular valores Gaussianos en los sitios de muestreo tales que sean consistentes con la información categórica (pertenencia de las muestras a tal o cual unidad geológ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87036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se utiliza un método iterativo conocido como “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streador de Gibb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(Gibbs sampl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uestreador de Gib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2860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r un estado inicial que respeta las condiciones impuestas por los dat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ategór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 iterati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657600"/>
            <a:ext cx="838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onar un sitio de muestreo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4175280"/>
            <a:ext cx="83818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distribución de los valores Gaussianos en este sitio condicionad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por los valores Gaussianos en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(son distribuciones Gaussianas, d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media igual al kriging simple y varianza igual a la varianza de kriging si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318280"/>
            <a:ext cx="8381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los valores Gaussianos en el sitio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dicionalmente a los valor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ategóricos en este sitio (aceptación y rech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6156360"/>
            <a:ext cx="838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izar los valores Gaussianos e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ite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urvas de proporción vertic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86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le suceder que una unidad geológica desaparezca para niveles profundos (ej: unidad de óxidos). En estos casos, se elabora un modelo donde las proporciones de las unidades varían según la profundidad. Se define 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proporción vertic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donde las proporciones de las unidades están calculadas planta a planta. Este tipo de curva es muy usado para modelar depósitos sedimentar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4952880"/>
            <a:ext cx="152640" cy="381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5715000"/>
            <a:ext cx="152640" cy="3808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6095880"/>
            <a:ext cx="152640" cy="3812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71500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6095880"/>
            <a:ext cx="152640" cy="381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533412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71500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6095880"/>
            <a:ext cx="152640" cy="381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571500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6095880"/>
            <a:ext cx="152640" cy="3812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5715000"/>
            <a:ext cx="152640" cy="3808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6095880"/>
            <a:ext cx="152640" cy="3812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981080" y="4572000"/>
            <a:ext cx="2514600" cy="1905120"/>
            <a:chOff x="1981080" y="4572000"/>
            <a:chExt cx="2514600" cy="1905120"/>
          </a:xfrm>
        </p:grpSpPr>
        <p:grpSp>
          <p:nvGrpSpPr>
            <p:cNvPr id="173" name=""/>
            <p:cNvGrpSpPr/>
            <p:nvPr/>
          </p:nvGrpSpPr>
          <p:grpSpPr>
            <a:xfrm>
              <a:off x="1981080" y="4572000"/>
              <a:ext cx="2514600" cy="762120"/>
              <a:chOff x="1981080" y="4572000"/>
              <a:chExt cx="2514600" cy="7621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81080" y="4572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81080" y="4953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81080" y="5334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981080" y="5715000"/>
              <a:ext cx="2514600" cy="762120"/>
              <a:chOff x="1981080" y="5715000"/>
              <a:chExt cx="2514600" cy="762120"/>
            </a:xfrm>
          </p:grpSpPr>
          <p:sp>
            <p:nvSpPr>
              <p:cNvPr id="178" name=""/>
              <p:cNvSpPr/>
              <p:nvPr/>
            </p:nvSpPr>
            <p:spPr>
              <a:xfrm>
                <a:off x="1981080" y="5715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81080" y="6096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81080" y="6477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5486400" y="4572000"/>
            <a:ext cx="2514600" cy="1905120"/>
            <a:chOff x="5486400" y="4572000"/>
            <a:chExt cx="2514600" cy="1905120"/>
          </a:xfrm>
        </p:grpSpPr>
        <p:grpSp>
          <p:nvGrpSpPr>
            <p:cNvPr id="182" name=""/>
            <p:cNvGrpSpPr/>
            <p:nvPr/>
          </p:nvGrpSpPr>
          <p:grpSpPr>
            <a:xfrm>
              <a:off x="5486400" y="4572000"/>
              <a:ext cx="2514600" cy="762120"/>
              <a:chOff x="5486400" y="4572000"/>
              <a:chExt cx="2514600" cy="762120"/>
            </a:xfrm>
          </p:grpSpPr>
          <p:sp>
            <p:nvSpPr>
              <p:cNvPr id="183" name=""/>
              <p:cNvSpPr/>
              <p:nvPr/>
            </p:nvSpPr>
            <p:spPr>
              <a:xfrm>
                <a:off x="5486400" y="4572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86400" y="4953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86400" y="5334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486400" y="5715000"/>
              <a:ext cx="2514600" cy="762120"/>
              <a:chOff x="5486400" y="5715000"/>
              <a:chExt cx="2514600" cy="762120"/>
            </a:xfrm>
          </p:grpSpPr>
          <p:sp>
            <p:nvSpPr>
              <p:cNvPr id="187" name=""/>
              <p:cNvSpPr/>
              <p:nvPr/>
            </p:nvSpPr>
            <p:spPr>
              <a:xfrm>
                <a:off x="5486400" y="5715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86400" y="6096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86400" y="6477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5486400" y="6095880"/>
            <a:ext cx="1904760" cy="380880"/>
            <a:chOff x="5486400" y="6095880"/>
            <a:chExt cx="1904760" cy="380880"/>
          </a:xfrm>
        </p:grpSpPr>
        <p:sp>
          <p:nvSpPr>
            <p:cNvPr id="191" name=""/>
            <p:cNvSpPr/>
            <p:nvPr/>
          </p:nvSpPr>
          <p:spPr>
            <a:xfrm>
              <a:off x="5486400" y="609588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67280" y="609588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48160" y="6095880"/>
              <a:ext cx="38124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29400" y="609588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10280" y="609588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486400" y="5715000"/>
            <a:ext cx="1904760" cy="380880"/>
            <a:chOff x="5486400" y="5715000"/>
            <a:chExt cx="1904760" cy="380880"/>
          </a:xfrm>
        </p:grpSpPr>
        <p:sp>
          <p:nvSpPr>
            <p:cNvPr id="197" name=""/>
            <p:cNvSpPr/>
            <p:nvPr/>
          </p:nvSpPr>
          <p:spPr>
            <a:xfrm>
              <a:off x="5486400" y="571500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7280" y="571500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48160" y="5715000"/>
              <a:ext cx="38124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571500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0280" y="571500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486400" y="4952880"/>
            <a:ext cx="1904760" cy="380880"/>
            <a:chOff x="5486400" y="4952880"/>
            <a:chExt cx="1904760" cy="380880"/>
          </a:xfrm>
        </p:grpSpPr>
        <p:sp>
          <p:nvSpPr>
            <p:cNvPr id="203" name=""/>
            <p:cNvSpPr/>
            <p:nvPr/>
          </p:nvSpPr>
          <p:spPr>
            <a:xfrm>
              <a:off x="5486400" y="4952880"/>
              <a:ext cx="380880" cy="38088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67280" y="495288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48160" y="4952880"/>
              <a:ext cx="38124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29400" y="495288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10280" y="495288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486400" y="4572000"/>
            <a:ext cx="1904760" cy="380880"/>
            <a:chOff x="5486400" y="4572000"/>
            <a:chExt cx="1904760" cy="380880"/>
          </a:xfrm>
        </p:grpSpPr>
        <p:sp>
          <p:nvSpPr>
            <p:cNvPr id="209" name=""/>
            <p:cNvSpPr/>
            <p:nvPr/>
          </p:nvSpPr>
          <p:spPr>
            <a:xfrm>
              <a:off x="548640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6728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8160" y="4572000"/>
              <a:ext cx="38124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2940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1028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486400" y="5334120"/>
            <a:ext cx="1904760" cy="380880"/>
            <a:chOff x="5486400" y="5334120"/>
            <a:chExt cx="1904760" cy="380880"/>
          </a:xfrm>
        </p:grpSpPr>
        <p:sp>
          <p:nvSpPr>
            <p:cNvPr id="215" name=""/>
            <p:cNvSpPr/>
            <p:nvPr/>
          </p:nvSpPr>
          <p:spPr>
            <a:xfrm>
              <a:off x="5486400" y="5334120"/>
              <a:ext cx="380880" cy="38088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67280" y="5334120"/>
              <a:ext cx="380880" cy="38088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48160" y="5334120"/>
              <a:ext cx="38124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29400" y="533412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10280" y="533412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336280" y="65199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88760" y="64962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098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sonda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4114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7360" y="4997520"/>
            <a:ext cx="13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fund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OBLEM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Á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7305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la extensión espacial 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s geológ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s cuales se pueden codificar mediante una variable categór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7273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tenece a la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ésima unidad ge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3526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la definición de modelos de funciones aleatorias categóricas y su posterior simulación constituyen un tema complejo (conectividad espacial de las unidades, contactos con otras unidades, regularidad de las fronteras, etc.). La simulación plurigaussiana logra conciliar varios asp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800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dad de u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334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dad: permite definir y jerarquizar los contactos entre las unidad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ológic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080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cia mate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egionalización de las proporciones de las unidades ge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19384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modelo aun más complejo consiste en definir proporciones que varían también en el plano horizontal. En este caso, las proporciones se calculan localmente en las zonas muestreadas y se interpolan / extrapolan en todo el espacio mediante kriging o inverso de la dista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835440"/>
            <a:ext cx="11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rofund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85800" y="3124080"/>
            <a:ext cx="8153280" cy="3657600"/>
            <a:chOff x="685800" y="3124080"/>
            <a:chExt cx="8153280" cy="36576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3809880" y="3692520"/>
              <a:ext cx="22860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384760" y="5029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37560" y="4876920"/>
              <a:ext cx="101520" cy="685800"/>
            </a:xfrm>
            <a:prstGeom prst="upArrow">
              <a:avLst>
                <a:gd name="adj1" fmla="val 50000"/>
                <a:gd name="adj2" fmla="val 1688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2036880" y="4162320"/>
              <a:ext cx="1544400" cy="20973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1457280" y="5110200"/>
              <a:ext cx="1011240" cy="979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3581280" y="5807160"/>
              <a:ext cx="1011240" cy="9745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1249200" y="3692520"/>
              <a:ext cx="1011240" cy="976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38" name=""/>
            <p:cNvSpPr/>
            <p:nvPr/>
          </p:nvSpPr>
          <p:spPr>
            <a:xfrm>
              <a:off x="2036880" y="4299120"/>
              <a:ext cx="4316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3352680" y="5824800"/>
              <a:ext cx="355320" cy="32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82760" y="5444280"/>
              <a:ext cx="57024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11624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52760" y="6451560"/>
              <a:ext cx="7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10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89200" y="64342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657600"/>
              <a:ext cx="19047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hale flood pl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. sand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and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rd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. sand lago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udstone lago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andstone wash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rine mudst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5622840" y="3692520"/>
              <a:ext cx="2530440" cy="2987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46" name=""/>
            <p:cNvSpPr/>
            <p:nvPr/>
          </p:nvSpPr>
          <p:spPr>
            <a:xfrm flipH="1" rot="5400000">
              <a:off x="6920640" y="3213000"/>
              <a:ext cx="101520" cy="685800"/>
            </a:xfrm>
            <a:prstGeom prst="upArrow">
              <a:avLst>
                <a:gd name="adj1" fmla="val 50000"/>
                <a:gd name="adj2" fmla="val 1688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07160" y="3124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nálisis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22860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upone que las funciones aleatorias Gaussianas son estacionarias, es decir, que sus variogramas sólo dependen de la separación entr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32608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ora, al hacer variar las proporciones de cada unidad geológica en el espacio, la truncación no es la misma en todo el espacio y los variogramas de los indicadores de estas unidades ya no son estacionarios... Para el análisis variográfico, se trabaja con variogramas “promedio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si la truncación varía sólo en la dirección vertical, se puede calcular los variogramas de indicador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cada planta (puesto que son estacionarios en el plano horizontal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uego se promedian todos estos variogramas horizon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Unidades estrati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28600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udio también puede llevarse a cabo en unidades estratigráficas homogéneas (ej: unidades sedimentarias, unidades definidas por techo, piso o por superficies características). Cada unidad estratigráfica se analiza y se simula por separado. En general, el análisis se acompaña de un cambio del sistema referen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432080"/>
            <a:ext cx="69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uperficies de correl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 paralelas a una superficie 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343400"/>
            <a:ext cx="46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de correl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s propor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6320" y="2076480"/>
            <a:ext cx="8124840" cy="1620720"/>
            <a:chOff x="76320" y="2076480"/>
            <a:chExt cx="8124840" cy="1620720"/>
          </a:xfrm>
        </p:grpSpPr>
        <p:sp>
          <p:nvSpPr>
            <p:cNvPr id="259" name=""/>
            <p:cNvSpPr/>
            <p:nvPr/>
          </p:nvSpPr>
          <p:spPr>
            <a:xfrm>
              <a:off x="6168960" y="2585880"/>
              <a:ext cx="2032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8400" y="3483000"/>
              <a:ext cx="1285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65280" y="3568680"/>
              <a:ext cx="651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47640" y="2541600"/>
              <a:ext cx="2032200" cy="257040"/>
            </a:xfrm>
            <a:custGeom>
              <a:avLst/>
              <a:gdLst/>
              <a:ahLst/>
              <a:rect l="l" t="t" r="r" b="b"/>
              <a:pathLst>
                <a:path w="1488" h="288">
                  <a:moveTo>
                    <a:pt x="0" y="0"/>
                  </a:moveTo>
                  <a:cubicBezTo>
                    <a:pt x="13" y="2"/>
                    <a:pt x="50" y="12"/>
                    <a:pt x="78" y="14"/>
                  </a:cubicBezTo>
                  <a:cubicBezTo>
                    <a:pt x="106" y="16"/>
                    <a:pt x="140" y="8"/>
                    <a:pt x="167" y="14"/>
                  </a:cubicBezTo>
                  <a:cubicBezTo>
                    <a:pt x="194" y="20"/>
                    <a:pt x="210" y="38"/>
                    <a:pt x="240" y="48"/>
                  </a:cubicBezTo>
                  <a:cubicBezTo>
                    <a:pt x="270" y="58"/>
                    <a:pt x="318" y="53"/>
                    <a:pt x="350" y="77"/>
                  </a:cubicBezTo>
                  <a:cubicBezTo>
                    <a:pt x="382" y="101"/>
                    <a:pt x="410" y="181"/>
                    <a:pt x="432" y="192"/>
                  </a:cubicBezTo>
                  <a:cubicBezTo>
                    <a:pt x="454" y="203"/>
                    <a:pt x="465" y="142"/>
                    <a:pt x="480" y="144"/>
                  </a:cubicBezTo>
                  <a:cubicBezTo>
                    <a:pt x="495" y="146"/>
                    <a:pt x="500" y="191"/>
                    <a:pt x="520" y="203"/>
                  </a:cubicBezTo>
                  <a:cubicBezTo>
                    <a:pt x="540" y="215"/>
                    <a:pt x="578" y="212"/>
                    <a:pt x="603" y="216"/>
                  </a:cubicBezTo>
                  <a:cubicBezTo>
                    <a:pt x="628" y="220"/>
                    <a:pt x="647" y="228"/>
                    <a:pt x="672" y="229"/>
                  </a:cubicBezTo>
                  <a:cubicBezTo>
                    <a:pt x="697" y="230"/>
                    <a:pt x="730" y="228"/>
                    <a:pt x="754" y="222"/>
                  </a:cubicBezTo>
                  <a:cubicBezTo>
                    <a:pt x="778" y="216"/>
                    <a:pt x="798" y="197"/>
                    <a:pt x="816" y="192"/>
                  </a:cubicBezTo>
                  <a:cubicBezTo>
                    <a:pt x="834" y="187"/>
                    <a:pt x="840" y="200"/>
                    <a:pt x="864" y="192"/>
                  </a:cubicBezTo>
                  <a:cubicBezTo>
                    <a:pt x="888" y="184"/>
                    <a:pt x="930" y="153"/>
                    <a:pt x="960" y="144"/>
                  </a:cubicBezTo>
                  <a:cubicBezTo>
                    <a:pt x="990" y="135"/>
                    <a:pt x="1018" y="141"/>
                    <a:pt x="1045" y="140"/>
                  </a:cubicBezTo>
                  <a:cubicBezTo>
                    <a:pt x="1072" y="139"/>
                    <a:pt x="1094" y="139"/>
                    <a:pt x="1120" y="140"/>
                  </a:cubicBezTo>
                  <a:cubicBezTo>
                    <a:pt x="1146" y="141"/>
                    <a:pt x="1171" y="143"/>
                    <a:pt x="1200" y="144"/>
                  </a:cubicBezTo>
                  <a:cubicBezTo>
                    <a:pt x="1229" y="145"/>
                    <a:pt x="1272" y="144"/>
                    <a:pt x="1296" y="144"/>
                  </a:cubicBezTo>
                  <a:cubicBezTo>
                    <a:pt x="1320" y="144"/>
                    <a:pt x="1320" y="128"/>
                    <a:pt x="1344" y="144"/>
                  </a:cubicBezTo>
                  <a:cubicBezTo>
                    <a:pt x="1368" y="160"/>
                    <a:pt x="1416" y="216"/>
                    <a:pt x="1440" y="240"/>
                  </a:cubicBezTo>
                  <a:cubicBezTo>
                    <a:pt x="1464" y="264"/>
                    <a:pt x="1480" y="280"/>
                    <a:pt x="1488" y="28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47640" y="3479760"/>
              <a:ext cx="1967040" cy="182520"/>
            </a:xfrm>
            <a:custGeom>
              <a:avLst/>
              <a:gdLst/>
              <a:ahLst/>
              <a:rect l="l" t="t" r="r" b="b"/>
              <a:pathLst>
                <a:path w="1440" h="205">
                  <a:moveTo>
                    <a:pt x="0" y="196"/>
                  </a:moveTo>
                  <a:cubicBezTo>
                    <a:pt x="20" y="197"/>
                    <a:pt x="91" y="200"/>
                    <a:pt x="123" y="200"/>
                  </a:cubicBezTo>
                  <a:cubicBezTo>
                    <a:pt x="155" y="200"/>
                    <a:pt x="172" y="205"/>
                    <a:pt x="192" y="196"/>
                  </a:cubicBezTo>
                  <a:cubicBezTo>
                    <a:pt x="212" y="187"/>
                    <a:pt x="227" y="159"/>
                    <a:pt x="243" y="143"/>
                  </a:cubicBezTo>
                  <a:cubicBezTo>
                    <a:pt x="259" y="127"/>
                    <a:pt x="273" y="99"/>
                    <a:pt x="288" y="100"/>
                  </a:cubicBezTo>
                  <a:cubicBezTo>
                    <a:pt x="303" y="101"/>
                    <a:pt x="320" y="140"/>
                    <a:pt x="336" y="148"/>
                  </a:cubicBezTo>
                  <a:cubicBezTo>
                    <a:pt x="352" y="156"/>
                    <a:pt x="368" y="156"/>
                    <a:pt x="384" y="148"/>
                  </a:cubicBezTo>
                  <a:cubicBezTo>
                    <a:pt x="400" y="140"/>
                    <a:pt x="408" y="116"/>
                    <a:pt x="432" y="100"/>
                  </a:cubicBezTo>
                  <a:cubicBezTo>
                    <a:pt x="456" y="84"/>
                    <a:pt x="504" y="68"/>
                    <a:pt x="528" y="52"/>
                  </a:cubicBezTo>
                  <a:cubicBezTo>
                    <a:pt x="552" y="36"/>
                    <a:pt x="546" y="8"/>
                    <a:pt x="576" y="4"/>
                  </a:cubicBezTo>
                  <a:cubicBezTo>
                    <a:pt x="606" y="0"/>
                    <a:pt x="670" y="29"/>
                    <a:pt x="710" y="29"/>
                  </a:cubicBezTo>
                  <a:cubicBezTo>
                    <a:pt x="750" y="29"/>
                    <a:pt x="790" y="0"/>
                    <a:pt x="816" y="4"/>
                  </a:cubicBezTo>
                  <a:cubicBezTo>
                    <a:pt x="842" y="8"/>
                    <a:pt x="840" y="36"/>
                    <a:pt x="864" y="52"/>
                  </a:cubicBezTo>
                  <a:cubicBezTo>
                    <a:pt x="888" y="68"/>
                    <a:pt x="928" y="92"/>
                    <a:pt x="960" y="100"/>
                  </a:cubicBezTo>
                  <a:cubicBezTo>
                    <a:pt x="992" y="108"/>
                    <a:pt x="1027" y="98"/>
                    <a:pt x="1056" y="100"/>
                  </a:cubicBezTo>
                  <a:cubicBezTo>
                    <a:pt x="1085" y="102"/>
                    <a:pt x="1109" y="111"/>
                    <a:pt x="1133" y="111"/>
                  </a:cubicBezTo>
                  <a:cubicBezTo>
                    <a:pt x="1157" y="111"/>
                    <a:pt x="1173" y="102"/>
                    <a:pt x="1200" y="100"/>
                  </a:cubicBezTo>
                  <a:cubicBezTo>
                    <a:pt x="1227" y="98"/>
                    <a:pt x="1272" y="108"/>
                    <a:pt x="1296" y="100"/>
                  </a:cubicBezTo>
                  <a:cubicBezTo>
                    <a:pt x="1320" y="92"/>
                    <a:pt x="1320" y="60"/>
                    <a:pt x="1344" y="52"/>
                  </a:cubicBezTo>
                  <a:cubicBezTo>
                    <a:pt x="1368" y="44"/>
                    <a:pt x="1404" y="48"/>
                    <a:pt x="1440" y="52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547640" y="2585880"/>
              <a:ext cx="392400" cy="1068480"/>
              <a:chOff x="1547640" y="2585880"/>
              <a:chExt cx="392400" cy="1068480"/>
            </a:xfrm>
          </p:grpSpPr>
          <p:sp>
            <p:nvSpPr>
              <p:cNvPr id="265" name=""/>
              <p:cNvSpPr/>
              <p:nvPr/>
            </p:nvSpPr>
            <p:spPr>
              <a:xfrm>
                <a:off x="1678320" y="2585880"/>
                <a:ext cx="0" cy="1068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47640" y="2585880"/>
                <a:ext cx="26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547640" y="3654360"/>
                <a:ext cx="26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78320" y="3098880"/>
                <a:ext cx="261720" cy="17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78320" y="2585880"/>
                <a:ext cx="65160" cy="1706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78320" y="2756520"/>
                <a:ext cx="26172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78320" y="2884680"/>
                <a:ext cx="13068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78320" y="3013200"/>
                <a:ext cx="1962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78320" y="3269520"/>
                <a:ext cx="13068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78320" y="3397680"/>
                <a:ext cx="65160" cy="1710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678320" y="3569040"/>
                <a:ext cx="13068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266920" y="2754720"/>
              <a:ext cx="394920" cy="728280"/>
              <a:chOff x="2266920" y="2754720"/>
              <a:chExt cx="394920" cy="728280"/>
            </a:xfrm>
          </p:grpSpPr>
          <p:sp>
            <p:nvSpPr>
              <p:cNvPr id="277" name=""/>
              <p:cNvSpPr/>
              <p:nvPr/>
            </p:nvSpPr>
            <p:spPr>
              <a:xfrm>
                <a:off x="2398680" y="2755800"/>
                <a:ext cx="0" cy="72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66920" y="2755800"/>
                <a:ext cx="26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66920" y="3483000"/>
                <a:ext cx="26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398680" y="3226320"/>
                <a:ext cx="263160" cy="17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5359200">
                <a:off x="2411280" y="2742480"/>
                <a:ext cx="171000" cy="1976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8680" y="2926800"/>
                <a:ext cx="6552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98680" y="3140640"/>
                <a:ext cx="197640" cy="856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98680" y="3054960"/>
                <a:ext cx="1314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398680" y="3440160"/>
                <a:ext cx="65520" cy="428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398680" y="3354480"/>
                <a:ext cx="1314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989440" y="2670120"/>
              <a:ext cx="393480" cy="898560"/>
              <a:chOff x="2989440" y="2670120"/>
              <a:chExt cx="393480" cy="898560"/>
            </a:xfrm>
          </p:grpSpPr>
          <p:sp>
            <p:nvSpPr>
              <p:cNvPr id="288" name=""/>
              <p:cNvSpPr/>
              <p:nvPr/>
            </p:nvSpPr>
            <p:spPr>
              <a:xfrm>
                <a:off x="2989440" y="2670120"/>
                <a:ext cx="26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989440" y="2670120"/>
                <a:ext cx="393480" cy="898560"/>
                <a:chOff x="2989440" y="2670120"/>
                <a:chExt cx="393480" cy="8985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120480" y="2670120"/>
                  <a:ext cx="0" cy="8985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989440" y="3568680"/>
                  <a:ext cx="2624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120480" y="3183480"/>
                  <a:ext cx="2624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120480" y="2670120"/>
                  <a:ext cx="13104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120480" y="2926800"/>
                  <a:ext cx="13104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120480" y="3054960"/>
                  <a:ext cx="13104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20480" y="2798280"/>
                  <a:ext cx="6552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120480" y="3354840"/>
                  <a:ext cx="6552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3121200" y="3483000"/>
              <a:ext cx="19656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234120" y="2585880"/>
              <a:ext cx="393480" cy="1068480"/>
              <a:chOff x="6234120" y="2585880"/>
              <a:chExt cx="393480" cy="1068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365160" y="2585880"/>
                <a:ext cx="0" cy="1068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34120" y="2585880"/>
                <a:ext cx="26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34120" y="3654360"/>
                <a:ext cx="26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65160" y="3098880"/>
                <a:ext cx="262440" cy="17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65160" y="2585880"/>
                <a:ext cx="65520" cy="1706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65160" y="2756520"/>
                <a:ext cx="26244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65160" y="2884680"/>
                <a:ext cx="13140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65160" y="3013200"/>
                <a:ext cx="19692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365160" y="3269520"/>
                <a:ext cx="13140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65160" y="3397680"/>
                <a:ext cx="65520" cy="1710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65160" y="3569040"/>
                <a:ext cx="1314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7086600" y="2585880"/>
              <a:ext cx="0" cy="76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54840" y="2585880"/>
              <a:ext cx="26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54840" y="3354480"/>
              <a:ext cx="26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86600" y="3098880"/>
              <a:ext cx="262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359200">
              <a:off x="7099560" y="2572200"/>
              <a:ext cx="169920" cy="196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86600" y="2755800"/>
              <a:ext cx="65160" cy="171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86600" y="3013200"/>
              <a:ext cx="19692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6600" y="2927520"/>
              <a:ext cx="13176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86600" y="3313080"/>
              <a:ext cx="65160" cy="4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86600" y="3227400"/>
              <a:ext cx="13176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7677000" y="2585880"/>
              <a:ext cx="392400" cy="897120"/>
              <a:chOff x="7677000" y="2585880"/>
              <a:chExt cx="392400" cy="897120"/>
            </a:xfrm>
          </p:grpSpPr>
          <p:sp>
            <p:nvSpPr>
              <p:cNvPr id="322" name=""/>
              <p:cNvSpPr/>
              <p:nvPr/>
            </p:nvSpPr>
            <p:spPr>
              <a:xfrm>
                <a:off x="7677000" y="2585880"/>
                <a:ext cx="26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677000" y="2585880"/>
                <a:ext cx="392400" cy="897120"/>
                <a:chOff x="7677000" y="2585880"/>
                <a:chExt cx="392400" cy="897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807680" y="2585880"/>
                  <a:ext cx="0" cy="897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677000" y="3483000"/>
                  <a:ext cx="2617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807680" y="3098520"/>
                  <a:ext cx="26172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807680" y="2585880"/>
                  <a:ext cx="13068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807680" y="2842200"/>
                  <a:ext cx="13068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807680" y="2970360"/>
                  <a:ext cx="13068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807680" y="2714040"/>
                  <a:ext cx="6516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807680" y="3269520"/>
                  <a:ext cx="6516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7807320" y="3398760"/>
              <a:ext cx="196920" cy="84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90280" y="3654360"/>
              <a:ext cx="525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90280" y="2585880"/>
              <a:ext cx="525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320" y="27432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219320" y="25905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578200" y="3654360"/>
              <a:ext cx="523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578200" y="2585880"/>
              <a:ext cx="523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1547640" y="2243160"/>
              <a:ext cx="260640" cy="255600"/>
              <a:chOff x="1547640" y="2243160"/>
              <a:chExt cx="260640" cy="255600"/>
            </a:xfrm>
          </p:grpSpPr>
          <p:sp>
            <p:nvSpPr>
              <p:cNvPr id="340" name=""/>
              <p:cNvSpPr/>
              <p:nvPr/>
            </p:nvSpPr>
            <p:spPr>
              <a:xfrm>
                <a:off x="1547640" y="2243160"/>
                <a:ext cx="26064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547640" y="2370960"/>
                <a:ext cx="260280" cy="127800"/>
                <a:chOff x="1547640" y="2370960"/>
                <a:chExt cx="260280" cy="1278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612800" y="237096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1547640" y="237096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612800" y="2370960"/>
                  <a:ext cx="12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2266920" y="2371680"/>
              <a:ext cx="263520" cy="255600"/>
              <a:chOff x="2266920" y="2371680"/>
              <a:chExt cx="263520" cy="255600"/>
            </a:xfrm>
          </p:grpSpPr>
          <p:sp>
            <p:nvSpPr>
              <p:cNvPr id="346" name=""/>
              <p:cNvSpPr/>
              <p:nvPr/>
            </p:nvSpPr>
            <p:spPr>
              <a:xfrm>
                <a:off x="2266920" y="2371680"/>
                <a:ext cx="26352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2266920" y="2499480"/>
                <a:ext cx="263160" cy="127800"/>
                <a:chOff x="2266920" y="2499480"/>
                <a:chExt cx="263160" cy="1278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332800" y="249948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2266920" y="249948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32800" y="2499480"/>
                  <a:ext cx="13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2989440" y="2284560"/>
              <a:ext cx="263520" cy="257040"/>
              <a:chOff x="2989440" y="2284560"/>
              <a:chExt cx="263520" cy="257040"/>
            </a:xfrm>
          </p:grpSpPr>
          <p:sp>
            <p:nvSpPr>
              <p:cNvPr id="352" name=""/>
              <p:cNvSpPr/>
              <p:nvPr/>
            </p:nvSpPr>
            <p:spPr>
              <a:xfrm>
                <a:off x="2989440" y="2284560"/>
                <a:ext cx="263520" cy="25704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2989440" y="2413080"/>
                <a:ext cx="263160" cy="128520"/>
                <a:chOff x="2989440" y="2413080"/>
                <a:chExt cx="263160" cy="1285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3055320" y="2413080"/>
                  <a:ext cx="19728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2989440" y="2413080"/>
                  <a:ext cx="19728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055320" y="2413080"/>
                  <a:ext cx="13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6233760" y="2200320"/>
              <a:ext cx="262440" cy="255600"/>
              <a:chOff x="6233760" y="2200320"/>
              <a:chExt cx="262440" cy="255600"/>
            </a:xfrm>
          </p:grpSpPr>
          <p:sp>
            <p:nvSpPr>
              <p:cNvPr id="358" name=""/>
              <p:cNvSpPr/>
              <p:nvPr/>
            </p:nvSpPr>
            <p:spPr>
              <a:xfrm>
                <a:off x="6234120" y="2200320"/>
                <a:ext cx="26208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233760" y="2328120"/>
                <a:ext cx="262080" cy="127800"/>
                <a:chOff x="6233760" y="2328120"/>
                <a:chExt cx="262080" cy="1278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299640" y="2328120"/>
                  <a:ext cx="19620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6233760" y="2328120"/>
                  <a:ext cx="19620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299640" y="2328120"/>
                  <a:ext cx="13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3" name=""/>
            <p:cNvGrpSpPr/>
            <p:nvPr/>
          </p:nvGrpSpPr>
          <p:grpSpPr>
            <a:xfrm>
              <a:off x="6954840" y="2200320"/>
              <a:ext cx="263520" cy="255600"/>
              <a:chOff x="6954840" y="2200320"/>
              <a:chExt cx="263520" cy="255600"/>
            </a:xfrm>
          </p:grpSpPr>
          <p:sp>
            <p:nvSpPr>
              <p:cNvPr id="364" name=""/>
              <p:cNvSpPr/>
              <p:nvPr/>
            </p:nvSpPr>
            <p:spPr>
              <a:xfrm>
                <a:off x="6954840" y="2200320"/>
                <a:ext cx="26352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954840" y="2328120"/>
                <a:ext cx="263160" cy="127800"/>
                <a:chOff x="6954840" y="2328120"/>
                <a:chExt cx="263160" cy="1278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020720" y="232812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6954840" y="232812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020720" y="2328120"/>
                  <a:ext cx="13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9" name=""/>
            <p:cNvGrpSpPr/>
            <p:nvPr/>
          </p:nvGrpSpPr>
          <p:grpSpPr>
            <a:xfrm>
              <a:off x="7677000" y="2200320"/>
              <a:ext cx="260640" cy="255600"/>
              <a:chOff x="7677000" y="2200320"/>
              <a:chExt cx="260640" cy="255600"/>
            </a:xfrm>
          </p:grpSpPr>
          <p:sp>
            <p:nvSpPr>
              <p:cNvPr id="370" name=""/>
              <p:cNvSpPr/>
              <p:nvPr/>
            </p:nvSpPr>
            <p:spPr>
              <a:xfrm>
                <a:off x="7677000" y="2200320"/>
                <a:ext cx="26064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7677000" y="2328120"/>
                <a:ext cx="260280" cy="127800"/>
                <a:chOff x="7677000" y="2328120"/>
                <a:chExt cx="260280" cy="1278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742160" y="232812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7677000" y="232812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2160" y="2328120"/>
                  <a:ext cx="12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5" name=""/>
            <p:cNvSpPr/>
            <p:nvPr/>
          </p:nvSpPr>
          <p:spPr>
            <a:xfrm>
              <a:off x="6168960" y="2541600"/>
              <a:ext cx="2032200" cy="1155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34120" y="3184560"/>
              <a:ext cx="196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207648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Times New Roman"/>
                </a:rPr>
                <a:t>Nivel de refer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306240" y="2367000"/>
              <a:ext cx="427320" cy="223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86400" y="2362320"/>
              <a:ext cx="609480" cy="152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38480" y="3019320"/>
              <a:ext cx="480960" cy="333360"/>
            </a:xfrm>
            <a:custGeom>
              <a:avLst/>
              <a:gdLst>
                <a:gd name="textAreaLeft" fmla="*/ 74880 w 480960"/>
                <a:gd name="textAreaRight" fmla="*/ 420840 w 480960"/>
                <a:gd name="textAreaTop" fmla="*/ 83160 h 333360"/>
                <a:gd name="textAreaBottom" fmla="*/ 250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48320" y="27432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867280" y="25905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28600" y="4876920"/>
            <a:ext cx="7797600" cy="1752480"/>
            <a:chOff x="228600" y="4876920"/>
            <a:chExt cx="7797600" cy="1752480"/>
          </a:xfrm>
        </p:grpSpPr>
        <p:sp>
          <p:nvSpPr>
            <p:cNvPr id="384" name=""/>
            <p:cNvSpPr/>
            <p:nvPr/>
          </p:nvSpPr>
          <p:spPr>
            <a:xfrm>
              <a:off x="5941800" y="518004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47920" y="6456600"/>
              <a:ext cx="1238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60400" y="6542280"/>
              <a:ext cx="619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86520" y="5267520"/>
              <a:ext cx="1939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0800" y="5240520"/>
              <a:ext cx="1939680" cy="260280"/>
            </a:xfrm>
            <a:custGeom>
              <a:avLst/>
              <a:gdLst/>
              <a:ahLst/>
              <a:rect l="l" t="t" r="r" b="b"/>
              <a:pathLst>
                <a:path w="1488" h="288">
                  <a:moveTo>
                    <a:pt x="0" y="0"/>
                  </a:moveTo>
                  <a:cubicBezTo>
                    <a:pt x="13" y="2"/>
                    <a:pt x="50" y="12"/>
                    <a:pt x="78" y="14"/>
                  </a:cubicBezTo>
                  <a:cubicBezTo>
                    <a:pt x="106" y="16"/>
                    <a:pt x="140" y="8"/>
                    <a:pt x="167" y="14"/>
                  </a:cubicBezTo>
                  <a:cubicBezTo>
                    <a:pt x="194" y="20"/>
                    <a:pt x="210" y="38"/>
                    <a:pt x="240" y="48"/>
                  </a:cubicBezTo>
                  <a:cubicBezTo>
                    <a:pt x="270" y="58"/>
                    <a:pt x="318" y="53"/>
                    <a:pt x="350" y="77"/>
                  </a:cubicBezTo>
                  <a:cubicBezTo>
                    <a:pt x="382" y="101"/>
                    <a:pt x="410" y="181"/>
                    <a:pt x="432" y="192"/>
                  </a:cubicBezTo>
                  <a:cubicBezTo>
                    <a:pt x="454" y="203"/>
                    <a:pt x="465" y="142"/>
                    <a:pt x="480" y="144"/>
                  </a:cubicBezTo>
                  <a:cubicBezTo>
                    <a:pt x="495" y="146"/>
                    <a:pt x="500" y="191"/>
                    <a:pt x="520" y="203"/>
                  </a:cubicBezTo>
                  <a:cubicBezTo>
                    <a:pt x="540" y="215"/>
                    <a:pt x="578" y="212"/>
                    <a:pt x="603" y="216"/>
                  </a:cubicBezTo>
                  <a:cubicBezTo>
                    <a:pt x="628" y="220"/>
                    <a:pt x="647" y="228"/>
                    <a:pt x="672" y="229"/>
                  </a:cubicBezTo>
                  <a:cubicBezTo>
                    <a:pt x="697" y="230"/>
                    <a:pt x="730" y="228"/>
                    <a:pt x="754" y="222"/>
                  </a:cubicBezTo>
                  <a:cubicBezTo>
                    <a:pt x="778" y="216"/>
                    <a:pt x="798" y="197"/>
                    <a:pt x="816" y="192"/>
                  </a:cubicBezTo>
                  <a:cubicBezTo>
                    <a:pt x="834" y="187"/>
                    <a:pt x="840" y="200"/>
                    <a:pt x="864" y="192"/>
                  </a:cubicBezTo>
                  <a:cubicBezTo>
                    <a:pt x="888" y="184"/>
                    <a:pt x="930" y="153"/>
                    <a:pt x="960" y="144"/>
                  </a:cubicBezTo>
                  <a:cubicBezTo>
                    <a:pt x="990" y="135"/>
                    <a:pt x="1018" y="141"/>
                    <a:pt x="1045" y="140"/>
                  </a:cubicBezTo>
                  <a:cubicBezTo>
                    <a:pt x="1072" y="139"/>
                    <a:pt x="1094" y="139"/>
                    <a:pt x="1120" y="140"/>
                  </a:cubicBezTo>
                  <a:cubicBezTo>
                    <a:pt x="1146" y="141"/>
                    <a:pt x="1171" y="143"/>
                    <a:pt x="1200" y="144"/>
                  </a:cubicBezTo>
                  <a:cubicBezTo>
                    <a:pt x="1229" y="145"/>
                    <a:pt x="1272" y="144"/>
                    <a:pt x="1296" y="144"/>
                  </a:cubicBezTo>
                  <a:cubicBezTo>
                    <a:pt x="1320" y="144"/>
                    <a:pt x="1320" y="128"/>
                    <a:pt x="1344" y="144"/>
                  </a:cubicBezTo>
                  <a:cubicBezTo>
                    <a:pt x="1368" y="160"/>
                    <a:pt x="1416" y="216"/>
                    <a:pt x="1440" y="240"/>
                  </a:cubicBezTo>
                  <a:cubicBezTo>
                    <a:pt x="1464" y="264"/>
                    <a:pt x="1480" y="280"/>
                    <a:pt x="1488" y="28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20800" y="6191280"/>
              <a:ext cx="1878120" cy="185760"/>
            </a:xfrm>
            <a:custGeom>
              <a:avLst/>
              <a:gdLst/>
              <a:ahLst/>
              <a:rect l="l" t="t" r="r" b="b"/>
              <a:pathLst>
                <a:path w="1440" h="205">
                  <a:moveTo>
                    <a:pt x="0" y="196"/>
                  </a:moveTo>
                  <a:cubicBezTo>
                    <a:pt x="20" y="197"/>
                    <a:pt x="91" y="200"/>
                    <a:pt x="123" y="200"/>
                  </a:cubicBezTo>
                  <a:cubicBezTo>
                    <a:pt x="155" y="200"/>
                    <a:pt x="172" y="205"/>
                    <a:pt x="192" y="196"/>
                  </a:cubicBezTo>
                  <a:cubicBezTo>
                    <a:pt x="212" y="187"/>
                    <a:pt x="227" y="159"/>
                    <a:pt x="243" y="143"/>
                  </a:cubicBezTo>
                  <a:cubicBezTo>
                    <a:pt x="259" y="127"/>
                    <a:pt x="273" y="99"/>
                    <a:pt x="288" y="100"/>
                  </a:cubicBezTo>
                  <a:cubicBezTo>
                    <a:pt x="303" y="101"/>
                    <a:pt x="320" y="140"/>
                    <a:pt x="336" y="148"/>
                  </a:cubicBezTo>
                  <a:cubicBezTo>
                    <a:pt x="352" y="156"/>
                    <a:pt x="368" y="156"/>
                    <a:pt x="384" y="148"/>
                  </a:cubicBezTo>
                  <a:cubicBezTo>
                    <a:pt x="400" y="140"/>
                    <a:pt x="408" y="116"/>
                    <a:pt x="432" y="100"/>
                  </a:cubicBezTo>
                  <a:cubicBezTo>
                    <a:pt x="456" y="84"/>
                    <a:pt x="504" y="68"/>
                    <a:pt x="528" y="52"/>
                  </a:cubicBezTo>
                  <a:cubicBezTo>
                    <a:pt x="552" y="36"/>
                    <a:pt x="546" y="8"/>
                    <a:pt x="576" y="4"/>
                  </a:cubicBezTo>
                  <a:cubicBezTo>
                    <a:pt x="606" y="0"/>
                    <a:pt x="670" y="29"/>
                    <a:pt x="710" y="29"/>
                  </a:cubicBezTo>
                  <a:cubicBezTo>
                    <a:pt x="750" y="29"/>
                    <a:pt x="790" y="0"/>
                    <a:pt x="816" y="4"/>
                  </a:cubicBezTo>
                  <a:cubicBezTo>
                    <a:pt x="842" y="8"/>
                    <a:pt x="840" y="36"/>
                    <a:pt x="864" y="52"/>
                  </a:cubicBezTo>
                  <a:cubicBezTo>
                    <a:pt x="888" y="68"/>
                    <a:pt x="928" y="92"/>
                    <a:pt x="960" y="100"/>
                  </a:cubicBezTo>
                  <a:cubicBezTo>
                    <a:pt x="992" y="108"/>
                    <a:pt x="1027" y="98"/>
                    <a:pt x="1056" y="100"/>
                  </a:cubicBezTo>
                  <a:cubicBezTo>
                    <a:pt x="1085" y="102"/>
                    <a:pt x="1109" y="111"/>
                    <a:pt x="1133" y="111"/>
                  </a:cubicBezTo>
                  <a:cubicBezTo>
                    <a:pt x="1157" y="111"/>
                    <a:pt x="1173" y="102"/>
                    <a:pt x="1200" y="100"/>
                  </a:cubicBezTo>
                  <a:cubicBezTo>
                    <a:pt x="1227" y="98"/>
                    <a:pt x="1272" y="108"/>
                    <a:pt x="1296" y="100"/>
                  </a:cubicBezTo>
                  <a:cubicBezTo>
                    <a:pt x="1320" y="92"/>
                    <a:pt x="1320" y="60"/>
                    <a:pt x="1344" y="52"/>
                  </a:cubicBezTo>
                  <a:cubicBezTo>
                    <a:pt x="1368" y="44"/>
                    <a:pt x="1404" y="48"/>
                    <a:pt x="1440" y="52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720800" y="5283360"/>
              <a:ext cx="376200" cy="1085760"/>
              <a:chOff x="1720800" y="5283360"/>
              <a:chExt cx="376200" cy="1085760"/>
            </a:xfrm>
          </p:grpSpPr>
          <p:sp>
            <p:nvSpPr>
              <p:cNvPr id="391" name=""/>
              <p:cNvSpPr/>
              <p:nvPr/>
            </p:nvSpPr>
            <p:spPr>
              <a:xfrm>
                <a:off x="1846080" y="5283360"/>
                <a:ext cx="0" cy="1085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720800" y="528336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20800" y="636912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46080" y="5804640"/>
                <a:ext cx="250920" cy="17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46080" y="528336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46080" y="5456880"/>
                <a:ext cx="25092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46080" y="558720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46080" y="5717520"/>
                <a:ext cx="18792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46080" y="597816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6080" y="610848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46080" y="6282360"/>
                <a:ext cx="12528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409840" y="5456880"/>
              <a:ext cx="374040" cy="739080"/>
              <a:chOff x="2409840" y="5456880"/>
              <a:chExt cx="374040" cy="739080"/>
            </a:xfrm>
          </p:grpSpPr>
          <p:sp>
            <p:nvSpPr>
              <p:cNvPr id="403" name=""/>
              <p:cNvSpPr/>
              <p:nvPr/>
            </p:nvSpPr>
            <p:spPr>
              <a:xfrm>
                <a:off x="2534760" y="5457960"/>
                <a:ext cx="0" cy="738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09840" y="545796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409840" y="619596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34760" y="5935320"/>
                <a:ext cx="249120" cy="173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359200">
                <a:off x="2541240" y="5451120"/>
                <a:ext cx="173520" cy="1872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534760" y="5631480"/>
                <a:ext cx="61920" cy="1299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534760" y="5848560"/>
                <a:ext cx="18720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534760" y="5761800"/>
                <a:ext cx="124560" cy="864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534760" y="6152400"/>
                <a:ext cx="61920" cy="432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534760" y="6065640"/>
                <a:ext cx="124560" cy="864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098520" y="5370480"/>
              <a:ext cx="374400" cy="911520"/>
              <a:chOff x="3098520" y="5370480"/>
              <a:chExt cx="374400" cy="911520"/>
            </a:xfrm>
          </p:grpSpPr>
          <p:sp>
            <p:nvSpPr>
              <p:cNvPr id="414" name=""/>
              <p:cNvSpPr/>
              <p:nvPr/>
            </p:nvSpPr>
            <p:spPr>
              <a:xfrm>
                <a:off x="3098520" y="5370480"/>
                <a:ext cx="249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098520" y="5370480"/>
                <a:ext cx="374400" cy="911520"/>
                <a:chOff x="3098520" y="5370480"/>
                <a:chExt cx="374400" cy="9115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223080" y="5370480"/>
                  <a:ext cx="0" cy="911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098520" y="6282000"/>
                  <a:ext cx="2498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223080" y="5891400"/>
                  <a:ext cx="249840" cy="173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223080" y="5370480"/>
                  <a:ext cx="12492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223080" y="5630760"/>
                  <a:ext cx="12492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223080" y="5761080"/>
                  <a:ext cx="12492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223080" y="5500440"/>
                  <a:ext cx="6228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223080" y="6064920"/>
                  <a:ext cx="6228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"/>
            <p:cNvSpPr/>
            <p:nvPr/>
          </p:nvSpPr>
          <p:spPr>
            <a:xfrm>
              <a:off x="3222360" y="6195960"/>
              <a:ext cx="189000" cy="86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148440" y="5267520"/>
              <a:ext cx="376200" cy="1085760"/>
              <a:chOff x="6148440" y="5267520"/>
              <a:chExt cx="376200" cy="1085760"/>
            </a:xfrm>
          </p:grpSpPr>
          <p:sp>
            <p:nvSpPr>
              <p:cNvPr id="426" name=""/>
              <p:cNvSpPr/>
              <p:nvPr/>
            </p:nvSpPr>
            <p:spPr>
              <a:xfrm>
                <a:off x="6273720" y="5267520"/>
                <a:ext cx="0" cy="1085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48440" y="526752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48440" y="635328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73720" y="5788800"/>
                <a:ext cx="250920" cy="17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73720" y="526752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73720" y="5441040"/>
                <a:ext cx="25092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73720" y="557136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73720" y="5701680"/>
                <a:ext cx="18792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73720" y="596232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73720" y="609264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73720" y="6266520"/>
                <a:ext cx="12528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588080" y="5267520"/>
              <a:ext cx="376200" cy="1085760"/>
              <a:chOff x="7588080" y="5267520"/>
              <a:chExt cx="376200" cy="108576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588080" y="5267520"/>
                <a:ext cx="376200" cy="1085760"/>
                <a:chOff x="7588080" y="5267520"/>
                <a:chExt cx="376200" cy="10857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588080" y="5267520"/>
                  <a:ext cx="250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7588080" y="5267520"/>
                  <a:ext cx="376200" cy="1085760"/>
                  <a:chOff x="7588080" y="5267520"/>
                  <a:chExt cx="376200" cy="10857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7713360" y="5267520"/>
                    <a:ext cx="0" cy="10857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588080" y="6353280"/>
                    <a:ext cx="250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713360" y="5887800"/>
                    <a:ext cx="250920" cy="206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713360" y="5267520"/>
                    <a:ext cx="12528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713360" y="5577480"/>
                    <a:ext cx="12528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713360" y="5732640"/>
                    <a:ext cx="12528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713360" y="5422320"/>
                    <a:ext cx="6264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713360" y="6094800"/>
                    <a:ext cx="6264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7713360" y="6249600"/>
                <a:ext cx="187920" cy="103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 flipH="1">
              <a:off x="1094760" y="632484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094760" y="525780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522400" y="632484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522400" y="525780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7040" y="5718240"/>
              <a:ext cx="480960" cy="333360"/>
            </a:xfrm>
            <a:custGeom>
              <a:avLst/>
              <a:gdLst>
                <a:gd name="textAreaLeft" fmla="*/ 74880 w 480960"/>
                <a:gd name="textAreaRight" fmla="*/ 420840 w 480960"/>
                <a:gd name="textAreaTop" fmla="*/ 83160 h 333360"/>
                <a:gd name="textAreaBottom" fmla="*/ 250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720800" y="4935600"/>
              <a:ext cx="250920" cy="260280"/>
              <a:chOff x="1720800" y="4935600"/>
              <a:chExt cx="250920" cy="260280"/>
            </a:xfrm>
          </p:grpSpPr>
          <p:sp>
            <p:nvSpPr>
              <p:cNvPr id="456" name=""/>
              <p:cNvSpPr/>
              <p:nvPr/>
            </p:nvSpPr>
            <p:spPr>
              <a:xfrm>
                <a:off x="1720800" y="4935600"/>
                <a:ext cx="25092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1720800" y="5065560"/>
                <a:ext cx="250560" cy="129960"/>
                <a:chOff x="1720800" y="5065560"/>
                <a:chExt cx="250560" cy="129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783440" y="506556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720800" y="506556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783440" y="5065560"/>
                  <a:ext cx="125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409480" y="5065920"/>
              <a:ext cx="250920" cy="261720"/>
              <a:chOff x="2409480" y="5065920"/>
              <a:chExt cx="250920" cy="261720"/>
            </a:xfrm>
          </p:grpSpPr>
          <p:sp>
            <p:nvSpPr>
              <p:cNvPr id="462" name=""/>
              <p:cNvSpPr/>
              <p:nvPr/>
            </p:nvSpPr>
            <p:spPr>
              <a:xfrm>
                <a:off x="2409840" y="5065920"/>
                <a:ext cx="250560" cy="26172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2409480" y="5196600"/>
                <a:ext cx="250560" cy="130680"/>
                <a:chOff x="2409480" y="5196600"/>
                <a:chExt cx="250560" cy="1306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2472480" y="5196600"/>
                  <a:ext cx="18756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2409480" y="5196600"/>
                  <a:ext cx="18756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472480" y="5196600"/>
                  <a:ext cx="12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7" name=""/>
            <p:cNvGrpSpPr/>
            <p:nvPr/>
          </p:nvGrpSpPr>
          <p:grpSpPr>
            <a:xfrm>
              <a:off x="3098160" y="4980240"/>
              <a:ext cx="249840" cy="260280"/>
              <a:chOff x="3098160" y="4980240"/>
              <a:chExt cx="249840" cy="260280"/>
            </a:xfrm>
          </p:grpSpPr>
          <p:sp>
            <p:nvSpPr>
              <p:cNvPr id="468" name=""/>
              <p:cNvSpPr/>
              <p:nvPr/>
            </p:nvSpPr>
            <p:spPr>
              <a:xfrm>
                <a:off x="3098520" y="4980240"/>
                <a:ext cx="24948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3098160" y="5110200"/>
                <a:ext cx="249480" cy="129960"/>
                <a:chOff x="3098160" y="5110200"/>
                <a:chExt cx="249480" cy="12996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160800" y="5110200"/>
                  <a:ext cx="18684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3098160" y="5110200"/>
                  <a:ext cx="18684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160800" y="5110200"/>
                  <a:ext cx="12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6148080" y="4876920"/>
              <a:ext cx="250920" cy="260280"/>
              <a:chOff x="6148080" y="4876920"/>
              <a:chExt cx="250920" cy="260280"/>
            </a:xfrm>
          </p:grpSpPr>
          <p:sp>
            <p:nvSpPr>
              <p:cNvPr id="474" name=""/>
              <p:cNvSpPr/>
              <p:nvPr/>
            </p:nvSpPr>
            <p:spPr>
              <a:xfrm>
                <a:off x="6148440" y="4876920"/>
                <a:ext cx="25056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6148080" y="5006880"/>
                <a:ext cx="250560" cy="129960"/>
                <a:chOff x="6148080" y="5006880"/>
                <a:chExt cx="250560" cy="12996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211080" y="5006880"/>
                  <a:ext cx="18756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6148080" y="5006880"/>
                  <a:ext cx="18756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211080" y="5006880"/>
                  <a:ext cx="12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6837120" y="4876920"/>
              <a:ext cx="250920" cy="260280"/>
              <a:chOff x="6837120" y="4876920"/>
              <a:chExt cx="250920" cy="260280"/>
            </a:xfrm>
          </p:grpSpPr>
          <p:sp>
            <p:nvSpPr>
              <p:cNvPr id="480" name=""/>
              <p:cNvSpPr/>
              <p:nvPr/>
            </p:nvSpPr>
            <p:spPr>
              <a:xfrm>
                <a:off x="6837120" y="4876920"/>
                <a:ext cx="25092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6837120" y="5006880"/>
                <a:ext cx="250560" cy="129960"/>
                <a:chOff x="6837120" y="5006880"/>
                <a:chExt cx="250560" cy="1299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6899760" y="500688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6837120" y="500688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899760" y="5006880"/>
                  <a:ext cx="125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5" name=""/>
            <p:cNvGrpSpPr/>
            <p:nvPr/>
          </p:nvGrpSpPr>
          <p:grpSpPr>
            <a:xfrm>
              <a:off x="7526160" y="4876920"/>
              <a:ext cx="249120" cy="260280"/>
              <a:chOff x="7526160" y="4876920"/>
              <a:chExt cx="249120" cy="260280"/>
            </a:xfrm>
          </p:grpSpPr>
          <p:sp>
            <p:nvSpPr>
              <p:cNvPr id="486" name=""/>
              <p:cNvSpPr/>
              <p:nvPr/>
            </p:nvSpPr>
            <p:spPr>
              <a:xfrm>
                <a:off x="7526160" y="4876920"/>
                <a:ext cx="24912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7526160" y="5006880"/>
                <a:ext cx="248760" cy="129960"/>
                <a:chOff x="7526160" y="5006880"/>
                <a:chExt cx="248760" cy="1299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588440" y="5006880"/>
                  <a:ext cx="1864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>
                  <a:off x="7526160" y="5006880"/>
                  <a:ext cx="1864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588440" y="5006880"/>
                  <a:ext cx="12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1" name=""/>
            <p:cNvSpPr/>
            <p:nvPr/>
          </p:nvSpPr>
          <p:spPr>
            <a:xfrm>
              <a:off x="6086520" y="5224680"/>
              <a:ext cx="1939680" cy="1171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62760" y="5267520"/>
              <a:ext cx="0" cy="108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37120" y="5267520"/>
              <a:ext cx="25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37120" y="6353280"/>
              <a:ext cx="25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62760" y="5991480"/>
              <a:ext cx="249120" cy="24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359200">
              <a:off x="6935400" y="5294520"/>
              <a:ext cx="241200" cy="1872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62760" y="5508720"/>
              <a:ext cx="61920" cy="2412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62760" y="5870520"/>
              <a:ext cx="187200" cy="120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62760" y="5749920"/>
              <a:ext cx="125280" cy="120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62760" y="6292800"/>
              <a:ext cx="61920" cy="60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62760" y="6172200"/>
              <a:ext cx="125280" cy="120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86520" y="6353280"/>
              <a:ext cx="19396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8600" y="545472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47960" y="54547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5867280" y="525780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371600" y="525780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424980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Loc’h G, Beucher H, Galli A, Doligez B, Heresim 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4) Improvement in the truncated Gaussian method: combining several Gaussian functions, in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. ECMOR IV, Fourth European Conference on the Mathematics of Oil Recov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øros, Norway, 7-10 June 1994, Topic B: Heterogeneity Description and Assessment of Uncertainty, 13 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676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strong M, Galli A, Le Loc’h G, Geffroy F, Eschard 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3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rigaussian simulations in geoscie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rlin: Springer-Verlag, 160 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" y="3473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2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al simulation, models and algorith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rlin: Springer-Verlag, 256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57895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, Beucher H, de Fouquet C, Galli A, Guérillot D, Ravenne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7) Conditional simulation of a fluvio-deltaic reservoir, in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nd Annual Technical Conference and Exhibition of S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PE paper 16753, Dallas, p 591-59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242244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ulon X, de Fouquet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3) Conditioning a Gaussian model with inequalities, in: A. Soares (Ed.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 Tróia’9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ordrecht: Kluwer Academic Publishers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p. 201-2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STIMACIÓN CONTRA SIM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6640" y="2023920"/>
          <a:ext cx="7316640" cy="17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2023920"/>
                    <a:ext cx="73166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838080" y="4699080"/>
          <a:ext cx="73375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699080"/>
                    <a:ext cx="7337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1523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752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una variable categórica al truncar una variable continu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i="1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distribución espacial multigaussi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32756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del umbral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espacio ocupado por cada unidad geológica. Por ejemplo, si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ambas unidades ocupan la mitad del espacio. En el caso general, la unidad “1” ocupa una proporción del espacio igual a G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la unidad “2” ocupa la proporción complementaria. De aquí se puede determinar el valor del umbral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2004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581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29256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lustración: truncación con distintos umb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noGauss_truncada" descr=""/>
          <p:cNvPicPr/>
          <p:nvPr/>
        </p:nvPicPr>
        <p:blipFill>
          <a:blip r:embed="rId1"/>
          <a:stretch/>
        </p:blipFill>
        <p:spPr>
          <a:xfrm>
            <a:off x="152280" y="2394000"/>
            <a:ext cx="87346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elación entre los variogramas de la Gaussiana y de su ind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19400"/>
            <a:ext cx="8381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a relación entre el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 la función aleatoria Gaussiana y el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 la variable indic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68440" y="3225960"/>
                <a:ext cx="5934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04920" y="42670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para el umbral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(indicador de la mediana),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7754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os otros umbrales, el variograma del indicador se puede calcular gracias a una integración numérica, o a un desarrollo en polinomios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47960" y="4897440"/>
                <a:ext cx="31719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rcsen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nálisis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270160"/>
            <a:ext cx="83055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tiene datos sobre la existencia de las unidades geológicas (0 ó 1) en sitios de muestreo, por lo cual se puede calcular el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 la variable indicad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busca el variograma correspondiente para la variable Gaussiana, invirtiendo la relación anterior entr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47984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de la variable 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i="1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ontrola la regularidad de la frontera entre ambas unidades geológicas: si este variograma es parabólico en el origen, se tendrá una frontera regular; sino la frontera será err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auss_truncada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4990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xtensión a más de dos unidades ge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784760"/>
            <a:ext cx="85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blema de esta definición es que conduce a unidades geológicas que está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rarquizad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pasar de la unidad “1” a la unidad “3”, se tiene que cruzar la unidad “2” (a menos que exista un efecto pepita). O sea, no se puede controlar los contactos entre unidades geológicas. Tampoco se tiene mucho control sobre los variogramas de las distintas unidad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ológ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ues todos ellos se deducen del variograma de la función aleatoria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2860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generaliza el procedimiento anterior al definir varias truncaciones de la misma función aleatoria Gaussi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27672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37180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37180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368520"/>
            <a:ext cx="76320" cy="1127160"/>
          </a:xfrm>
          <a:custGeom>
            <a:avLst/>
            <a:gdLst>
              <a:gd name="textAreaLeft" fmla="*/ 48960 w 76320"/>
              <a:gd name="textAreaRight" fmla="*/ 76320 w 76320"/>
              <a:gd name="textAreaTop" fmla="*/ 29160 h 1127160"/>
              <a:gd name="textAreaBottom" fmla="*/ 1098000 h 112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175280"/>
            <a:ext cx="2438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Xavier Emery</cp:lastModifiedBy>
  <dcterms:modified xsi:type="dcterms:W3CDTF">2007-10-22T19:35:18Z</dcterms:modified>
  <cp:revision>126</cp:revision>
  <dc:subject/>
  <dc:title>Presentación de PowerPoint</dc:title>
</cp:coreProperties>
</file>