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75BC-7E53-458C-B76B-DCD19370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7A77-49A6-4A4D-A7BB-A22E9C6A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B0FD-9423-4692-99CC-1FC80A3A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1FF2-58DF-4306-8C13-08EF2E4F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A50-12D9-4ADF-98B5-20F82506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C2FD-79C5-425D-80B3-56DFC8EC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D47D-8790-402A-9B28-78EEA13A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04E-E71B-4839-99E4-08A39C1D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73F2-F2EB-4E8A-B717-9E3ACD2A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8878-A1DA-43B6-A3A6-EA6121E3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94A9-CB9D-4EAB-9AD2-1ABDE82F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E0A4-F707-45E7-B583-71EAA056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76C1-5B07-4A0C-80A7-664B3016A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666880"/>
            <a:ext cx="8077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MI75D - LECCIÓN 3</a:t>
            </a:r>
            <a:r>
              <a:rPr b="1" lang="es-CL" sz="3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: </a:t>
            </a:r>
            <a:br>
              <a:rPr sz="3000"/>
            </a:br>
            <a:r>
              <a:rPr b="1" lang="es-CL" sz="3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IMULACIÓN GEOESTADÍSTICA. MODELO MULTI-GAUSSIA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odelo multi-Gaussia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622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que es lejos el más sencillo de to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82880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fini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a función aleatoria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tiene una distribución multi-Gaussiana si toda combinación lineal ponderada de sus valores sigue una distribución Gaussi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8796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 requiere en particular que el histograma sea Gauss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4290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odelo posee propiedades interesa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9625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aracteriza por sus dos primeros momentos (media y variogr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79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lquier variograma es compatible con la distribución multi-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501336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eorema del límite central facilita la búsqueda de algoritmos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validar la calidad de un algoritmo de simulació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90512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ar el histograma y el variograma de un conjunto de realizaciones con el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odelo (a causa de las fluctuaciones, no se debe considerar cada variograma por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eparado, sino que el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medio sobre muchas realizacion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4479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tudio de las estadísticas experimentales de las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9876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inar otros parámetros (madograma, variogramas de indicadore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358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tudio de las fluctuaciones ergód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03848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fluctuaciones observadas deben ser compatibles con aquellas esperadas en el modelo. En el caso del modelo multi-Gaussiano, para un dominio simulado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251000" y="5037120"/>
                <a:ext cx="6597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[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380880" y="5851440"/>
            <a:ext cx="8534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) es el covariograma geométrico de la intersección d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sladado por el vector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asos a seguir para la simu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76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Transformación de los datos a valores Gaussianos (anamorfos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27016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Verificación del carácter bi-Gaussiano; análisis variográfico de la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8796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Simulación de la función aleatoria multi-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3489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ción de un algoritmo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4038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ción de varias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463248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amiento a los datos Gaussianos disponibles (si el algoritmo no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lo hace directa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5627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Transformación Gaussiana inversa, para volver a la variable ori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23623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Algunos algoritmos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e simulación de funciones aleatorias multi-Gaussia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828800"/>
            <a:ext cx="84582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gamos que se busca simular una función aleatoria multi-Gaussiana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l espacio. La simulación secuencial se realiza de la siguiente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2971800"/>
            <a:ext cx="815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simular un valor Gaussiano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edia 0, varianza 1) y plantear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5654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para cada i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2,... n}, plante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5029200"/>
            <a:ext cx="815364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K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el kriging simple de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 partir de los valores previament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simulados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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K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la desviación estándar de kr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valor Gaussiano independiente de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200400" y="4267080"/>
                <a:ext cx="29718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8288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ada etapa, se simula el valor en un sitio y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grega el valor simulado a los datos condicionantes para simular los sitios siguient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489480"/>
            <a:ext cx="82296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muestra que el conjunto de valores simulados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 tiene una distribución multi-Gaussiana, con media 0 y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327560"/>
            <a:ext cx="82296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obtiene una simulación de la función aleatoria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26668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“secuenci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9370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teoría, se puede aplicar con cualquier modelo variog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55468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quiere usar un kriging simple (de media conocida = 0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8288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23623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sencillo y fácil de ejecu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9559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e refinar una simulación existente (aumentar la resolu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489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e realizar directament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ones condicional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un conjunto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 datos: se considera estos datos como si fueran valores ya simul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600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t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9718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lent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l sistema de kriging se vuelve cada vez más grande a medid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que se desarrolla la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117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s numéricos cuando se trata de simular un variograma muy regular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n el origen (matrices de kriging casi-singula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379404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ráctica, se restringe los valores condicionantes (datos iniciales +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valores previamente simulados) a los más cercanos del sitio a simular, e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decir, se usa una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indad móvi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9370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nte de imprecisión, que requiere ciertos “trucos” para minimizar su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fec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569916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atorización del orden de los sitios a simular, para evitar artef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623268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llas múltiples: simular en una malla amplia, luego refi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600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2117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de una función aleatoria Gaussiana de variograma esférico + pepa en un dominio de 400 × 400: variogramas de 100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3287880"/>
            <a:ext cx="4218120" cy="3417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697280" y="3289320"/>
            <a:ext cx="4218120" cy="3416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143000" y="289548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indad con 20 datos condicio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8954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indad con 100 datos condicio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descomposición matricial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676520"/>
            <a:ext cx="838224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una función aleatoria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y covarianza 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 –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l espacio. Se introduce la matriz de varianza-covarianza de los valores en estos sit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3032280"/>
            <a:ext cx="23623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,j = 1...m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37940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sa 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scomposición de Cholesk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ower-Upper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477120" y="3807000"/>
                <a:ext cx="9903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457200" y="43434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mente, se plante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114800" y="4916520"/>
                <a:ext cx="946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457200" y="554688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= 1... 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vector de variables Gaussianas independientes N(0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608004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= 1... 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 los valores simulados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ímites del krig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0574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kriging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uaviz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l mapa de los valores estimados es más suave que el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mapa de los valores verdad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54864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rianza de kriging no mide todas las fuentes de incertidumbre (no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oma en cuenta el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propor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971800"/>
            <a:ext cx="7620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puede predecir la ocurrencia de valores extrem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puede trabajar sobre el mapa de valores estimados como si s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trataran de los valores verdad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nsidad del suavizamiento depende de la cantidad de datos en la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vecin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descomposición matricial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2860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teóricamente correcto, se aplica a cualquier variograma y no comete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impr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31082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adaptar a la simulación condicional a un conjunto de da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4632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51656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escomposición de Choleski es muy lenta cuando el número de sitios 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imular es importante (&gt; 1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364176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vez que se tiene la descomposición de Choleski (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se puede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btener  numerosas realizaciones muy rápid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descomposición matricial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228600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de una función aleatoria Gaussiana de variograma esférico + pepa en un dominio de 400 × 100 (malla cada 4m): variogramas de 100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362320" y="3352680"/>
            <a:ext cx="422100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espectral continuo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eorema de Boch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22096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 función de covarianza 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ontinua en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transformada de Fourier de una medid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sitiva integra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43556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ecuencia aleatoria en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distribu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ase aleatoria de distribución uniforme en [0,2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276720" y="3181320"/>
                <a:ext cx="2514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r>
                              <m:t xml:space="preserve">h</m:t>
                            </m:r>
                            <m:r>
                              <m:t xml:space="preserve"> </m:t>
                            </m:r>
                            <m:r>
                              <m:t xml:space="preserve">|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&gt;</m:t>
                            </m:r>
                            <m:r>
                              <m:t xml:space="preserve"> </m:t>
                            </m:r>
                            <m:r>
                              <m:t xml:space="preserve">χ</m:t>
                            </m:r>
                            <m:r>
                              <m:t xml:space="preserve">(</m:t>
                            </m:r>
                            <m:r>
                              <m:t xml:space="preserve">dt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380880" y="3962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952720" y="5959440"/>
                <a:ext cx="34480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&gt;+</m:t>
                    </m:r>
                    <m:r>
                      <m:t xml:space="preserve">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457200" y="550224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lant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espectral continuo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889280"/>
            <a:ext cx="861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obtener una simulación a la ve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ódic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Gaussian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y que sumar numerosas simulaciones independientes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eorema del límite cent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5115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extremadamente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3962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os y cont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50292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ces, dificultad de explicitar la medida espectral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637000" y="2935440"/>
                <a:ext cx="39160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&gt;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6228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entras más rápido decrece 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la vecindad del origen, más component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lementales se debe sumar (a veces, varios cientos de mi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2096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car el problema de la simulación en espacios multidimensionales, usando simulaciones unidimensionales y “esparciéndolas” al espacio 2D o 3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40384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34290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&lt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45720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a función aleatoria uni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50292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vector del espacio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54864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x | u &gt;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proyección del siti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la recta orientada por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épandage espagnol" descr=""/>
          <p:cNvPicPr/>
          <p:nvPr/>
        </p:nvPicPr>
        <p:blipFill>
          <a:blip r:embed="rId1"/>
          <a:stretch/>
        </p:blipFill>
        <p:spPr>
          <a:xfrm>
            <a:off x="228600" y="2705040"/>
            <a:ext cx="8686800" cy="3238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2280" y="19810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aleatoria en 1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198108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arcimiento a 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lación entre las covarianzas en 1 y d dimen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281952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&lt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56544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 covarianza se vuelve isótropa si se sortea la dirección de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 azar, o sea, se reemplaza el vector determinístic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un vector aleatori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220968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n 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ovarianza de 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ovarianza de Y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Se tie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455616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{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&lt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)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5257800"/>
            <a:ext cx="8305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plicación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biyectiva, de modo que se puede simular un proceso multidimensional de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ayuda de un proceso unidimensional de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una dirección aleatoria, gracias a la fórmula de esparcimi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so de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220968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lación entre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muy sencill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581280" y="2857680"/>
                <a:ext cx="1990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r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380880" y="38098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so de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434340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lación entre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compl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895480" y="5051520"/>
                <a:ext cx="32004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80880" y="6095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nudo, se prefiere “sumergir”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imular una planta en 3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1: covarianza esférica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C1 C3 sph bis espagnol" descr=""/>
          <p:cNvPicPr/>
          <p:nvPr/>
        </p:nvPicPr>
        <p:blipFill>
          <a:blip r:embed="rId1"/>
          <a:stretch/>
        </p:blipFill>
        <p:spPr>
          <a:xfrm>
            <a:off x="380880" y="2878200"/>
            <a:ext cx="8180640" cy="3598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0492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arianzas en 1D y 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6708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aleatoria en 1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2: covarianza exponencial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C1 C3 exp bis espagnol" descr=""/>
          <p:cNvPicPr/>
          <p:nvPr/>
        </p:nvPicPr>
        <p:blipFill>
          <a:blip r:embed="rId1"/>
          <a:stretch/>
        </p:blipFill>
        <p:spPr>
          <a:xfrm>
            <a:off x="457200" y="2878200"/>
            <a:ext cx="8194680" cy="3598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0492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arianzas en 1D y 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aleatoria en 1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incipios de la simulación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73664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ir mapas de valores que reproducen 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ariabilidad re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variable en estudio (histograma, variograma, distribución espacial..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590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a mapa representa un escenario posi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2004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 de las simu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37339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álisis de riesg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scenario más optimista / pesim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2670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tim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romediar las “respuestas” obtenidas en los e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48610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dición de la incertidumbr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qué tan distintos son los e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5562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bilidad de realizar un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ambio de soport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l rebloquear los valore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n cada mapa simu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7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16765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 como en la simulación espectral, para obtener una simula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ódic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Gaussian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y que sumar numerosas simulaciones independientes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18456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r la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ociada 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272736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lgoritmo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417528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r 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unción aleatoria unidimensional de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470844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r una dirección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forme o “regular” 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200400" y="5819760"/>
                <a:ext cx="29066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&gt;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380880" y="36576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i = 1... 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52419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e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8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2133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puede tomar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lección de las dir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2666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arias alternativas exi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318456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“al azar” (uniformes en la esfe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37180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regulares (máximo = 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42512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equi-distribuidas (casi regula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502920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úmero de dir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56228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conseja tomar varios centenares de direcciones, o incluso varios m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unif" descr=""/>
          <p:cNvPicPr/>
          <p:nvPr/>
        </p:nvPicPr>
        <p:blipFill>
          <a:blip r:embed="rId1"/>
          <a:srcRect l="18472" t="7557" r="16093" b="11134"/>
          <a:stretch/>
        </p:blipFill>
        <p:spPr>
          <a:xfrm>
            <a:off x="609480" y="2743200"/>
            <a:ext cx="3409920" cy="3238560"/>
          </a:xfrm>
          <a:prstGeom prst="rect">
            <a:avLst/>
          </a:prstGeom>
          <a:ln w="0">
            <a:noFill/>
          </a:ln>
        </p:spPr>
      </p:pic>
      <p:pic>
        <p:nvPicPr>
          <p:cNvPr id="243" name="vdc" descr=""/>
          <p:cNvPicPr/>
          <p:nvPr/>
        </p:nvPicPr>
        <p:blipFill>
          <a:blip r:embed="rId2"/>
          <a:srcRect l="18269" t="7827" r="15486" b="11404"/>
          <a:stretch/>
        </p:blipFill>
        <p:spPr>
          <a:xfrm>
            <a:off x="4876920" y="2743200"/>
            <a:ext cx="3467160" cy="3247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33520" y="21178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direcciones unifor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24280" y="2117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direcciones equi-distribu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6765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1: simulación de una función aleatoria de covarianza esférica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bandes tournantes 1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2580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1676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2: simulación de una función aleatoria de covarianza esférica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bandes tournantes 2" descr=""/>
          <p:cNvPicPr/>
          <p:nvPr/>
        </p:nvPicPr>
        <p:blipFill>
          <a:blip r:embed="rId1"/>
          <a:srcRect l="0" t="0" r="0" b="4180"/>
          <a:stretch/>
        </p:blipFill>
        <p:spPr>
          <a:xfrm>
            <a:off x="419040" y="2085840"/>
            <a:ext cx="82677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pl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22860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de una función aleatoria Gaussiana de variograma esférico + pepa en un dominio de 400 × 400: variogramas de 100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286000" y="3362400"/>
            <a:ext cx="4164120" cy="3419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57200" y="31240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rectas equi-distribu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Otros algoritm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19384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s espectrales discret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tilizan la transformación de Fourier discr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28036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s de convolu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edias móviles y procesos autoregres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41911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de di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4800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de tese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158436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étodos exactos para simulación en una malla re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35812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étodos aproximados basados en el teorema del límite cent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447920" y="265104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dicionamiento a un conjunto de da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dicionamiento directo o por krig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32446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secu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265104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métodos permiten obtener directamente simulaciones condicion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37782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de descomposición matr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45561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todos los otros métodos, se generan simulaciones no condicionales, luego se aplica un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kriging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condicionarlas a un conjunto de da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16765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mulación se dice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ando restituye los valores de los datos en los sitios de muestr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dicionamiento por kriging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3625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el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ging simpl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artir de los datos condicio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30481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415908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una simulación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ondicion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el siti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577548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étodo es válido cuando se simula una función aleatori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obtiene al plante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781360" y="2438280"/>
                <a:ext cx="36702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380880" y="4708440"/>
            <a:ext cx="80773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el kriging simple de la simulación no condicional a partir de sus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valores en los sitios con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incipios de la simulación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73664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mulación se basa en la interpretación de la variable regionalizada como una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una función ale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590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construir otras realizaciones de esta misma función ale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20040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ello, es preciso conocer 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istribución espaci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función aleatoria,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s decir, el conjunto de las distribuciones de probabilidad de múltiples pun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396252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univariable (histogr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447984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ones bi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501336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ones trivariables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56386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er el valor de la media y el variograma es insu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dicionamiento por kriging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21938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una distribución multi-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46324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ráctica, basta con realizar un solo kriging, al escrib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1676520"/>
            <a:ext cx="8382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mostr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stablecer que 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C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mple con las siguientes propieda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27273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esperanza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3260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la misma covarianza que Y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37940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ituye los valores de los datos en los sitios de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921040" y="5334120"/>
                <a:ext cx="34797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380880" y="60040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jos de los datos, el condicionamiento es inactivo: la simulación condicional coincide con la simulación no condi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447920" y="265104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licación a lo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atos de And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plicación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4920" y="17524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mulación condicional (método secuencial Gaussiano, 50 realizac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23464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es de cobre simuladas (soporte puntual) en una malla de 2m × 2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52280" y="3048120"/>
            <a:ext cx="8705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plicación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17524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Uso de las simu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227016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bloquear a unidades de selección minera (10m × 10m × 12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52280" y="3030480"/>
            <a:ext cx="8705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plicación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4920" y="16002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ión de las leyes de bloques y de su incertidu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medio de las realizaciones es similar a una estimación por kr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630864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rianza de las realizaciones toma en cuenta el efecto propor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063800" y="2209680"/>
            <a:ext cx="701352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plicación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16002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ión de los recursos recuperables sobre una ley de corte de 0.5%C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600408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s mapas no pueden ser obtenidos por kriging, debido al suavizamiento de é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063800" y="2209680"/>
            <a:ext cx="701352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plicación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16002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as aplicaciones posibles de las simu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27432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izar recursos y reser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32608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ño de pit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37940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ificación mi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22096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álisis de riesgo, cálculos de V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880" y="43275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de leyes (planta / botad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48769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nciliación de leyes (mina / plan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ibliografía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267984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ès J.P.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finer P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7,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crete exact simulation by the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ier method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afi E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nd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chofield N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ds.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statistics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llongong’96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luwer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, Dordrecht, p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8–269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342900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s M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7,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 of conditional simulations via the LU triangular decomposition of the covariance matrix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Geology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19,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2, p. 91-98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190512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 T.C. and Freyberg D.L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0, Simulation of one-dimensional correlated fields using a matrix-factorization moving average approach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Geolo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22, nº1, p. 39-62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880" y="419112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trich C.R. and Newsam G.N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3, A fast and exact method for multidimensional Gaussian stochastic simulations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Resources Researc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29, nº8, p. 2861-286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496584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y X. and Lantuéjoul C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06, TBSIM: A computer program for conditional simulation of three-dimensional Gaussian random fields via the turning bands method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s &amp; Geoscienc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32, nº10, p. 1615-162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ibliografía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421956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do-Igúzquiza E. and Chica-Olmo M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3, The Fourier integral method - an efficient spectral method for simulation of random fields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Geolo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25, nº2, p. 177-217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152388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ómez-Hernández J. J. and Cassiraga E. F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4, Theory and practice of sequential simulation, </a:t>
            </a:r>
            <a:br>
              <a:rPr sz="1600"/>
            </a:b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. Armstrong and P. A. Dowd (eds.), Geostatistical simulations, Kluwer Academic Publishers, Dordrecht, Holland, p. 111-124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251460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tuéjoul C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4, Non conditional simulation of stationary isotropic multigaussian random function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. Armstrong and P. A. Dowd (eds.), Geostatistical simulations, Kluwer Academic Publishers, Dordrecht, Holland, p. 147-177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344160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ron G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73, The intrinsic random functions and their application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ces in Applied Probability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5, p. 439-468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495288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nozuka M. J. and Jan C. M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72, Digital simulation of random processes and its application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urnal of sound and vibrations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25, nº1, p. 111-12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571500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4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mproving variogram reproduction on dense simulation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d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s &amp; Geoscience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20, nº7, p. 1161-116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lemento: generación de números aleator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incipios de la simulación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523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ción de “fluctuaciones ergódic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04156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función aleatoria es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ódic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 las estadísticas experimentales (histograma, variograma, etc.) calculadas sobre una realización particular, convergen hacia las estadísticas del modelo cuando el dominio se vuelve muy gra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3260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l dominio simulado siempre está aco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387036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lo tanto, se espera observar discrepancias (“fluctuaciones ergódicas”) entre las estadísticas experimentales y aquellas del modelo teórico. Para el variograma, las fluctuaciones son pequeñas cerca del origen y se vuelven considerables para distancias mayores que la mitad del diámetro del campo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roduc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" y="18288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r números que puedan ser considerados como realizaciones de una variable aleatoria con una distribución de probabilidad dad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295596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punto de vista computacional, todos los métodos de simulación de números “al azar” generan secuencias periódicas. Por lo tanto, se contenta con generar una sucesión de números “seudo-aleatorios”, cuyo período es suficientemente largo para que presenten, para el usuario, todas las características de números al aza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números uniformes en [0,1]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4920" y="29718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étodo de las congruencias o método multiplic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021120" y="2057400"/>
                <a:ext cx="27972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si  0</m:t>
                            </m:r>
                            <m:r>
                              <m:t xml:space="preserve">&lt;</m:t>
                            </m:r>
                            <m:r>
                              <m:t xml:space="preserve">u</m:t>
                            </m:r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ensidad de probabilidad de una variable U uniforme en [0,1]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344484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étodo se basa en dos naturales: el “multiplicador”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el “modulo”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al qu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2,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]. Se genera una sucesión {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entre 0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al plantear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2514600" y="4435560"/>
                <a:ext cx="16002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4114800" y="4359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úmero de “semilla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54259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 se define como valores simulados de 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6035760"/>
            <a:ext cx="83822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u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números uniformes en [0,1]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196524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 :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..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4920" y="242244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1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 :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…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920" y="287964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 :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…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35654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que la sucesión de números simulados tenga el periodo máximo 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, se requieren las siguientes con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4920" y="4403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número pri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48610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 / 2 es un número pri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533520" y="5362560"/>
                <a:ext cx="16002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≡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304920" y="53341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4920" y="59436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ejemplo,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0 000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0 041 463 verifican estas tres condicion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étodo de la inversión o de la anamorfosis uni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19652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una variable aleatoria X con función de 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4920" y="31240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 U una variable uniforme en [0,1], ento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4403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decir, F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) tiene la misma distribución que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733920" y="2590920"/>
                <a:ext cx="21333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2367000" y="3825720"/>
                <a:ext cx="494352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&lt;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304920" y="51656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étodo sólo requiere que la función F sea invertible y permite simular una variable cualquiera a partir de una variable unifor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 distribución expon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920" y="2117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 = 1 – exp(– x) para x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4920" y="2743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F(X) = U, o sea X = – ln(1 – 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exponentielle2 espagnol" descr=""/>
          <p:cNvPicPr/>
          <p:nvPr/>
        </p:nvPicPr>
        <p:blipFill>
          <a:blip r:embed="rId1"/>
          <a:stretch/>
        </p:blipFill>
        <p:spPr>
          <a:xfrm>
            <a:off x="2438280" y="3352680"/>
            <a:ext cx="434340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étodo de aceptación y rech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19652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una variable aleatoria X de densidad de probabilidad f(x). Se supone que se conoce una densidad g(x) y una constante C tal qu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920" y="33368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étodo de aceptación y rechazo consiste en generar puntos (X,Y) uniformes en el área bajo la curva C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(x), plantean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4920" y="41752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variable aleatoria de densidad de probabilidad g(x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3733920" y="2879640"/>
                <a:ext cx="1752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304920" y="47084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U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(X) con U variable aleatoria uniforme en [0,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4920" y="531828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, se eliminan los puntos (X,Y) que no están en el área bajo f. Se muestra que la abscisa X de los puntos no rechazados sigue la distribución que se busca simular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imitar el número de intentos, hay que tomar la menor constante C posibl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gauss002 espagnol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532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mulación por iteraciones markovi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1965240"/>
            <a:ext cx="83818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incipio consiste en construir una sucesión de estados aleatorios {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cuya distribución converge hacia la distribución de probabilidad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se desea simular. En lo siguiente, se denota como I el conjunto de los valores posibles de estos estados y se supone que este conjunto es finito o numerable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341316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ótesi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" y="388620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stado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ólo depende del estado anterior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-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ena de Marko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4920" y="441972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dena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ogéne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, la matriz de probabilidades de transi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ntre un estado y el estado siguiente es estacionari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 depende del orden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" y="52578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triz de transi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p+1)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 un estado y un estado separado por p+1 se calcula por recurrenci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657600" y="6095880"/>
                <a:ext cx="2057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dena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ducibl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 sea, todos los estados pueden comunicar entre sí: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4920" y="2666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dena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eriódic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62520" y="32608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1 como mayor denominador comú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4920" y="3870360"/>
            <a:ext cx="8381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stribu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se busca simular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riant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la matriz de transición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cadena, es decir, si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gue la distribu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tonces lo mismo pas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on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+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sto se traduce por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" y="5791320"/>
            <a:ext cx="81532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jo estas condiciones, se establece qu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distribución asintótica de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dependientemente del estado inicial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ice también qu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límite ergódico de la matriz de transi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081240" y="2057400"/>
                <a:ext cx="30560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∈</m:t>
                    </m:r>
                    <m:r>
                      <m:t xml:space="preserve">N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 tal  que  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762120" y="3216240"/>
                <a:ext cx="32414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 tal  que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505320" y="5029200"/>
                <a:ext cx="2133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7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ción de la matriz de transición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4920" y="204156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 una 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reducible, tal qu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4920" y="35053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n varias maneras de definir la 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43434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 de Metropolis-Hasting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905120" y="2666880"/>
                <a:ext cx="2435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304920" y="54259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 de Barker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172040" y="4038480"/>
                <a:ext cx="45352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∀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≠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ín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2819520" y="5181480"/>
                <a:ext cx="350496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257800" y="2717640"/>
                <a:ext cx="2209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tal  que  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1447920" y="2666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00600" y="27273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condicional vs. no condici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73664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que sea realista, es deseable que cada mapa respete los valores conocidos en los sitios de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5750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“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318456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reproducir l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espacial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.e. condicional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a los datos disponibles o “loc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40388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mulación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 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sca solamente construir mapas que tienen la misma variabilidad que la variable en estudio, pero sin tomar en cuenta los valores de los da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56228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ca reproducir l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espacial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8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 distribución de Poisson de parámetro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4920" y="19652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 la siguiente 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3886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inicialización: i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chaine de Markov2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629400" cy="12765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304920" y="4343400"/>
            <a:ext cx="830556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simular una variable aleatori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gual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–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on la 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 con la 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con la probabilidad complementaria P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04920" y="623268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plantear i = i +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volver en 2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200400" y="4811760"/>
                <a:ext cx="19810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í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3211560" y="5275440"/>
                <a:ext cx="2795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ín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θ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lustración: perfiles de le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simu vs krigeage2 espagnol" descr=""/>
          <p:cNvPicPr/>
          <p:nvPr/>
        </p:nvPicPr>
        <p:blipFill>
          <a:blip r:embed="rId1"/>
          <a:stretch/>
        </p:blipFill>
        <p:spPr>
          <a:xfrm>
            <a:off x="1447920" y="1104840"/>
            <a:ext cx="6400800" cy="5700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05120" y="9907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242244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kr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37339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mulación con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os aspectos del problema de la simu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27273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Tener herramientas para inferir un modelo y validar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3368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Construir realizaciones correspondientes al modelo de distribución espa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3946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Condicionar las realizacion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s datos dispon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21178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Definir un modelo de distribución espa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861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a lección, el primer punto se restringe al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multi-Gaussian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stintos modelos de distribución espaci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523280" cy="256068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690480" y="3962520"/>
            <a:ext cx="7919640" cy="2709360"/>
            <a:chOff x="690480" y="3962520"/>
            <a:chExt cx="7919640" cy="270936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774360" y="4349520"/>
              <a:ext cx="2303280" cy="228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3452400" y="4363920"/>
              <a:ext cx="2303280" cy="228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4"/>
            <a:stretch/>
          </p:blipFill>
          <p:spPr>
            <a:xfrm>
              <a:off x="6130800" y="4386240"/>
              <a:ext cx="2285640" cy="22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690480" y="3971880"/>
              <a:ext cx="25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o plurigaussia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95440" y="3962520"/>
              <a:ext cx="268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o de hojas muer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95880" y="3966840"/>
              <a:ext cx="25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o jerárqu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9:07:57Z</dcterms:created>
  <dc:creator>Xavier Emery</dc:creator>
  <dc:description/>
  <dc:language>en-US</dc:language>
  <cp:lastModifiedBy>Xavier Emery</cp:lastModifiedBy>
  <dcterms:modified xsi:type="dcterms:W3CDTF">2007-09-12T16:38:21Z</dcterms:modified>
  <cp:revision>157</cp:revision>
  <dc:subject/>
  <dc:title>Sin título de diapositiva</dc:title>
</cp:coreProperties>
</file>