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B55-D0B6-4344-ABBA-4A5AC23D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C40-0A30-414F-A037-B14A82D6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67A-D0DF-4CA3-82A7-9CF1B722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5D3-A957-4039-9688-023486C6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4A5-F7D1-4FA5-AFDD-44314096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1D8-BB96-416C-ADBC-9E45240B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F28-26C8-46EF-8349-39C8B07B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27C-8DEA-4C41-933C-6E96A339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857-B159-48E0-B4E1-FD7AFB61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1DF-2741-474A-9665-55385358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D58-2A0E-465E-AB60-FB607749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4C7-86B0-42F3-9544-06CABA5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3F35-9DA6-49A9-B9A9-936632255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66688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MI75D - LECCIÓN 3</a:t>
            </a: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</a:t>
            </a:r>
            <a:br>
              <a:rPr sz="3000"/>
            </a:br>
            <a:r>
              <a:rPr b="1" lang="es-CL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IMULACIÓN GEOESTADÍSTICA. MODELO MULTI-GAUSSIA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odelo multi-Gaussia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622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que es lejos el más sencillo de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8288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fini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tiene una distribución multi-Gaussiana si toda combinación lineal ponderada de sus valores sigue una distribución Gauss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8796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requiere en particular que el histograma sea Gaus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posee propiedades interes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962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aracteriza por sus dos primeros momentos (media y vari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lquier variograma es compatible con la distribución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50133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eorema del límite central facilita la búsqueda de algoritmos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validar la calidad de un algoritmo de simul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90512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el histograma y el variograma de un conjunto de realizaciones con e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elo (a causa de las fluctuaciones, no se debe considerar cada variograma po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eparado, sino que 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edio sobre muchas realiz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447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estadísticas experimentales de l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9876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r otros parámetros (madograma, variogramas de indicador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udio de las fluctuaciones ergó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0384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luctuaciones observadas deben ser compatibles con aquellas esperadas en el modelo. En el caso del modelo multi-Gaussiano, para un dominio simulad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51000" y="5037120"/>
                <a:ext cx="659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80880" y="5851440"/>
            <a:ext cx="853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es el covariograma geométrico de la intersección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sladado por el vector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asos a seguir para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ransformación de los datos a valores Gaussianos (anamorfo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2701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erificación del carácter bi-Gaussiano; análisis variográfico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8796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mulación de la función aleatoria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489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ción de un algoritm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varias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6324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miento a los datos Gaussianos disponibles (si el algoritmo no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lo hace directa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562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ransformación Gaussiana inversa, para volver a la variabl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lgunos algoritmo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 simulación de funciones aleatorias multi-Gaussia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828800"/>
            <a:ext cx="8458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mos que se busca simular una función aleatoria multi-Gaussian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La simulación secuencial se realiza de la siguiente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97180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mular un valor Gaussiano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dia 0, varianza 1) y plantear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5654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ara cada i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2,... n}, 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029200"/>
            <a:ext cx="815364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partir de los valores previament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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K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la desviación estándar de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alor Gaussiano independiente de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U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200400" y="4267080"/>
                <a:ext cx="297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828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da etapa, se simula el valor en un sitio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el valor simulado a los datos condicionantes para simular los sitios siguient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489480"/>
            <a:ext cx="82296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muestra que el conjunto de valores simulados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 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tiene una distribución multi-Gaussiana, con media 0 y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327560"/>
            <a:ext cx="8229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una simulación de la función aleatoria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“secuen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93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oría, se puede aplicar con cualquier modelo variog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546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usar un kriging simple (de media conocida = 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ncillo y fácil de ejecu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95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finar una simulación existente (aumentar la resolu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489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realizar directament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ones condiciona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n conjunt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datos: se considera estos datos como si fueran valores ya simu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971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lent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sistema de kriging se vuelve cada vez más grande a medid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desarrolla la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s numéricos cuando se trata de simular un variograma muy regular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 el origen (matrices de kriging casi-sin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794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se restringe los valores condicionantes (datos iniciales +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lores previamente simulados) a los más cercanos del sitio a simular, 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decir, se usa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móvi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9370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nte de imprecisión, que requiere ciertos “trucos” para minimizar su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fec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991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atorización del orden de los sitios a simular, para evitar artef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6232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as múltiples: simular en una malla amplia, luego ref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goritmo secuencial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600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117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3287880"/>
            <a:ext cx="4218120" cy="341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97280" y="3289320"/>
            <a:ext cx="4218120" cy="341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43000" y="2895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con 20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895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indad con 100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676520"/>
            <a:ext cx="8382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función aleatoria {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 variogram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 –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del espacio. Se introduce la matriz de varianza-covarianza de los valores en estos sit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3032280"/>
            <a:ext cx="23623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 = 1...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7940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sa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scomposición de Cholesk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wer-Upper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477120" y="3807000"/>
                <a:ext cx="990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57200" y="4343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plant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114800" y="4916520"/>
                <a:ext cx="94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57200" y="554688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 variables Gaussianas independientes N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08004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Y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= 1... 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los valores simulados en los sitios {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ímites del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0574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riging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aviz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mapa de los valores estimados es más suave que el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apa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4864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kriging no mide todas las fuentes de incertidumbre (no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oma en cuenta el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propor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97180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predecir la ocurrencia de valores extrem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trabajar sobre el mapa de valores estimados como si se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rataran de los valores verdad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l suavizamiento depende de la cantidad de datos en la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ecin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286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teóricamente correcto, se aplica a cualquier variograma y no comet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mpr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108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daptar a la simulación condicional a un conjunto de d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6324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65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omposición de Choleski es muy lenta cuando el número de sitios 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imular es importante (&gt;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6417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que se tiene la descomposición de Choleski (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puede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btener  numerosas realizaciones muy ráp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descomposición matricial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2860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100 (malla cada 4m)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221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orema de Boch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209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 función de covarianza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ntinu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transformada de Fourier de una medid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itiva integr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43556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ecuencia aleatoria en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se aleatoria de distribución uniforme en [0,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3181320"/>
                <a:ext cx="2514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χ</m:t>
                            </m:r>
                            <m:r>
                              <m:t xml:space="preserve">(</m:t>
                            </m:r>
                            <m:r>
                              <m:t xml:space="preserve">d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952720" y="5959440"/>
                <a:ext cx="3448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&gt;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57200" y="55022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lant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espectral continuo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8892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imulación a la ve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orema del límite cent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11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extremadamente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962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os y con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5029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ces, dificultad de explicitar la medida espectral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637000" y="2935440"/>
                <a:ext cx="3916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&gt;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622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ras más rápido decrece C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la vecindad del origen, más componente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ementales se debe sumar (a veces, varios cientos de m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2096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car el problema de la simulación en espacios multidimensionales, usando simulaciones unidimensionales y “esparciéndolas” al espacio 2D o 3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4038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429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4572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a función aleatoria uni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50292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vector del espacio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4864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 | u &gt;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yección d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la recta orientada por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épandage espagnol" descr=""/>
          <p:cNvPicPr/>
          <p:nvPr/>
        </p:nvPicPr>
        <p:blipFill>
          <a:blip r:embed="rId1"/>
          <a:stretch/>
        </p:blipFill>
        <p:spPr>
          <a:xfrm>
            <a:off x="228600" y="2705040"/>
            <a:ext cx="8686800" cy="3238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2280" y="1981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1981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rcimiento a 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lación entre las covarianzas en 1 y d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81952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565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covarianza se vuelve isótropa si se sortea la dirección d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azar, o sea, se reemplaza el vector determinístic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un vector aleator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096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n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varianza d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45561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{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&lt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257800"/>
            <a:ext cx="8305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plicación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biyectiva, de modo que se puede simular un proceso mult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ayuda de un proceso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dirección aleatoria, gracias a la fórmula de espar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096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muy sencil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581280" y="2857680"/>
                <a:ext cx="1990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80880" y="38098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so de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34340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ación entre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compl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895480" y="5051520"/>
                <a:ext cx="3200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808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nudo, se prefiere “sumergir”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r una planta en 3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C1 C3 sph bis espagnol" descr=""/>
          <p:cNvPicPr/>
          <p:nvPr/>
        </p:nvPicPr>
        <p:blipFill>
          <a:blip r:embed="rId1"/>
          <a:stretch/>
        </p:blipFill>
        <p:spPr>
          <a:xfrm>
            <a:off x="380880" y="2878200"/>
            <a:ext cx="8180640" cy="3598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covarianza exponencial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C1 C3 exp bis espagnol" descr=""/>
          <p:cNvPicPr/>
          <p:nvPr/>
        </p:nvPicPr>
        <p:blipFill>
          <a:blip r:embed="rId1"/>
          <a:stretch/>
        </p:blipFill>
        <p:spPr>
          <a:xfrm>
            <a:off x="457200" y="2878200"/>
            <a:ext cx="8194680" cy="3598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arianzas en 1D y 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243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aleatoria en 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7366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 mapas de valores que reproducen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ariabilidad re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en estudio (histograma, variograma, distribución espa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mapa representa un escenario po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2004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733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álisis de riesg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cenario más optimista / pesim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267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tim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mediar las “respuestas” obtenidas e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861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dición de la incertidumbr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qué tan distintos son los e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562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bilidad de realizar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mbio de sopor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 rebloquear los valores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n cada mapa simu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como en la simulación espectral, para obtener una simula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y que sumar numerosas simulaciones independientes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18456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la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a 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7273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goritm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175280"/>
            <a:ext cx="7848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unción aleatoria unidimensional de covarianza 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470844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r una dirección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forme o “regular” 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00400" y="5819760"/>
                <a:ext cx="2906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80880" y="3657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 = 1...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2419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133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puede toma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lección de la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666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as alternativa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184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“al azar” (uniformes en la e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7180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regulares (máximo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2512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ones equi-distribuidas (casi regu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úmero de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5622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onseja tomar varios centenares de direcciones, o incluso varios m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unif" descr=""/>
          <p:cNvPicPr/>
          <p:nvPr/>
        </p:nvPicPr>
        <p:blipFill>
          <a:blip r:embed="rId1"/>
          <a:srcRect l="18472" t="7557" r="16093" b="11134"/>
          <a:stretch/>
        </p:blipFill>
        <p:spPr>
          <a:xfrm>
            <a:off x="609480" y="2743200"/>
            <a:ext cx="3409920" cy="3238560"/>
          </a:xfrm>
          <a:prstGeom prst="rect">
            <a:avLst/>
          </a:prstGeom>
          <a:ln w="0">
            <a:noFill/>
          </a:ln>
        </p:spPr>
      </p:pic>
      <p:pic>
        <p:nvPicPr>
          <p:cNvPr id="243" name="vdc" descr=""/>
          <p:cNvPicPr/>
          <p:nvPr/>
        </p:nvPicPr>
        <p:blipFill>
          <a:blip r:embed="rId2"/>
          <a:srcRect l="18269" t="7827" r="15486" b="11404"/>
          <a:stretch/>
        </p:blipFill>
        <p:spPr>
          <a:xfrm>
            <a:off x="4876920" y="2743200"/>
            <a:ext cx="3467160" cy="3247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33520" y="21178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2117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direccione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6765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1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bandes tournantes 1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580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jemplo 2: simulación de una función aleatoria de covarianza esférica en </a:t>
            </a:r>
            <a:r>
              <a:rPr b="1" lang="es-CL" sz="2000" spc="-1" strike="noStrike">
                <a:solidFill>
                  <a:srgbClr val="cc0000"/>
                </a:solidFill>
                <a:latin typeface="Arial Unicode MS"/>
                <a:ea typeface="Times New Roman"/>
              </a:rPr>
              <a:t>R</a:t>
            </a:r>
            <a:r>
              <a:rPr b="1" lang="es-CL" sz="2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bandes tournantes 2" descr=""/>
          <p:cNvPicPr/>
          <p:nvPr/>
        </p:nvPicPr>
        <p:blipFill>
          <a:blip r:embed="rId1"/>
          <a:srcRect l="0" t="0" r="0" b="4180"/>
          <a:stretch/>
        </p:blipFill>
        <p:spPr>
          <a:xfrm>
            <a:off x="419040" y="2085840"/>
            <a:ext cx="8267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étodo de bandas rotantes (1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2860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de una función aleatoria Gaussiana de variograma esférico + pepa en un dominio de 400 × 400: variogramas de 100 real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0" y="3362400"/>
            <a:ext cx="4164120" cy="3419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31240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rectas equi-distribu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tros algoritm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1938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s espectrales discre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tilizan la transformación de Fourier discr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803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s de convolu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dias móviles y procesos autoregre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41911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4800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tes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5843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todos exactos para simulación en una malla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35812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todos aproximados basados en el teorema del límite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cionamiento a un conjunto de d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directo o por kri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244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secu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65104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métodos permiten obtener directamente simulaciones condi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778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descomposición 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5561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odos los otros métodos, se generan simulaciones no condicionales, luego se aplica u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dicionarlas a un conjunto de da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676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dice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ndo restituye los valores de los datos en los sitios de muestr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62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 simp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ir de los datos condicio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0481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15908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una simulación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iti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7754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es válido cuando se simula una función aleatori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676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obtiene al plant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781360" y="2438280"/>
                <a:ext cx="3670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80880" y="470844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 el kriging simple de la simulación no condicional a partir de sus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lores en los sitios con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366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se basa en la interpretación de la variable regionalizada como una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construir otras realizaciones de esta misma función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2004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ello, es preciso conocer la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istribución espac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función aleatoria,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s decir, el conjunto de las distribuciones de probabilidad de múltiple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962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univariable (histogr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47984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bi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01336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ones trivariable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el valor de la media y el variograma es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dicionamiento por kriging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21938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una distribución multi-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46324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ráctica, basta con realizar un solo kriging, al escri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6765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mostració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tablecer que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mple co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727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esperanza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3260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misma covarianza que Y(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3794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ituye los valores de los dat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921040" y="5334120"/>
                <a:ext cx="3479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6004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jos de los datos, el condicionamiento es inactivo: la simulación condicional coincide con la simulación no condi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47920" y="265104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licación a lo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tos de And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 (método secuencial Gaussiano, 50 realiza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346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 de cobre simuladas (soporte puntual) en una malla de 2m × 2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870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1752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o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22701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bloquear a unidades de selección minera (10m × 10m × 12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2280" y="3030480"/>
            <a:ext cx="870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as leyes de bloques y de su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medio de las realizaciones es similar a una estimación por 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63086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las realizaciones toma en cuenta el efecto propor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63800" y="2209680"/>
            <a:ext cx="7013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los recursos recuperables sobre una ley de corte de 0.5%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60040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mapas no pueden ser obtenidos por kriging, debido al suavizamiento de é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063800" y="2209680"/>
            <a:ext cx="70135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plicación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16002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s aplicaciones posibles de las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7432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zar recursos y rese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260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de pit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7940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mi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0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riesgo, cálculos de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43275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de leyes (planta / botad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4876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ciliación de leyes (mina / plan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67984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ès J.P.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finer P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7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rete exact simulation by th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ier method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afi 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n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hofield 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ds.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statistics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llongong’96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uwer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, Dordrecht, p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8–269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3429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s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,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conditional simulations via the LU triangular decomposition of the covariance matrix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19,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2, p. 91-98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9051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T.C. and Freyberg D.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0, Simulation of one-dimensional correlated fields using a matrix-factorization moving average approach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2, nº1, p. 39-62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41911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rich C.R. and Newsam G.N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3, A fast and exact method for multidimensional Gaussian stochastic simulation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Resources Resear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9, nº8, p. 2861-286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496584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y X. and Lantuéjoul C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6, TBSIM: A computer program for conditional simulation of three-dimensional Gaussian random fields via the turning bands method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&amp; Geoscien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32, nº10, p. 1615-16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bliografí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421956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do-Igúzquiza E. and Chica-Olmo 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3, The Fourier integral method - an efficient spectral method for simulation of random fields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Ge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2, p. 177-217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52388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ómez-Hernández J. J. and Cassiraga E. F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Theory and practice of sequential simulation, </a:t>
            </a:r>
            <a:br>
              <a:rPr sz="1600"/>
            </a:b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11-12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51460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tuéjoul C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4, Non conditional simulation of stationary isotropic multigaussian random func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 Armstrong and P. A. Dowd (eds.), Geostatistical simulations, Kluwer Academic Publishers, Dordrecht, Holland, p. 147-17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4416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ron G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3, The intrinsic random functions and their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s in Applied Probability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5, p. 439-468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95288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nozuka M. J. and Jan C. M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2, Digital simulation of random processes and its applications,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 of sound and vibrations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5, nº1, p. 111-1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57150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mproving variogram reproduction on dense simulatio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d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&amp; Geoscienc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0, nº7, p. 1161-116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lemento: generación de números aleato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incipios de la simulación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523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ción de “fluctuaciones ergódi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0415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función aleatoria es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ódic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las estadísticas experimentales (histograma, variograma, etc.) calculadas sobre una realización particular, convergen hacia las estadísticas del modelo cuando el dominio se vuelve muy gr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26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 dominio simulado siempre está aco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870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, se espera observar discrepancias (“fluctuaciones ergódicas”) entre las estadísticas experimentales y aquellas del modelo teórico. Para el variograma, las fluctuaciones son pequeñas cerca del origen y se vuelven considerables para distancias mayores que la mitad del diámetro del camp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r números que puedan ser considerados como realizaciones de una variable aleatoria con una distribución de probabilidad dad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295596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unto de vista computacional, todos los métodos de simulación de números “al azar” generan secuencias periódicas. Por lo tanto, se contenta con generar una sucesión de números “seudo-aleatorios”, cuyo período es suficientemente largo para que presenten, para el usuario, todas las características de números al az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29718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s congruencias o método multipl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021120" y="2057400"/>
                <a:ext cx="27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si  0</m:t>
                            </m:r>
                            <m:r>
                              <m:t xml:space="preserve">&lt;</m:t>
                            </m:r>
                            <m:r>
                              <m:t xml:space="preserve">u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de probabilidad de una variable U uniforme en [0,1]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344484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e basa en dos naturales: el “multiplicador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l “modulo”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l qu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2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]. Se genera una sucesión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entre 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l plantea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14600" y="4435560"/>
                <a:ext cx="160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4114800" y="43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úmero de “semill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54259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 se define como valores simulados de 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6035760"/>
            <a:ext cx="83822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u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números uniformes en [0,1]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19652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..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24224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87964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 :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…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35654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la sucesión de números simulados tenga el periodo máximo 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, se requieren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4861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/ 2 es un número pri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33520" y="5362560"/>
                <a:ext cx="16002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≡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04920" y="53341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920" y="5943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ejemplo,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000 y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 041 463 verifican estas tres condici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la inversión o de la anamorfosis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con función de 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31240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U una variable uniforme en [0,1]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4403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F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) tiene la misma distribución qu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33920" y="259092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367000" y="3825720"/>
                <a:ext cx="4943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04920" y="51656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étodo sólo requiere que la función F sea invertible y permite simular una variable cualquiera a partir de una variable unifor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117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1 – exp(– x) para x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743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(X) = U, o sea X = – ln(1 – 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exponentielle2 espagnol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343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étodo de aceptación y rech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1965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simular una variable aleatoria X de densidad de probabilidad f(x). Se supone que se conoce una densidad g(x) y una constante C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33368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étodo de aceptación y rechazo consiste en generar puntos (X,Y) uniformes en el área bajo la curva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, plantean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4175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variable aleatoria de densidad de probabilidad g(x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733920" y="2879640"/>
                <a:ext cx="1752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304920" y="47084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U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X) con U variable aleatoria uniforme en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53182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se eliminan los puntos (X,Y) que no están en el área bajo f. Se muestra que la abscisa X de los puntos no rechazados sigue la distribución que se busca simula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imitar el número de intentos, hay que tomar la menor constante C posib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gauss002 espagno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532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por iteraciones markovi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965240"/>
            <a:ext cx="838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consiste en construir una sucesión de estados aleatorios {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cuya distribución converge hacia la distribución de probabilida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desea simular. En lo siguiente, se denota como I el conjunto de los valores posibles de estos estados y se supone que este conjunto es finito o numerabl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34131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tesi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3886200"/>
            <a:ext cx="83818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ado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ólo depende del estado anterior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-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ena de Markov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44197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géne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, la matriz de probabilidades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ntre un estado y el estado siguiente es estacionar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depende del orden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5257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p+1)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un estado y un estado separado por p+1 se calcula por recurr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657600" y="6095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sea, todos los estados pueden comunicar entre sí:</a:t>
            </a:r>
            <a:r>
              <a:rPr b="0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2666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dena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riód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3260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1 como mayor denominador comú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387036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e busca simular es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e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matriz de transición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cadena, es decir, si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ue la distribució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lo mismo pasa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on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o se traduce por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5791320"/>
            <a:ext cx="81532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estas condiciones, se establece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distribución asintótica de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dependientemente del estado inicial X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ce también qu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límite ergódico de la matriz de transición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081240" y="2057400"/>
                <a:ext cx="30560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tal  que  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762120" y="3216240"/>
                <a:ext cx="3241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tal  que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505320" y="5029200"/>
                <a:ext cx="2133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ción de la matriz de transició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204156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un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reducible, tal qu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3505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varias maneras de definir la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4343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Metropolis-Hasting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905120" y="2666880"/>
                <a:ext cx="243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304920" y="54259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de Barke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172040" y="4038480"/>
                <a:ext cx="45352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∀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819520" y="5181480"/>
                <a:ext cx="35049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257800" y="271764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tal  que  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144792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272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condicional vs. no condic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7366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que sea realista, es deseable que cada mapa respete los valores conocidos en los sitios de mues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5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ción “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184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terior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.e. condicional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 los datos disponibles o “loc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4038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mulación </a:t>
            </a: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condicion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solamente construir mapas que tienen la misma variabilidad que la variable en estudio, pero sin tomar en cuenta los valores de los da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622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 reproducir la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espacial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mulación de una distribución cualquiera (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1447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 distribución de Poisson de parámetro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9652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 siguiente matriz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nicialización: i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chaine de Markov2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629400" cy="1276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04920" y="4343400"/>
            <a:ext cx="8305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mular una variable aleatori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–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con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n la probabilidad complementaria P</a:t>
            </a:r>
            <a:r>
              <a:rPr b="0" lang="es-C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62326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lantear i = i +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volver en 2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00400" y="4811760"/>
                <a:ext cx="1981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211560" y="5275440"/>
                <a:ext cx="2795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lustración: perfiles de le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imu vs krigeage2 espagnol" descr=""/>
          <p:cNvPicPr/>
          <p:nvPr/>
        </p:nvPicPr>
        <p:blipFill>
          <a:blip r:embed="rId1"/>
          <a:stretch/>
        </p:blipFill>
        <p:spPr>
          <a:xfrm>
            <a:off x="1447920" y="1104840"/>
            <a:ext cx="6400800" cy="5700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5120" y="990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42244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kr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3733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mulación con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os aspectos del problema de la simu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7273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ner herramientas para inferir un modelo y valid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368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onstruir realizaciones correspondientes al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946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ondicionar las 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s datos dispon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117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finir un modelo de distribución esp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86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a lección, el primer punto se restringe al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multi-Gaussian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4572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tos modelos de distribución espa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23280" cy="25606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690480" y="3962520"/>
            <a:ext cx="7919640" cy="2709360"/>
            <a:chOff x="690480" y="3962520"/>
            <a:chExt cx="7919640" cy="27093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74360" y="4349520"/>
              <a:ext cx="2303280" cy="22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452400" y="4363920"/>
              <a:ext cx="2303280" cy="22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130800" y="4386240"/>
              <a:ext cx="228564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90480" y="3971880"/>
              <a:ext cx="25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plurigauss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95440" y="3962520"/>
              <a:ext cx="26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de hojas muer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5880" y="3966840"/>
              <a:ext cx="25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9:07:57Z</dcterms:created>
  <dc:creator>Xavier Emery</dc:creator>
  <dc:description/>
  <dc:language>en-US</dc:language>
  <cp:lastModifiedBy>Xavier Emery</cp:lastModifiedBy>
  <dcterms:modified xsi:type="dcterms:W3CDTF">2007-09-12T16:38:21Z</dcterms:modified>
  <cp:revision>157</cp:revision>
  <dc:subject/>
  <dc:title>Sin título de diapositiva</dc:title>
</cp:coreProperties>
</file>