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0516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63A-B341-458A-94D7-15DAD4AC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CBF-B8EA-4295-901A-087BB53A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BE4-66CA-40E3-95C1-D65B441D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734-A085-4D61-A1F3-8CAFBD18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06A-6F55-447C-9297-A29BFFE3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A0D-70C8-4B4B-B066-180D3A20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D73-7DAD-43E3-81A8-6CB3339C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6D5-A31F-4E54-8A6B-6C7415F9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65D-007E-4B25-B1C7-B362B879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5C5-5F69-4735-85A3-95A2E00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A74-7186-45E7-B808-E2DAEA8A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B68-C338-4A83-8F91-CE008C9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114A-0310-4268-B16C-344BE7FA4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8954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MI75D - LECCIÓN 2</a:t>
            </a: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LA ESTIMACIÓN 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N CAMBIO DE SOPOR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828800"/>
            <a:ext cx="80773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tenece al blo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par {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s-C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 coefici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 correla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eficiente de 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Esto impl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200400" y="2819520"/>
                <a:ext cx="2819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762120" y="348948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variable aleatoria Gaussiana independiente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100160"/>
            <a:ext cx="64846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58436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Gaussiano discreto se construye de modo de satisface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ón de Carti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stipula que el valor esperado de un dato tomado al azar dentro de un bloque cuyo valor es conocido, es igual al valor del blo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505320" y="2743200"/>
                <a:ext cx="23637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|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3497400" cy="35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6765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lo anterior, la relación de Cartier se e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9680" y="2406600"/>
                <a:ext cx="4915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7200" y="32004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fórmula relaciona las funciones de transformación puntual y de bloques, o sea, las distribuciones univariables de las variables originales en ambos sopo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4798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demuestra que el coeficiente de correla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be ser positivo, para que ambas funciones de transformación sean cre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765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usa una familia de polinomios conocidos como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057400" y="2635200"/>
                <a:ext cx="4424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y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4435560"/>
                <a:ext cx="6705360" cy="21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57200" y="3886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particular,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6765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linomios de Hermite son ortonormales para las distribuciones Gaussiana y bigaussi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5653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variable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Gaussiana estandar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8513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{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par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bigaussiano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oeficiente de correla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86000" y="3191040"/>
                <a:ext cx="464832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N</m:t>
                        </m:r>
                      </m:e>
                      <m:sup/>
                    </m:sSup>
                    <m:r>
                      <m:t xml:space="preserve">,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5486400"/>
                <a:ext cx="55627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N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si 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6765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la función de transformación puntual en 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489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la función de transformación de bloques se escri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57600" y="2305080"/>
                <a:ext cx="22096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81280" y="4114800"/>
                <a:ext cx="25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57200" y="53942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ta especificar el coeficiente de cambio de soporte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ara determinar por completo la distribución de los blo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6765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jemplo: distribución log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2860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transformación puntual es una exponen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64176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la función de transformación de los bloques también es una exponencial, de misma media aritmética y menor varianz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334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aso, el modelo Gaussiano discreto coincide con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ción lognorm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postula la conservación de la lognormalidad al cambiar el sop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48120" y="2843280"/>
                <a:ext cx="3200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743200" y="4495680"/>
                <a:ext cx="388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ÁLCULO DEL COEFICIENTE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E CAMBIO DE SOPORT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0574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los bloques se puede calcular de dos mane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733920" y="3544920"/>
                <a:ext cx="1981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33520" y="26668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l desarrollo de la función de transformación en polinomios d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6879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l modelo variográfico de la variable orig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505320" y="5467320"/>
                <a:ext cx="25905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8892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gráfica del coeficiente de cambio de so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ÁLCULO DEL COEFICIENTE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E CAMBIO DE SOPOR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81040" y="2286000"/>
            <a:ext cx="621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DE INCERTIDUMBRE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7305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de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n caracterizar los valor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una variable regionalizada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distribuciones de proba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558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distingu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10824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arco glob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scrib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de l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ariable regionalizada, sin tomar en cuenta la existencia de datos cerc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870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arco lo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describe el conocimiento 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a incertidumbre que tenemos sobr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616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: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0734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on dato: 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546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ercano a un dato: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men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dispersión qu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Cu anam2 espagnol" descr=""/>
          <p:cNvPicPr/>
          <p:nvPr/>
        </p:nvPicPr>
        <p:blipFill>
          <a:blip r:embed="rId1"/>
          <a:stretch/>
        </p:blipFill>
        <p:spPr>
          <a:xfrm>
            <a:off x="2209680" y="242424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18129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delar la función de transformación en 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1563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 40 polinom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8288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delar el variograma de las leyes de c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2571840"/>
            <a:ext cx="4695840" cy="360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1828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egurar la coherencia entre la función de transformación y el model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vari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8796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za puntu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6417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eta del variograma: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67160" y="2752560"/>
                <a:ext cx="23857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09480" y="4403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andariza el variograma en torno a una meseta de 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lcular la varianza de bloques gracias al variograma corregi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590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za de blo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71800" y="2649600"/>
                <a:ext cx="33098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80880" y="3718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ducir el valor del coeficiente de cambio de sopor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403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828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la distribución de probabilidad de las leyes de bloques, luego las curvas tonelaje-ley y calcular parámetros tales como el tonelaje, la ley media o la cantidad de metal sobre una ley de c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U hist point-bloc2 espagnol" descr=""/>
          <p:cNvPicPr/>
          <p:nvPr/>
        </p:nvPicPr>
        <p:blipFill>
          <a:blip r:embed="rId1"/>
          <a:stretch/>
        </p:blipFill>
        <p:spPr>
          <a:xfrm>
            <a:off x="2362320" y="305280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onnage - teneur espagnol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458200" cy="3530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" y="182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4360" y="5029200"/>
            <a:ext cx="8002080" cy="1728720"/>
            <a:chOff x="684360" y="5029200"/>
            <a:chExt cx="8002080" cy="1728720"/>
          </a:xfrm>
        </p:grpSpPr>
        <p:grpSp>
          <p:nvGrpSpPr>
            <p:cNvPr id="158" name=""/>
            <p:cNvGrpSpPr/>
            <p:nvPr/>
          </p:nvGrpSpPr>
          <p:grpSpPr>
            <a:xfrm>
              <a:off x="690480" y="5033160"/>
              <a:ext cx="7988760" cy="1719360"/>
              <a:chOff x="690480" y="5033160"/>
              <a:chExt cx="7988760" cy="171936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690480" y="5033160"/>
                <a:ext cx="2661480" cy="573120"/>
                <a:chOff x="690480" y="5033160"/>
                <a:chExt cx="2661480" cy="5731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49520" y="5033160"/>
                  <a:ext cx="25430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y de corte = 0.5% Cu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0480" y="5033160"/>
                  <a:ext cx="266148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352320" y="5033160"/>
                <a:ext cx="2662200" cy="573120"/>
                <a:chOff x="3352320" y="5033160"/>
                <a:chExt cx="2662200" cy="573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411720" y="5033160"/>
                  <a:ext cx="25426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nela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52320" y="5033160"/>
                  <a:ext cx="26622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15240" y="5033160"/>
                <a:ext cx="2664000" cy="573120"/>
                <a:chOff x="6015240" y="5033160"/>
                <a:chExt cx="2664000" cy="573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74280" y="5033160"/>
                  <a:ext cx="2545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y med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15240" y="5033160"/>
                  <a:ext cx="26640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480" y="5606280"/>
                <a:ext cx="2661480" cy="573120"/>
                <a:chOff x="690480" y="5606280"/>
                <a:chExt cx="2661480" cy="573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49520" y="5606280"/>
                  <a:ext cx="25430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ntu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480" y="5606280"/>
                  <a:ext cx="266148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352320" y="5606280"/>
                <a:ext cx="2662200" cy="573120"/>
                <a:chOff x="3352320" y="5606280"/>
                <a:chExt cx="2662200" cy="573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411720" y="5606280"/>
                  <a:ext cx="25426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4.8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352320" y="5606280"/>
                  <a:ext cx="26622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15240" y="5606280"/>
                <a:ext cx="2664000" cy="573120"/>
                <a:chOff x="6015240" y="5606280"/>
                <a:chExt cx="2664000" cy="573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074280" y="5606280"/>
                  <a:ext cx="2545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06 %Cu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15240" y="5606280"/>
                  <a:ext cx="26640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90480" y="6179400"/>
                <a:ext cx="2661480" cy="573120"/>
                <a:chOff x="690480" y="6179400"/>
                <a:chExt cx="2661480" cy="573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49520" y="6179400"/>
                  <a:ext cx="25430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loq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90480" y="6179400"/>
                  <a:ext cx="266148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352320" y="6179400"/>
                <a:ext cx="2662200" cy="573120"/>
                <a:chOff x="3352320" y="6179400"/>
                <a:chExt cx="2662200" cy="573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411720" y="6179400"/>
                  <a:ext cx="25426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1.3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352320" y="6179400"/>
                  <a:ext cx="26622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15240" y="6179400"/>
                <a:ext cx="2664000" cy="573120"/>
                <a:chOff x="6015240" y="6179400"/>
                <a:chExt cx="2664000" cy="573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074280" y="6179400"/>
                  <a:ext cx="2545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01 %Cu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15240" y="6179400"/>
                  <a:ext cx="26640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684360" y="5029200"/>
              <a:ext cx="8002080" cy="172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240" y="4390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175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entajas del modelo Gaussiano discr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7590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atemáticamente coherente (respeta la conservación de la media, la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sminución de la varianza y la relación de Carti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2860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sencil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35053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le con el teorema del límite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4038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hipótesis en las cuales se basa son poco restri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OS Y CONTRAS DEL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48769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conven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5394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carece de flex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1055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oirard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4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disjunctive kriging and non-linear geostat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larendon Press, Oxford, 181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971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ge C, Lajaunie C, Lantuéjoul C, Rivoirard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7) Global recoverable reserves: testing various change of support models on uranium data. In: Armstrong M, Matheron G (eds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al Case Stud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idel, Dordrecht, p 135-1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0574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P, Delfiner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9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: modeling spatial uncertain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iley, New York, 695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4956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échal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ussian anamorphosis models. Unpublished note, 22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29718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DELO GAUSSIANO DISCRETO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ARA ESTIMACIÓN </a:t>
            </a: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LO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828800"/>
            <a:ext cx="83059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ce la hipótesis más fuerte de que todo conjunto de valores de {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s-C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una distribución multigaussi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38080" y="2778120"/>
            <a:ext cx="7620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JEMPLO: MODELO MULTIGAUSS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600200"/>
            <a:ext cx="807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modelo,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datos (una vez transformados) es una Gaussiana estandarizada, i.e. de media 0 y varianza 1.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un sitio dado del espacio sigue siendo Gaussiana, de media igual al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Gaussianos y de varianza igual a 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arianza de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4290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y sencillo y matemáticamente consis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ficar que la hipótesis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a sea consistente con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at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j.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nubes de correlación diferida; variogramas de indicadores;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d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multigaussiano caracteriza la incertidumbre en cada sitio d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pacio por separado: ¿cómo extenderlo para modelar la incertidumbr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t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todos l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ti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un mismo bloque? (en vista de tomar e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uenta u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RÁMETROS DEL MODELO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600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local se caracteriza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1337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transformación puntu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72736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eficiente de cambio de soport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3368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varianzas simples y cruzadas de las variables Gaussian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66880" y="3962520"/>
                <a:ext cx="373392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r>
                                      <m:t xml:space="preserve">'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RÁMETROS DEL MODELO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05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la aleatorización de los datos dentro de los bloques, se establece las siguientes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57400" y="2876400"/>
                <a:ext cx="4952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'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if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≠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'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 en caso contrario</m:t>
                            </m:r>
                          </m:e>
                        </m:eqArr>
                        <m:r>
                          <m:t xml:space="preserve">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57200" y="4648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respecto al modelo global, sólo falta especificar una de la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varianzas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variables Gaussianas, por ejemplo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Gaussiana de los bloqu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, equivalentemente, su vari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1600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trabaj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209680"/>
            <a:ext cx="830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variográfico de los datos originales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803680"/>
            <a:ext cx="830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ización y obtención del variograma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413160"/>
            <a:ext cx="79250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al espacio Gaussiano, obtención del variograma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alculado d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nera discreta a lo largo de algunas direcciones del espacio). La fórmul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que relaciona los variogramas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desarrollar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49370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 de este último variograma, como si fuera un variogram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“experiment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RÁMETROS DEL MODELO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SPERANZA CONDICIONAL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752480"/>
            <a:ext cx="84582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un conjunto de datos puntuales en los sitios {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… n}, la distribución condicional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Gaussiana, con media igual a su kriging simple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datos y varianza la varianza de kriging simple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97180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istribución 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752480" y="3657600"/>
                <a:ext cx="59436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ato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ato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457200" y="4775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speranza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e define co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828800" y="5467320"/>
                <a:ext cx="5562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os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SPERANZA CONDICIONA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imple es el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971800" y="2590920"/>
                <a:ext cx="29718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α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514600" y="4724280"/>
                <a:ext cx="39625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,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57200" y="4267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SPERANZA CONDICIONAL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40989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obtiene la varianza de estim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209680" y="4761000"/>
                <a:ext cx="4800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057400" y="2666880"/>
                <a:ext cx="50292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</m:t>
                                    </m:r>
                                  </m:sup>
                                </m:sSub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</m:t>
                                        </m:r>
                                      </m:sup>
                                    </m:sSubSup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peranza condicional se puede expresar bajo la forma de una serie, utilizando al desarrollo de la fun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polinomios de Herm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JEMPLO: KRIGING LOGNORMAL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7524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la fun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estimar sea una exponencial (estimación de una variable lognorm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66880" y="2666880"/>
                <a:ext cx="35053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4272120"/>
                <a:ext cx="44193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aso, la esperanza condicional se simplifica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53942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estimador ha sido llamado “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lognormal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No se trata de un kriging clásico (combinación lineal de los datos), sino que de una función más compleja de los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JEMPLO: KRIGING LOGNORMA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7524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generalización consiste en utilizar un kriging ordinario en lugar de uno simple, lo cual da más robustez al estimador frente a cambios en el valor de la media loc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4038480"/>
            <a:ext cx="80769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            es la varianza del kriging ordinario de ln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multiplicador de Lagrange introducido en el sistema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666880" y="3057480"/>
                <a:ext cx="37339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O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O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038480"/>
                <a:ext cx="7621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5334120"/>
            <a:ext cx="8076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estimador no tiene sesgo cualquiera sea la media (desconocida)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in embargo, es sensible a la hipótesis de lognorm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432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ra etap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álisis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Cu gamma renormalisé2 espagnol" descr=""/>
          <p:cNvPicPr/>
          <p:nvPr/>
        </p:nvPicPr>
        <p:blipFill>
          <a:blip r:embed="rId1"/>
          <a:stretch/>
        </p:blipFill>
        <p:spPr>
          <a:xfrm>
            <a:off x="2214720" y="3133800"/>
            <a:ext cx="4566960" cy="3419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480" y="2498760"/>
            <a:ext cx="8153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de los datos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ici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yes de cobre) normalizad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orno a la varianza calculada por la función de trans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965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recciones principales de anisotropía son la vertical y el plano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37160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de los datos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gularizad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yes de cobre)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os bloques de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 × 10m × 1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Cu gammavv nb espagnol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564080" cy="341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286000"/>
                <a:ext cx="3429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BIO DE SOPORT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305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mos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regularizad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variable regionalizada (ej: ley de cobre) sobre un blo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cual se define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81280" y="2736720"/>
                <a:ext cx="19051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0880" y="37180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|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epresenta el volumen del blo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403880"/>
            <a:ext cx="82296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interesa estimar una fun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r ejemplo la probabilidad que supere una ley de corte o la cantidad esperada de metal sobre esta ley de corte (funciones de “transferencia” o de “recuperación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mos estima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de probabilidad d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cional a los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37160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de los datos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ransformad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aussiana de bloq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352680" y="1905120"/>
                <a:ext cx="2819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62" name="Cu phovv4 espagnol" descr=""/>
          <p:cNvPicPr/>
          <p:nvPr/>
        </p:nvPicPr>
        <p:blipFill>
          <a:blip r:embed="rId1"/>
          <a:stretch/>
        </p:blipFill>
        <p:spPr>
          <a:xfrm>
            <a:off x="2209680" y="3287880"/>
            <a:ext cx="4564080" cy="341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 flipV="1">
            <a:off x="2590920" y="2362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666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varianza de l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atos regular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715000" y="23623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2666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varianza de l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Gaussiana de blo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2666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eficientes de Hermite de la función de transformación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724280" y="2437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37160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delad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datos transform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aussiana de bloq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Cu phovv4 modele nb espagnol" descr=""/>
          <p:cNvPicPr/>
          <p:nvPr/>
        </p:nvPicPr>
        <p:blipFill>
          <a:blip r:embed="rId1"/>
          <a:stretch/>
        </p:blipFill>
        <p:spPr>
          <a:xfrm>
            <a:off x="2217600" y="3059280"/>
            <a:ext cx="4564080" cy="341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295280" y="2362320"/>
                <a:ext cx="6782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14479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nda etap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imación de la cantidad de metal sobre una ley de corte de 0.5% Cu, con unidades de selección de tamaño 10m × 10m × 12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666880" y="2286000"/>
                <a:ext cx="3581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666880" y="3257640"/>
            <a:ext cx="368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OS Y CONTRAS DEL MODELO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O DISCRETO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24987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Existen varias extens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95596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de 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34290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métodos 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riging disyuntivo, condicionamiento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3946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apta al modelamiento d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9051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Modelo fácil de aplicar, consistente, que requiere pocos tiempo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495680"/>
            <a:ext cx="8305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No se debe utilizar cuando la variable transformad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una distribució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spacial muy distinta a l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39424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ampoco funciona muy bien cuando el cambio de soporte es muy importa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o cuando la variable original tiene un “efecto cero” (i.e. histograma con una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alta proporción de valores nu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470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oirard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4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disjunctive kriging and non-linear geostat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larendon Press, Oxford, 181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9810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P, Delfiner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9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: modeling spatial uncertain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iley, New York, 696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28954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bal D, Remacre A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4) Local estimation of the recoverable reserves: comparing various methods with the reality on  a porphyry copper deposit. In: Verly G, David M, Journel AG, Maréchal A (eds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 for Natural Resources Character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idel, Dordrecht, p 435-4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432756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échal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76) The practice of transfer functions: numerical methods and their application. In: Guarascio M, David M, Huijbregts CJ (eds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Geostatistics in the Mining Indus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idel, Dordrecht, p 253-2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BIO DE SOPOR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3052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de una variable regionalizada depende del soporte en el cual se mide: est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que ser tomado en cuenta al momento de estimar las funciones de recuperación, puesto que los datos (testigos de sondajes, pozos de tronadura) están definidos en un soporte “puntu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76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d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depende del so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9466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arian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minuye al aumentar el so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5561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istograma cambia de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or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 simetri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9718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DELO GAUSSIANO DISCRETO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ARA ESTIMACIÓN </a:t>
            </a: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GLOB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133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pacio se considera como 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ón de bloqu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no traslapan y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que son idénticos salvo por una tras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16080"/>
            <a:ext cx="815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sición de cada dato puntual se considera como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leator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iform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ntro del bloque al cual pertenece. Esta aleatorización pierde la informació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obre la posición exacta de los datos dentro de los bloques, por lo cual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no debe usarse para bloques muy gr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632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delante, se denota co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s posiciones aleatorias en los blo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omain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332240" cy="4316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43200" y="21337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9051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00"/>
                </a:solidFill>
                <a:latin typeface="Times New Roman"/>
              </a:rPr>
              <a:t>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380988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32767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datos con posiciones aleatorizadas dentro de los 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46483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19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Times New Roman"/>
              </a:rPr>
              <a:t>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198108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La variabl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tu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s-CL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e transformar en una variable Gaussian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s-CL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3368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función de transformación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11480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 variabl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izad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bién se puede transformar en una variabl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Gaussian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62284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función de transformación de 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57600" y="5018040"/>
                <a:ext cx="1290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429000" y="2708280"/>
                <a:ext cx="2133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09-05T17:00:36Z</dcterms:modified>
  <cp:revision>109</cp:revision>
  <dc:subject/>
  <dc:title>Presentación de PowerPoint</dc:title>
</cp:coreProperties>
</file>