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516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024-3F7A-496D-9F51-8EAFD398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798-B2AC-42A4-8CCC-ECA63A88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344-CF14-400A-9BF4-7F7D1518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8BC-8C69-4117-85C2-30537762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300-E97D-439E-9CF8-8AF9E7BE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700-B388-412D-8DE9-BED5563A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7A1-FA7C-49E6-864C-496BCD47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9C7-A7EE-4849-B88F-33BF88F4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6EE-BFE1-4C7E-BB6A-C4CC0A16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6A5-B769-4A39-B3B0-2209E5A4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6DB-15D7-4C5E-B689-24B3BF00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AE50-6E20-4D52-8F3A-9C220A62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7B14-5EEF-479E-9024-03B0D4570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9401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I75D: TÓPICOS AVANZADOS DE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VALUACIÓN DE YAC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tivación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2666880"/>
            <a:ext cx="49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exploratorio y variográfico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4479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urso 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Yacimient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centró en el uso de métodos geoestadísticos para estimar la cantidad y ubicación de recursos minerales en los ya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280" y="3276720"/>
            <a:ext cx="43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local de leyes por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480" y="3886200"/>
            <a:ext cx="73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finición de un modelo de bloques; categorización de lo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70844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hora bien, se sabe que el método de kriging sufre de ciertas limitaciones. La principal de ellas es la propiedad 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 que hace que el modelo de leyes estimadas no refleje la variabilidad de las leyes verdaderas y puede conducir a subestimar o sobrestimar la cantidad de recursos recuperables sobre una determinada ley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tivación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1801800"/>
            <a:ext cx="830592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4382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Caracterizar la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ariabilidad espaci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uantificar la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certidumbr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l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valores de variables regionalizadas, como las leyes en metales en l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yacimientos min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08440"/>
            <a:ext cx="8001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oder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imar funciones de la variab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stud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dad de sobrepasar una ley de corte 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→ tonel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tidad de metal esperada sobre una ley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960" y="364176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s posibles: planificación minera, categorización de recursos y reservas,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análisis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606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Repaso de nociones básicas de geoestad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lan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9810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 Modelos de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certidumbre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cal</a:t>
            </a:r>
            <a:r>
              <a:rPr b="0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nto a punto, o bloque a blo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1840" y="2438280"/>
            <a:ext cx="565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ción 1: modelo multi-Gaussiano pun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ción 2: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delos de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 de so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5800" y="3718080"/>
            <a:ext cx="72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s de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certidumbre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pacial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ulaciones condi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2920" y="4251240"/>
            <a:ext cx="592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ción 3: simulación de variables contin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ción 4: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mulación de variables categó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rganización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5160" y="190512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Cátedras (7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2438280"/>
            <a:ext cx="4343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ontr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exa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5880" y="417528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Lecturas (3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000" y="5013360"/>
            <a:ext cx="78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sit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ocimientos en Evaluación de Yacimientos o Geoestad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Xavier Emery</cp:lastModifiedBy>
  <dcterms:modified xsi:type="dcterms:W3CDTF">2007-08-02T20:46:57Z</dcterms:modified>
  <cp:revision>169</cp:revision>
  <dc:subject/>
  <dc:title>Presentación de PowerPoint</dc:title>
</cp:coreProperties>
</file>