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51675" cy="9363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A390-749A-4213-9354-625BB25E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60B1-7761-4DAB-A81D-4107089A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3566-3419-4C06-831A-F4079DB39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90C7-2B27-4AF3-86B9-7C40E7AA9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8CBC-D65E-4689-B05A-37A7964F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2AB3-4F65-4A3C-9052-03A9A589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C3FF-87FF-4B02-8D87-35DA4F5A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7FFB-430E-4949-90E6-52C46624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F073-7F8D-4576-A20F-9EEE5BBA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C610-85FE-43B2-A3F4-EBE18B35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3219-C351-4627-8B83-7388FE29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2A48-3099-4D18-8ECE-80726C1A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8B85-501A-4AC0-B319-95ABF81B1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94012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I75D: TÓPICOS AVANZADOS DE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VALUACIÓN DE YACIMI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tivación del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2666880"/>
            <a:ext cx="498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nálisis exploratorio y variográfico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44792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urso de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ción de Yacimient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centró en el uso de métodos geoestadísticos para estimar la cantidad y ubicación de recursos minerales en los yaci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9280" y="3276720"/>
            <a:ext cx="431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mación local de leyes por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kri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480" y="3886200"/>
            <a:ext cx="73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finición de un modelo de bloques; categorización de los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708440"/>
            <a:ext cx="815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hora bien, se sabe que el método de kriging sufre de ciertas limitaciones. La principal de ellas es la propiedad de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suavizamient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, que hace que el modelo de leyes estimadas no refleje la variabilidad de las leyes verdaderas y puede conducir a subestimar o sobrestimar la cantidad de recursos recuperables sobre una determinada ley de c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otivación del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1801800"/>
            <a:ext cx="830592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Objetivos del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4382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Caracterizar la </a:t>
            </a:r>
            <a:r>
              <a:rPr b="1" i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ariabilidad espaci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cuantificar la </a:t>
            </a:r>
            <a:r>
              <a:rPr b="1" i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ncertidumbr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lo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valores de variables regionalizadas, como las leyes en metales en lo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yacimientos min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708440"/>
            <a:ext cx="8001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Poder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stimar funciones de la variabl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estud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ilidad de sobrepasar una ley de corte (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→ tonela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tidad de metal esperada sobre una ley de c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3960" y="3641760"/>
            <a:ext cx="815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s posibles: planificación minera, categorización de recursos y reservas,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análisis de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606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Repaso de nociones básicas de geoestad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lan del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98108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 Modelos de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ncertidumbre </a:t>
            </a:r>
            <a:r>
              <a:rPr b="1" i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local</a:t>
            </a:r>
            <a:r>
              <a:rPr b="0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unto a punto, o bloque a bloq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1840" y="2438280"/>
            <a:ext cx="565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ción 1: modelo multi-Gaussiano pun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ción 2: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odelos de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bio de so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5800" y="3718080"/>
            <a:ext cx="72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1" lang="es-CL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s de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ncertidumbre </a:t>
            </a:r>
            <a:r>
              <a:rPr b="1" i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spacial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ulaciones condi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2920" y="4251240"/>
            <a:ext cx="5921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ción 3: simulación de variables continu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ción 4: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mulación de variables categór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4572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Organización del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5160" y="1905120"/>
            <a:ext cx="21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Cátedras (7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2438280"/>
            <a:ext cx="4343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contr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exa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5880" y="4175280"/>
            <a:ext cx="21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Lecturas (3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4000" y="5013360"/>
            <a:ext cx="784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sit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ocimientos en Evaluación de Yacimientos o Geoestad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9:07:57Z</dcterms:created>
  <dc:creator>Xavier Emery</dc:creator>
  <dc:description/>
  <dc:language>en-US</dc:language>
  <cp:lastModifiedBy>Xavier Emery</cp:lastModifiedBy>
  <dcterms:modified xsi:type="dcterms:W3CDTF">2007-08-02T20:46:57Z</dcterms:modified>
  <cp:revision>169</cp:revision>
  <dc:subject/>
  <dc:title>Presentación de PowerPoint</dc:title>
</cp:coreProperties>
</file>