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0E54-220B-4B69-903F-8FF87F2BA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FDFF8-1DD6-4E2C-BA59-849151071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7B045-BF79-4647-A3AD-B6A51CD3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F8395-B92F-4B20-BC33-72D960067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C8D7E-8714-4F6D-8E66-5CFC2B771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23290-5FB5-4A3D-A9C3-7E1ABE31A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EFC83-4406-4974-92D7-FA685C845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2B8D6-3974-460B-B192-51678421D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A3CC9-F2C9-4DE1-8576-86CC97663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C0EF7-FBFA-421E-8834-F983170B6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C0A2-228A-49CF-81E9-80357CB2A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FCF7-D0EB-45A2-8EE0-50601F5AD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C0114-B4F2-4DAF-9381-DEA5366A9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F882C-083A-4931-B10A-55C9DAA7F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2D491-58B2-4239-B60C-E2122669C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2E73C-028A-4B03-8025-89D4935A6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AA551-C524-46B3-A248-B42064C47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AB84C-7E45-4CE4-85D8-E9F1C2A07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2FBC7-E626-4C91-88D5-1F502D04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B3537-43C1-48A7-8454-929D804E8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3446-2A2F-4F65-88BB-49D49352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52143-6C63-4A47-A849-39610F4F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C2BB-ACEC-4301-8C72-4AFF01B6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EAEBB-57CD-42D0-B1D4-94A7F4584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CCA7-EFDF-483B-8A1F-178432275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01C2-8314-4393-BBF0-9AB9DDEC9C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DDF1-78E1-4FDC-B61D-C1B59AF2A3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7-09-03T17:20:53Z</dcterms:modified>
  <cp:revision>4</cp:revision>
  <dc:subject/>
  <dc:title>Rock Mechanics/Model Interpretation</dc:title>
</cp:coreProperties>
</file>