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F83-0C4B-40C6-9AA7-0FA25C23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42A-3EEC-4EA0-8599-59914FC4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D65-02B2-46F8-83C3-19551123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481-E583-417C-830B-79E69CC3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01A-3FEC-465B-88C5-96ADE2C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F4E-81EC-4E82-B171-BB38BDD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3FB-CF90-4B8F-99BF-922A370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80F-33DE-4D9E-87F3-F15024F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E97-4E2C-4608-A83E-315B085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894-ADE2-4BEE-959C-830923A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C4C-A49C-49C4-AD8A-DF6B6D0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B44-3989-41EA-8F19-6983FC29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66D-D916-4565-B744-19903102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telling (1931), asumió que el precio del mineral era una función de l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 = p(0)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 que para un productor, es indiferente producir a un precio p(0) ahora, que a un precio p(0)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pués de un tiempo 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 competencia perfecta, la extracción va estar determinada por la función de demanda (en este análisis se asume costo de producción n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(t) =D(p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servas totales, son R, por lo tanto, en un tiempo T, se van a ago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5029200"/>
                <a:ext cx="1905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=T, q(T) = 0,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914400"/>
                <a:ext cx="3222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gotamien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plica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5562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ón que permite determinar el tiempo T en que se logra en agotamiento, y con ello la cantidad producida en cada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so Monopo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trata de maximizar su benef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P(q(t)) es la inversa de la función de demanda D(p(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dición de consumo de reserva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amiltoniano de valor corrient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76520" y="2057400"/>
                <a:ext cx="2438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52480" y="3886200"/>
                <a:ext cx="129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76520" y="5334120"/>
                <a:ext cx="30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228600"/>
                <a:ext cx="3655800" cy="63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eg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I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664800" y="5715000"/>
            <a:ext cx="432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nopolista extrae mineral de manera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greso marginal crezca a la tasa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so monopolista – Demanda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622520" y="1523880"/>
                <a:ext cx="36194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a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μ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84400" y="666720"/>
                <a:ext cx="3995640" cy="575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ne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m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66680" y="914400"/>
                <a:ext cx="41148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es</m:t>
                        </m:r>
                        <m:r>
                          <m:t xml:space="preserve">: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2057400"/>
                <a:ext cx="2598480" cy="33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c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etitiv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opoli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25120" y="2895480"/>
            <a:ext cx="432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dustria competitiva inici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ota el recurso a una tasa mayo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agota el recurso más rápi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r monopó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nopolista restringe la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mantener un preci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aración industria competitiva v/s monopol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rayectorias de los precio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rayectoria del monopolio parte a un valor mayor, pero en un cierto período se hace menor que el de la industria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23880" y="1066680"/>
                <a:ext cx="2667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e las trayectorias de producción y precios para una industria competitiva y un productor monop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a asignación eficiente de producción para el probl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va demanda: D=8-0.4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marginal: c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ervas totales Q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descuento 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el número de períodos en que se consume el recurso y la producción por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33520"/>
                <a:ext cx="4457880" cy="57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enest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e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cion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re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e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r>
                          <m:t xml:space="preserve"> 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iciones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a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timización – problemas contín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ustri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Contí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2286000"/>
                <a:ext cx="30448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80880" y="5105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(t): variable de estado (eg reservas reman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(t): variable de control (eg producción en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722160"/>
            <a:ext cx="51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Hamiltoniano se define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1371600"/>
                <a:ext cx="403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33520" y="17524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38200" y="2362320"/>
                <a:ext cx="144324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forma de clasificar los problemas de optimización dinámica es sobre la base de si el tiempo terminal o el estado terminal están dados o son l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blema anterior se clasifica como “tiempo termina fijo, estado terminal lib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problema de tiempo terminal libre, el que optimiza debe determinar el horizonte óptimo (T ópt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oblemas de tiempo terminal libre, la condición que se agreg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71600" y="4343400"/>
                <a:ext cx="4038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ontando a valor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iempo contínuo, el valor presente de N(t) puede ser calculado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23880" y="220968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descuento continua r (instantánea), se relaciona con la tasa anual (asumiendo que t son añ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403848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e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29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 una tasa de descuento anual de 10%, es equivalente a una tasa contínua de 9,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9880" y="569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3880" y="1143000"/>
                <a:ext cx="5105520" cy="455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miltonia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828800"/>
                <a:ext cx="19764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33520" y="685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9-07T21:34:36Z</dcterms:modified>
  <cp:revision>164</cp:revision>
  <dc:subject/>
  <dc:title>ADVANCES IN GEOTECHNICAL DATA COLLECTION FOR LARGE UNDERGROUND MINES</dc:title>
</cp:coreProperties>
</file>