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281F-8FAE-4DFF-AAF1-B6208DE8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CC5-CAC8-4454-99A0-8246E40D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5690-587B-4A0F-936D-08CE1A89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30B-887F-4E0D-AE15-2A8B59F2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386-04FD-46CE-8A24-343E1D4A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D46-10ED-46FF-9014-018B227A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3B4-5B68-4E43-B204-91C78A47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B8E-1A02-4652-B42B-777C8D7D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079-E353-4A4F-A24E-5D59B4C4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B5F-391D-4BB6-B83C-576E0FF8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CE0-FF75-4CD7-81CE-98306EF7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98C-D229-4D49-969B-EE89F3E2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6A29-4342-441C-A264-624CC27C2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68880"/>
            <a:ext cx="16765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360" y="1836720"/>
            <a:ext cx="6840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conomía de los Recursos Naturales y Mercados de Mi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0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rso Gestión y Economía Mi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esor Octavio Araneda O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de Ho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telling (1931), asumió que el precio del mineral era una función de la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(t) = p(0)e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a que para un productor, es indiferente producir a un precio p(0) ahora, que a un precio p(0)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spués de un tiempo 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jo competencia perfecta, la extracción va estar determinada por la función de demanda (en este análisis se asume costo de producción n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(t) =D(p(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reservas totales, son R, por lo tanto, en un tiempo T, se van a ago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752480" y="5029200"/>
                <a:ext cx="19051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t=T, q(T) = 0, 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295280" y="914400"/>
                <a:ext cx="322272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gotamient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erv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mplica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</m:e>
                        </m:nary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09480" y="55627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uación que permite determinar el tiempo T en que se logra en agotamiento, y con ello la cantidad producida en cada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so Monopo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monopolista trata de maximizar su benefic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 P(q(t)) es la inversa de la función de demanda D(p(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ondición de consumo de reservas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amiltoniano de valor corriente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676520" y="2057400"/>
                <a:ext cx="2438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52480" y="3886200"/>
                <a:ext cx="12956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676520" y="5334120"/>
                <a:ext cx="30477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19320" y="228600"/>
                <a:ext cx="3655800" cy="630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μ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μ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μ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μ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ueg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I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664800" y="5715000"/>
            <a:ext cx="43243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monopolista extrae mineral de manera 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ingreso marginal crezca a la tasa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aso monopolista – Demanda line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622520" y="1523880"/>
                <a:ext cx="3619440" cy="57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a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mo</m:t>
                        </m:r>
                        <m:r>
                          <m:t xml:space="preserve"> 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dμ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μ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dμ</m:t>
                                </m:r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184400" y="666720"/>
                <a:ext cx="3995640" cy="575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enem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d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</m:e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m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m</m:t>
                            </m:r>
                          </m:sup>
                        </m:sSup>
                      </m:e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m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066680" y="914400"/>
                <a:ext cx="411480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erv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tales</m:t>
                        </m:r>
                        <m:r>
                          <m:t xml:space="preserve">: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sup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m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90720" y="2057400"/>
                <a:ext cx="2598480" cy="331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c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m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etitivo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opolio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425120" y="2895480"/>
            <a:ext cx="4326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dustria competitiva inici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lota el recurso a una tasa mayor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bién agota el recurso más rápid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ductor monopó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nopolista restringe la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mantener un precio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mparación industria competitiva v/s monopoli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trayectorias de los precio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rayectoria del monopolio parte a un valor mayor, pero en un cierto período se hace menor que el de la industria 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23880" y="1066680"/>
                <a:ext cx="266724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cule las trayectorias de producción y precios para una industria competitiva y un productor monopó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=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=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=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ra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cular la asignación eficiente de producción para el probl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rva demanda: D=8-0.4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sto marginal: c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ervas totales Q=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sa de descuento r=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e el número de períodos en que se consume el recurso y la producción por perí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81080" y="533520"/>
                <a:ext cx="4457880" cy="57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enest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cie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duccion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mpre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ci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se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  <m:r>
                          <m:t xml:space="preserve"> 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diciones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r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am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d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⇒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ptimización – problemas contín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de Ho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ustria compet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s Contínu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a 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76520" y="2286000"/>
                <a:ext cx="304488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imizar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80880" y="51055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(t): variable de estado (eg reservas remane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(t): variable de control (eg producción en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7680" y="722160"/>
            <a:ext cx="51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Hamiltoniano se define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219320" y="1371600"/>
                <a:ext cx="4038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533520" y="17524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uede demostrar que la condición de máximo está dada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438200" y="2362320"/>
                <a:ext cx="1443240" cy="30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λ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forma de clasificar los problemas de optimización dinámica es sobre la base de si el tiempo terminal o el estado terminal están dados o son li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blema anterior se clasifica como “tiempo termina fijo, estado terminal lib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un problema de tiempo terminal libre, el que optimiza debe determinar el horizonte óptimo (T ópti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problemas de tiempo terminal libre, la condición que se agrega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371600" y="4343400"/>
                <a:ext cx="4038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contando a valor pres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tiempo contínuo, el valor presente de N(t) puede ser calculado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523880" y="2209680"/>
                <a:ext cx="1905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57200" y="3429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descuento continua r (instantánea), se relaciona con la tasa anual (asumiendo que t son añ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447920" y="4038480"/>
                <a:ext cx="2895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e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29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jemplo una tasa de descuento anual de 10%, es equivalente a una tasa contínua de 9,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49880" y="569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a 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23880" y="1143000"/>
                <a:ext cx="5105520" cy="455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fi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miltonia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</m:t>
                        </m:r>
                        <m:r>
                          <m:t xml:space="preserve">:</m:t>
                        </m:r>
                      </m:e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057400" y="1828800"/>
                <a:ext cx="1976400" cy="32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μ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μ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533520" y="6858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uede demostrar que la condición de máximo está dada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9:03:55Z</dcterms:created>
  <dc:creator>Enrique Rubio</dc:creator>
  <dc:description/>
  <dc:language>en-US</dc:language>
  <cp:lastModifiedBy>oaraneda</cp:lastModifiedBy>
  <dcterms:modified xsi:type="dcterms:W3CDTF">2007-09-07T21:34:36Z</dcterms:modified>
  <cp:revision>164</cp:revision>
  <dc:subject/>
  <dc:title>ADVANCES IN GEOTECHNICAL DATA COLLECTION FOR LARGE UNDERGROUND MINES</dc:title>
</cp:coreProperties>
</file>