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9B88-FEB6-4E85-A7CD-C1AB41E4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7FD8-10AD-4E18-A26D-A878DB69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CC32-3D6B-4F51-8B8A-B8FC53F7E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A48E-9BA8-44BF-A490-CA3325C8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B757-ADC2-43A7-9F14-FEF5EE5A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EDF4-97E2-4905-9A5E-3EAE5C86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3873-848A-46BE-BC5C-0F33719B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4C67-F410-407A-A1DC-5BC22FFC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DBAA-8990-4D43-8C3D-67EB8294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D9B8-FA67-4112-B7AE-42D678F6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1767-81D6-4DF5-8E8E-D87CB9CE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1856-74D0-46BA-A4E5-77C9E40F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EA87-949A-4069-8C3B-A33F37E1E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068880"/>
            <a:ext cx="1676520" cy="7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0360" y="1836720"/>
            <a:ext cx="68407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conomía de los Recursos Naturales y Mercados de Mi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971800" cy="140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rso Gestión y Economía Mi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fesor Octavio Araneda Os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 de Hot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telling (1931), asumió que el precio del mineral era una función de la for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(t) = p(0)e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a que para un productor, es indiferente producir a un precio p(0) ahora, que a un precio p(0)e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r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spués de un tiempo 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ajo competencia perfecta, la extracción va estar determinada por la función de demanda (en este análisis se asume costo de producción nu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(t) =D(p(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reservas totales, son R, por lo tanto, en un tiempo T, se van a agot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752480" y="5029200"/>
                <a:ext cx="190512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09120" y="457200"/>
            <a:ext cx="4038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t=T, q(T) = 0, 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295280" y="914400"/>
                <a:ext cx="3222720" cy="434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gotamient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erv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mplica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</m:e>
                        </m:nary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609480" y="55627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uación que permite determinar el tiempo T en que se logra en agotamiento, y con ello la cantidad producida en cada perí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so Monopol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monopolista trata de maximizar su benefic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nde P(q(t)) es la inversa de la función de demanda D(p(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condición de consumo de reservas 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Hamiltoniano de valor corriente 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676520" y="2057400"/>
                <a:ext cx="24382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752480" y="3886200"/>
                <a:ext cx="12956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676520" y="5334120"/>
                <a:ext cx="30477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219320" y="228600"/>
                <a:ext cx="3655800" cy="630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μ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rμ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dμ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rμ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ro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ueg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I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3664800" y="5715000"/>
            <a:ext cx="43243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monopolista extrae mineral de manera 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ingreso marginal crezca a la tasa de inter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aso monopolista – Demanda line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622520" y="1523880"/>
                <a:ext cx="3619440" cy="571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a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Como</m:t>
                        </m:r>
                        <m:r>
                          <m:t xml:space="preserve"> </m:t>
                        </m:r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dμ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μ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μ</m:t>
                            </m:r>
                          </m:sup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dμ</m:t>
                                </m:r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dt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μ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184400" y="666720"/>
                <a:ext cx="3995640" cy="575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enem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∴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d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</m:e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m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m</m:t>
                            </m:r>
                          </m:sup>
                        </m:sSup>
                      </m:e>
                      <m:e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r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m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066680" y="914400"/>
                <a:ext cx="4114800" cy="16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erv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tales</m:t>
                        </m:r>
                        <m:r>
                          <m:t xml:space="preserve">: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sup>
                          <m:e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</m:e>
                        </m:nary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m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990720" y="2057400"/>
                <a:ext cx="2598480" cy="331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c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m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etitivo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nopolio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4425120" y="2895480"/>
            <a:ext cx="4326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industria competitiva inici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lota el recurso a una tasa mayor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mbién agota el recurso más rápido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productor monopól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monopolista restringe la 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mantener un precio ma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mparación industria competitiva v/s monopoli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trayectorias de los precios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rayectoria del monopolio parte a un valor mayor, pero en un cierto período se hace menor que el de la industria compet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523880" y="1066680"/>
                <a:ext cx="2667240" cy="10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lcule las trayectorias de producción y precios para una industria competitiva y un productor monopó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=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=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=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raf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lcular la asignación eficiente de producción para el proble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rva demanda: D=8-0.4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sto marginal: c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ervas totales Q=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sa de descuento r=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termine el número de períodos en que se consume el recurso y la producción por perí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981080" y="533520"/>
                <a:ext cx="4457880" cy="579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ienest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cieda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duccion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mpres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ci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sea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  <m:r>
                          <m:t xml:space="preserve"> 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diciones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r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tam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d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⇒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ptimización – problemas contínu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elo de Hot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dustria compet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nop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blemas Contínu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a el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76520" y="2286000"/>
                <a:ext cx="304488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imizar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380880" y="51055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(t): variable de estado (eg reservas remane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(t): variable de control (eg producción en 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17680" y="722160"/>
            <a:ext cx="519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Hamiltoniano se define co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219320" y="1371600"/>
                <a:ext cx="40384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533520" y="175248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puede demostrar que la condición de máximo está dada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438200" y="2362320"/>
                <a:ext cx="1443240" cy="30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λ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λ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forma de clasificar los problemas de optimización dinámica es sobre la base de si el tiempo terminal o el estado terminal están dados o son lib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problema anterior se clasifica como “tiempo termina fijo, estado terminal lib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un problema de tiempo terminal libre, el que optimiza debe determinar el horizonte óptimo (T ópti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os problemas de tiempo terminal libre, la condición que se agrega 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371600" y="4343400"/>
                <a:ext cx="40384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scontando a valor pres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tiempo contínuo, el valor presente de N(t) puede ser calculado co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523880" y="2209680"/>
                <a:ext cx="19051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457200" y="34290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de descuento continua r (instantánea), se relaciona con la tasa anual (asumiendo que t son añ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447920" y="4038480"/>
                <a:ext cx="2895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e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533520" y="5029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ejemplo una tasa de descuento anual de 10%, es equivalente a una tasa contínua de 9,5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49880" y="56988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a el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523880" y="1143000"/>
                <a:ext cx="5105520" cy="455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fin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amiltonia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l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rriente</m:t>
                        </m:r>
                        <m:r>
                          <m:t xml:space="preserve">:</m:t>
                        </m:r>
                      </m:e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onde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057400" y="1828800"/>
                <a:ext cx="1976400" cy="322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μ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rμ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533520" y="6858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puede demostrar que la condición de máximo está dada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9:03:55Z</dcterms:created>
  <dc:creator>Enrique Rubio</dc:creator>
  <dc:description/>
  <dc:language>en-US</dc:language>
  <cp:lastModifiedBy>oaraneda</cp:lastModifiedBy>
  <dcterms:modified xsi:type="dcterms:W3CDTF">2007-09-07T21:34:36Z</dcterms:modified>
  <cp:revision>164</cp:revision>
  <dc:subject/>
  <dc:title>ADVANCES IN GEOTECHNICAL DATA COLLECTION FOR LARGE UNDERGROUND MINES</dc:title>
</cp:coreProperties>
</file>