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C8B3-B04F-48CB-BEAA-8D768A63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DC8-81E3-40D3-9A63-8B10A943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F7AE-7B3B-422E-A5B9-69F18BB88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E6D4-8DB3-45CA-9B8E-AB672C9E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036-C84F-4011-B9F4-2D86F4AD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2DE2-0BF8-4DC0-889A-B24DF809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4BA3-7B1C-4557-8423-C8F4D5AF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C35-623C-45C8-9A39-1BC4D02E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1C1-933E-45C4-A5C1-096211BB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5F3D-222C-4583-B497-1B67391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F5F-8C37-4C00-8240-8D13A20A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7CE5-8A2C-4EB8-983B-D310271C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05E2-A016-4DDA-8621-08C180C04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068880"/>
            <a:ext cx="1676520" cy="78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0360" y="1836720"/>
            <a:ext cx="68407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conomía de los Recursos Naturales y Mercados de Mine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0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rso Gestión y Economía Mi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esor Octavio Araneda O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de Hot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telling (1931), asumió que el precio del mineral era una función de la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t) = p(0)e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a que para un productor, es indiferente producir a un precio p(0) ahora, que a un precio p(0)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spués de un tiempo 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ajo competencia perfecta, la extracción va estar determinada por la función de demanda (en este análisis se asume costo de producción nu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(t) =D(p(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reservas totales, son R, por lo tanto, en un tiempo T, se van a ago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752480" y="5029200"/>
                <a:ext cx="19051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09120" y="45720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=T, q(T) = 0, 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295280" y="914400"/>
                <a:ext cx="3222720" cy="434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gotamient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erv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plica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e>
                        </m:nary>
                      </m:e>
                      <m:e>
                        <m:r>
                          <m:t xml:space="preserve">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609480" y="55627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cuación que permite determinar el tiempo T en que se logra en agotamiento, y con ello la cantidad producida en cada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so Monopo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monopolista trata de maximizar su benefic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 P(q(t)) es la inversa de la función de demanda D(p(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condición de consumo de reservas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Hamiltoniano de valor corriente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676520" y="2057400"/>
                <a:ext cx="243828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752480" y="3886200"/>
                <a:ext cx="12956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76520" y="5334120"/>
                <a:ext cx="30477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19320" y="228600"/>
                <a:ext cx="3655800" cy="630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ueg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⇒</m:t>
                        </m:r>
                        <m:f>
                          <m:num>
                            <m:r>
                              <m:t xml:space="preserve">I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664800" y="5715000"/>
            <a:ext cx="43243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monopolista extrae mineral de manera 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ngreso marginal crezca a la tasa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aso monopolista – Demanda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622520" y="1523880"/>
                <a:ext cx="3619440" cy="571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ea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b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q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mo</m:t>
                        </m:r>
                        <m:r>
                          <m:t xml:space="preserve"> </m:t>
                        </m:r>
                        <m:f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μ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μ</m:t>
                            </m:r>
                          </m:sup>
                          <m:e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dμ</m:t>
                                </m:r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  <m:e/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184400" y="666720"/>
                <a:ext cx="3995640" cy="575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ene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a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er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  <m:e>
                        <m:r>
                          <m:t xml:space="preserve">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t xml:space="preserve">r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m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66680" y="914400"/>
                <a:ext cx="411480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erv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tales</m:t>
                        </m:r>
                        <m:r>
                          <m:t xml:space="preserve">: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sup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</m:e>
                        </m:nary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990720" y="2057400"/>
                <a:ext cx="2598480" cy="331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c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m</m:t>
                            </m:r>
                          </m:sup>
                        </m:sSup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T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etitiv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onopolio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r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4425120" y="2895480"/>
            <a:ext cx="432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industria competitiva inici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plota el recurso a una tasa mayor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mbién agota el recurso más rápido 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ductor monopól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monopolista restringe la 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mantener un precio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mparación industria competitiva v/s monopoli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trayectorias de los precios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trayectoria del monopolio parte a un valor mayor, pero en un cierto período se hace menor que el de la industria competi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23880" y="1066680"/>
                <a:ext cx="26672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q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e las trayectorias de producción y precios para una industria competitiva y un productor monopó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=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=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raf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alcular la asignación eficiente de producción para el proble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rva demanda: D=8-0.4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sto marginal: c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ervas totales Q=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sa de descuento r=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e el número de períodos en que se consume el recurso y la producción por perí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33520"/>
                <a:ext cx="4457880" cy="57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ienesta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cieda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duccion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mpres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cia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sea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U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  <m:r>
                          <m:t xml:space="preserve"> 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a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ndiciones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r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amo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d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ue</m:t>
                        </m:r>
                        <m:r>
                          <m:t xml:space="preserve"> 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ptimización – problemas contín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 de Hot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dustria competi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nop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blemas Contínu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a 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76520" y="2286000"/>
                <a:ext cx="304488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imizar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80880" y="510552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(t): variable de estado (eg reservas reman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(t): variable de control (eg producción en 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7680" y="722160"/>
            <a:ext cx="519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Hamiltoniano se define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19320" y="1371600"/>
                <a:ext cx="40384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33520" y="17524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uede demostrar que la condición de máximo está dad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438200" y="2362320"/>
                <a:ext cx="1443240" cy="30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dλ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forma de clasificar los problemas de optimización dinámica es sobre la base de si el tiempo terminal o el estado terminal están dados o son li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problema anterior se clasifica como “tiempo termina fijo, estado terminal libr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un problema de tiempo terminal libre, el que optimiza debe determinar el horizonte óptimo (T ópti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problemas de tiempo terminal libre, la condición que se agrega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371600" y="4343400"/>
                <a:ext cx="40384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escontando a valor pres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tiempo contínuo, el valor presente de N(t) puede ser calculado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523880" y="2209680"/>
                <a:ext cx="1905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457200" y="3429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tasa de descuento continua r (instantánea), se relaciona con la tasa anual (asumiendo que t son añ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447920" y="4038480"/>
                <a:ext cx="2895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e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2920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jemplo una tasa de descuento anual de 10%, es equivalente a una tasa contínua de 9,5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49880" y="569880"/>
            <a:ext cx="18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a el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523880" y="1143000"/>
                <a:ext cx="5105520" cy="455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V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r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fin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amiltonian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val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rriente</m:t>
                        </m:r>
                        <m:r>
                          <m:t xml:space="preserve">:</m:t>
                        </m:r>
                      </m:e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057400" y="1828800"/>
                <a:ext cx="1976400" cy="322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dμ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rμ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33520" y="68580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uede demostrar que la condición de máximo está dada p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19:03:55Z</dcterms:created>
  <dc:creator>Enrique Rubio</dc:creator>
  <dc:description/>
  <dc:language>en-US</dc:language>
  <cp:lastModifiedBy>oaraneda</cp:lastModifiedBy>
  <dcterms:modified xsi:type="dcterms:W3CDTF">2007-09-07T21:34:36Z</dcterms:modified>
  <cp:revision>164</cp:revision>
  <dc:subject/>
  <dc:title>ADVANCES IN GEOTECHNICAL DATA COLLECTION FOR LARGE UNDERGROUND MINES</dc:title>
</cp:coreProperties>
</file>