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A7F-E647-48C8-A82F-05E8A432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4F5-851D-4E07-940B-5F1FAC0E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E6F0-470D-4A26-87C7-1C3686DC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96D-67CC-4269-9F58-55BB0A56C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06E8-EEEE-44E0-9600-FCF3555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7054-7846-4884-AA9F-99ACC58B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6487-C332-4220-8BFA-42A1F5E6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912A-D0DC-4221-9210-1EA6B7A8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4530-CF8B-47AA-8C11-C6820B3D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205-657B-4413-8AA7-3EF58D54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1851-00C7-4A66-B1FE-A13F7B10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66F1-D90C-457C-9F7C-C325B728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40E6-19F4-4F2D-810A-F16C11276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lasticidad de la Dema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etales son un porcentaje bajo de los costos de los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barreras al cambio en el corto plazo, por los equipos y plantas de producción exist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753920" y="2285640"/>
            <a:ext cx="4454640" cy="3376800"/>
            <a:chOff x="1753920" y="2285640"/>
            <a:chExt cx="4454640" cy="3376800"/>
          </a:xfrm>
        </p:grpSpPr>
        <p:sp>
          <p:nvSpPr>
            <p:cNvPr id="150" name=""/>
            <p:cNvSpPr/>
            <p:nvPr/>
          </p:nvSpPr>
          <p:spPr>
            <a:xfrm flipV="1">
              <a:off x="2063880" y="22856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63880" y="5257800"/>
              <a:ext cx="410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25800" y="2590920"/>
              <a:ext cx="323712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7320" y="2514600"/>
              <a:ext cx="4978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3920" y="228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49640" y="529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14040" y="2398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34920" y="384660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64200" y="323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125440" y="3479760"/>
              <a:ext cx="301932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76440" y="350532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84200" y="521820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60040" y="3289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6159240" y="209376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fert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486040" y="2438280"/>
            <a:ext cx="6858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4379760"/>
            <a:ext cx="21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410080" y="42667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rcados de agri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inestabilidades se explican por fluctuaciones en la oferta (cli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12680" y="2666880"/>
            <a:ext cx="4461120" cy="3606120"/>
            <a:chOff x="1912680" y="2666880"/>
            <a:chExt cx="4461120" cy="3606120"/>
          </a:xfrm>
        </p:grpSpPr>
        <p:sp>
          <p:nvSpPr>
            <p:cNvPr id="170" name=""/>
            <p:cNvSpPr/>
            <p:nvPr/>
          </p:nvSpPr>
          <p:spPr>
            <a:xfrm flipV="1">
              <a:off x="2229120" y="289512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29120" y="5867280"/>
              <a:ext cx="410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1040" y="3530520"/>
              <a:ext cx="374148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34000" y="3213000"/>
              <a:ext cx="294624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19520" y="2895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14880" y="59036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63760" y="35812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0572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35240" y="4559040"/>
              <a:ext cx="2425680" cy="12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60920" y="449568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162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25280" y="3835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2640" y="2819160"/>
              <a:ext cx="3741840" cy="1650960"/>
            </a:xfrm>
            <a:custGeom>
              <a:avLst/>
              <a:gdLst/>
              <a:ahLst/>
              <a:rect l="l" t="t" r="r" b="b"/>
              <a:pathLst>
                <a:path w="2357" h="1040">
                  <a:moveTo>
                    <a:pt x="0" y="1040"/>
                  </a:moveTo>
                  <a:cubicBezTo>
                    <a:pt x="75" y="1035"/>
                    <a:pt x="285" y="1036"/>
                    <a:pt x="451" y="1008"/>
                  </a:cubicBezTo>
                  <a:cubicBezTo>
                    <a:pt x="617" y="980"/>
                    <a:pt x="835" y="925"/>
                    <a:pt x="997" y="872"/>
                  </a:cubicBezTo>
                  <a:cubicBezTo>
                    <a:pt x="1159" y="819"/>
                    <a:pt x="1273" y="763"/>
                    <a:pt x="1421" y="688"/>
                  </a:cubicBezTo>
                  <a:cubicBezTo>
                    <a:pt x="1569" y="613"/>
                    <a:pt x="1729" y="539"/>
                    <a:pt x="1885" y="424"/>
                  </a:cubicBezTo>
                  <a:cubicBezTo>
                    <a:pt x="2041" y="309"/>
                    <a:pt x="2259" y="88"/>
                    <a:pt x="2357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22640" y="4076640"/>
              <a:ext cx="1854360" cy="12600"/>
            </a:xfrm>
            <a:custGeom>
              <a:avLst/>
              <a:gdLst/>
              <a:ahLst/>
              <a:rect l="l" t="t" r="r" b="b"/>
              <a:pathLst>
                <a:path w="1168" h="8">
                  <a:moveTo>
                    <a:pt x="1168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51440" y="4101840"/>
              <a:ext cx="1440" cy="1765440"/>
            </a:xfrm>
            <a:custGeom>
              <a:avLst/>
              <a:gdLst/>
              <a:ahLst/>
              <a:rect l="l" t="t" r="r" b="b"/>
              <a:pathLst>
                <a:path w="1" h="1112">
                  <a:moveTo>
                    <a:pt x="0" y="0"/>
                  </a:moveTo>
                  <a:lnTo>
                    <a:pt x="0" y="1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277960" y="266688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 flipV="1">
              <a:off x="4736880" y="388620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30400" y="586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203360" y="60195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912680" y="43304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070360" y="419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160020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 y 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vendedor (monopolio) o comprador (monopson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ducto ú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rreras de entrada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Diam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29680" y="4379760"/>
            <a:ext cx="97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6640" y="4267080"/>
            <a:ext cx="22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al de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38680" y="443232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55960" y="43434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t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55920" y="5334120"/>
            <a:ext cx="181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nopolist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/3 d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radores de mineral de hierro en Japón (monopson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ergía Eléctrica (monopolio regul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greso marginal e Ingreso 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edio: AR = R(q) / q = P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greso Marginal: MR = dR/d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5740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7400" y="57150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86160" y="3160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57400" y="365760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4520" y="35053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 (Deman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3352320" y="38098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365760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96000" y="483696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666880" y="487656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R(q) – C(q), q* que maximiza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es tal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R(q)/dq = dC(q)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R = 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610640" y="2971440"/>
            <a:ext cx="5455440" cy="3493080"/>
            <a:chOff x="1610640" y="2971440"/>
            <a:chExt cx="5455440" cy="3493080"/>
          </a:xfrm>
        </p:grpSpPr>
        <p:sp>
          <p:nvSpPr>
            <p:cNvPr id="219" name=""/>
            <p:cNvSpPr/>
            <p:nvPr/>
          </p:nvSpPr>
          <p:spPr>
            <a:xfrm flipV="1">
              <a:off x="2000160" y="297144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00160" y="5943600"/>
              <a:ext cx="478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62080" y="3086280"/>
              <a:ext cx="3640320" cy="2171520"/>
            </a:xfrm>
            <a:custGeom>
              <a:avLst/>
              <a:gdLst/>
              <a:ahLst/>
              <a:rect l="l" t="t" r="r" b="b"/>
              <a:pathLst>
                <a:path w="2293" h="1368">
                  <a:moveTo>
                    <a:pt x="0" y="1368"/>
                  </a:moveTo>
                  <a:cubicBezTo>
                    <a:pt x="75" y="1363"/>
                    <a:pt x="285" y="1364"/>
                    <a:pt x="451" y="1336"/>
                  </a:cubicBezTo>
                  <a:cubicBezTo>
                    <a:pt x="617" y="1308"/>
                    <a:pt x="835" y="1253"/>
                    <a:pt x="997" y="1200"/>
                  </a:cubicBezTo>
                  <a:cubicBezTo>
                    <a:pt x="1159" y="1147"/>
                    <a:pt x="1280" y="1108"/>
                    <a:pt x="1421" y="1016"/>
                  </a:cubicBezTo>
                  <a:cubicBezTo>
                    <a:pt x="1562" y="924"/>
                    <a:pt x="1700" y="817"/>
                    <a:pt x="1845" y="648"/>
                  </a:cubicBezTo>
                  <a:cubicBezTo>
                    <a:pt x="1990" y="479"/>
                    <a:pt x="2200" y="135"/>
                    <a:pt x="2293" y="0"/>
                  </a:cubicBezTo>
                </a:path>
              </a:pathLst>
            </a:custGeom>
            <a:noFill/>
            <a:ln w="2232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19240" y="3276720"/>
              <a:ext cx="2946600" cy="2286000"/>
            </a:xfrm>
            <a:custGeom>
              <a:avLst/>
              <a:gdLst/>
              <a:ahLst/>
              <a:rect l="l" t="t" r="r" b="b"/>
              <a:pathLst>
                <a:path w="1856" h="1440">
                  <a:moveTo>
                    <a:pt x="0" y="0"/>
                  </a:moveTo>
                  <a:lnTo>
                    <a:pt x="1856" y="1440"/>
                  </a:ln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90920" y="2971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7160" y="6096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16800" y="312444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5400" y="4343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38480" y="3962520"/>
              <a:ext cx="0" cy="198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10640" y="3886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96640" y="59436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6640" y="3289320"/>
              <a:ext cx="3873600" cy="1295640"/>
            </a:xfrm>
            <a:custGeom>
              <a:avLst/>
              <a:gdLst/>
              <a:ahLst/>
              <a:rect l="l" t="t" r="r" b="b"/>
              <a:pathLst>
                <a:path w="2440" h="816">
                  <a:moveTo>
                    <a:pt x="0" y="0"/>
                  </a:moveTo>
                  <a:lnTo>
                    <a:pt x="2440" y="8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15160" y="521820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980720" y="396252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74920" y="3606840"/>
              <a:ext cx="4254480" cy="1027080"/>
            </a:xfrm>
            <a:custGeom>
              <a:avLst/>
              <a:gdLst/>
              <a:ahLst/>
              <a:rect l="l" t="t" r="r" b="b"/>
              <a:pathLst>
                <a:path w="2680" h="647">
                  <a:moveTo>
                    <a:pt x="0" y="96"/>
                  </a:moveTo>
                  <a:cubicBezTo>
                    <a:pt x="67" y="152"/>
                    <a:pt x="284" y="355"/>
                    <a:pt x="400" y="432"/>
                  </a:cubicBezTo>
                  <a:cubicBezTo>
                    <a:pt x="516" y="509"/>
                    <a:pt x="571" y="525"/>
                    <a:pt x="696" y="560"/>
                  </a:cubicBezTo>
                  <a:cubicBezTo>
                    <a:pt x="821" y="595"/>
                    <a:pt x="983" y="647"/>
                    <a:pt x="1152" y="640"/>
                  </a:cubicBezTo>
                  <a:cubicBezTo>
                    <a:pt x="1321" y="633"/>
                    <a:pt x="1457" y="627"/>
                    <a:pt x="1712" y="520"/>
                  </a:cubicBezTo>
                  <a:cubicBezTo>
                    <a:pt x="1967" y="413"/>
                    <a:pt x="2478" y="108"/>
                    <a:pt x="268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34480" y="3618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a C(q) = 50 + q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 y la demanda dada por P(q) = 40 – 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termine precio de venta y cantidad producida por un monopol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cule la utilidad del monopolista y dibuje las curvas de MC, AC, MR y 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 social del monop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2000160" y="228564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00160" y="525780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62080" y="2400480"/>
            <a:ext cx="364032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19240" y="2590920"/>
            <a:ext cx="2946600" cy="2286000"/>
          </a:xfrm>
          <a:custGeom>
            <a:avLst/>
            <a:gdLst/>
            <a:ahLst/>
            <a:rect l="l" t="t" r="r" b="b"/>
            <a:pathLst>
              <a:path w="1856" h="1440">
                <a:moveTo>
                  <a:pt x="0" y="0"/>
                </a:moveTo>
                <a:lnTo>
                  <a:pt x="1856" y="1440"/>
                </a:lnTo>
              </a:path>
            </a:pathLst>
          </a:custGeom>
          <a:noFill/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0920" y="2286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07160" y="5410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16800" y="24382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5400" y="3657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38480" y="32767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610640" y="30481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96640" y="52578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06640" y="2603520"/>
            <a:ext cx="3873600" cy="129528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15160" y="4532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980720" y="3276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81080" y="35812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06680" y="3429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7692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807080" y="527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8320" y="1852560"/>
            <a:ext cx="35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consum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276360" y="2209680"/>
            <a:ext cx="152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62520" y="2209680"/>
            <a:ext cx="3808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184360" y="4114800"/>
            <a:ext cx="339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érdida de excedente del prod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flipV="1">
            <a:off x="4343400" y="3809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im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m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ndaria </a:t>
            </a:r>
            <a:r>
              <a:rPr b="0" lang="es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l sc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res individ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b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imitada por la producción del producto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o principal: su precio determina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bproducto: su precio no tiene influencia en la cantidad de mineral a produc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 f (……,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oducto principal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conjuntos,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 mineral extra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ubpro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stos específico de producir el subprodu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 del subproducto extra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41972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5410080"/>
            <a:ext cx="48564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nopolio natural es una firma que puede producir toda la producción del mercado a un costo que es menor que si hubieran varias firmas. Ocurre cuando hay fuertes economías de esca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define su producción a un nivel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onde MR=MC, entregando una cantidad menor que lo deseable socialmente q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301840" y="35445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301840" y="60595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830600" y="3505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73640" y="6172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01840" y="4002120"/>
            <a:ext cx="3505320" cy="20574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837160" y="40784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01840" y="4002120"/>
            <a:ext cx="1828800" cy="20574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11880" y="575460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78160" y="438300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78160" y="4764240"/>
            <a:ext cx="3441600" cy="1054080"/>
          </a:xfrm>
          <a:custGeom>
            <a:avLst/>
            <a:gdLst/>
            <a:ahLst/>
            <a:rect l="l" t="t" r="r" b="b"/>
            <a:pathLst>
              <a:path w="2168" h="664">
                <a:moveTo>
                  <a:pt x="0" y="0"/>
                </a:moveTo>
                <a:cubicBezTo>
                  <a:pt x="28" y="68"/>
                  <a:pt x="55" y="127"/>
                  <a:pt x="144" y="192"/>
                </a:cubicBezTo>
                <a:cubicBezTo>
                  <a:pt x="233" y="257"/>
                  <a:pt x="376" y="333"/>
                  <a:pt x="536" y="392"/>
                </a:cubicBezTo>
                <a:cubicBezTo>
                  <a:pt x="696" y="451"/>
                  <a:pt x="832" y="499"/>
                  <a:pt x="1104" y="544"/>
                </a:cubicBezTo>
                <a:cubicBezTo>
                  <a:pt x="1376" y="589"/>
                  <a:pt x="1946" y="639"/>
                  <a:pt x="2168" y="66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656680" y="51451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808960" y="5678640"/>
            <a:ext cx="4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301840" y="47642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73440" y="476424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839240" y="45720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35280" y="5486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6019920"/>
            <a:ext cx="24393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85640" y="575316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21160" y="5753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olios Natu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ular el precio en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 producción en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no es posible ya que 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menor que el costo de producción, y el monopolista tendría pér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varias formas de evitar esas pér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ubsidi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de tarifa de dos partes: un cargo fijo para satisfacer los requerimientos de utilidades y una parte por precio unitario a costo marg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so de costo medio </a:t>
            </a:r>
            <a:r>
              <a:rPr b="0" lang="es-E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 = 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29200" y="582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135160" y="3962520"/>
            <a:ext cx="4662000" cy="2556360"/>
            <a:chOff x="2135160" y="3962520"/>
            <a:chExt cx="4662000" cy="2556360"/>
          </a:xfrm>
        </p:grpSpPr>
        <p:sp>
          <p:nvSpPr>
            <p:cNvPr id="286" name=""/>
            <p:cNvSpPr/>
            <p:nvPr/>
          </p:nvSpPr>
          <p:spPr>
            <a:xfrm flipV="1">
              <a:off x="2606400" y="400176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606400" y="6516720"/>
              <a:ext cx="419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35160" y="3962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06400" y="4459320"/>
              <a:ext cx="3504960" cy="20574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41360" y="45356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06400" y="4459320"/>
              <a:ext cx="1828440" cy="2057400"/>
            </a:xfrm>
            <a:prstGeom prst="line">
              <a:avLst/>
            </a:prstGeom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16080" y="621180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82720" y="484020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82720" y="5221440"/>
              <a:ext cx="3441240" cy="1054080"/>
            </a:xfrm>
            <a:custGeom>
              <a:avLst/>
              <a:gdLst/>
              <a:ahLst/>
              <a:rect l="l" t="t" r="r" b="b"/>
              <a:pathLst>
                <a:path w="2168" h="664">
                  <a:moveTo>
                    <a:pt x="0" y="0"/>
                  </a:moveTo>
                  <a:cubicBezTo>
                    <a:pt x="28" y="68"/>
                    <a:pt x="55" y="127"/>
                    <a:pt x="144" y="192"/>
                  </a:cubicBezTo>
                  <a:cubicBezTo>
                    <a:pt x="233" y="257"/>
                    <a:pt x="376" y="333"/>
                    <a:pt x="536" y="392"/>
                  </a:cubicBezTo>
                  <a:cubicBezTo>
                    <a:pt x="696" y="451"/>
                    <a:pt x="832" y="499"/>
                    <a:pt x="1104" y="544"/>
                  </a:cubicBezTo>
                  <a:cubicBezTo>
                    <a:pt x="1376" y="589"/>
                    <a:pt x="1946" y="639"/>
                    <a:pt x="2168" y="664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0880" y="56023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13160" y="6135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</a:rPr>
                <a:t>M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606040" y="5221440"/>
              <a:ext cx="137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606040" y="575460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606400" y="621180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78000" y="52214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16080" y="57546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78200" y="62118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44160" y="5029200"/>
              <a:ext cx="41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4240" y="552600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55680" y="6059520"/>
              <a:ext cx="374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059280" y="6461280"/>
            <a:ext cx="276516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onopsonios tienden a comprar menos unidades a bajos pre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función objetivo es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(q) = V – S, donde S=gasto (al comprar), V=valor para el comprador de la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dV/dq = dS/dq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V = 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 decir el optimo se obtiene cuando beneficio adicional de comprar una unidad más del producto, es igual al costo adicional de comprar dich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5248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1752480" y="22093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57560" y="201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91680" y="537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43200" y="2514600"/>
            <a:ext cx="289548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71640" y="41511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057400" y="2590920"/>
            <a:ext cx="3639960" cy="217152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2260440"/>
            <a:ext cx="2857680" cy="2349720"/>
          </a:xfrm>
          <a:custGeom>
            <a:avLst/>
            <a:gdLst/>
            <a:ahLst/>
            <a:rect l="l" t="t" r="r" b="b"/>
            <a:pathLst>
              <a:path w="1800" h="1480">
                <a:moveTo>
                  <a:pt x="0" y="1480"/>
                </a:moveTo>
                <a:cubicBezTo>
                  <a:pt x="75" y="1460"/>
                  <a:pt x="283" y="1420"/>
                  <a:pt x="448" y="1360"/>
                </a:cubicBezTo>
                <a:cubicBezTo>
                  <a:pt x="613" y="1300"/>
                  <a:pt x="840" y="1217"/>
                  <a:pt x="992" y="1120"/>
                </a:cubicBezTo>
                <a:cubicBezTo>
                  <a:pt x="1144" y="1023"/>
                  <a:pt x="1255" y="900"/>
                  <a:pt x="1360" y="776"/>
                </a:cubicBezTo>
                <a:cubicBezTo>
                  <a:pt x="1465" y="652"/>
                  <a:pt x="1551" y="505"/>
                  <a:pt x="1624" y="376"/>
                </a:cubicBezTo>
                <a:cubicBezTo>
                  <a:pt x="1697" y="247"/>
                  <a:pt x="1763" y="78"/>
                  <a:pt x="1800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62464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8480" y="21700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52960" y="35812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1752480" y="4267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66200" y="399888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3080" y="52182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78480" y="5257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752480" y="396252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8320" y="3962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8080" y="37339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2336760"/>
            <a:ext cx="57913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irmas domin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o algunas grandes firmas que actúan como monopo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rias firmas pequeñas que actúan como firmas en un mercado competitivo (tomadores de pre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odak en la industria de rol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oeing/Air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riormente INCO y ALCO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é existe la firma domin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s cos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ducto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usión (comportamiento de 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 flipV="1">
            <a:off x="2076480" y="76176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076480" y="3733920"/>
            <a:ext cx="478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38400" y="876240"/>
            <a:ext cx="3639960" cy="21718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66880" y="762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83120" y="3886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06440" y="91440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707520" y="2362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84080" y="129528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81520" y="3733920"/>
            <a:ext cx="41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082960" y="1079640"/>
            <a:ext cx="4851360" cy="1663560"/>
          </a:xfrm>
          <a:custGeom>
            <a:avLst/>
            <a:gdLst/>
            <a:ahLst/>
            <a:rect l="l" t="t" r="r" b="b"/>
            <a:pathLst>
              <a:path w="2440" h="816">
                <a:moveTo>
                  <a:pt x="0" y="0"/>
                </a:moveTo>
                <a:lnTo>
                  <a:pt x="24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104800" y="300816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R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2057400" y="2438280"/>
            <a:ext cx="39625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680840" y="213372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7040" y="3733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7400" y="685800"/>
            <a:ext cx="1828800" cy="1714680"/>
          </a:xfrm>
          <a:custGeom>
            <a:avLst/>
            <a:gdLst/>
            <a:ahLst/>
            <a:rect l="l" t="t" r="r" b="b"/>
            <a:pathLst>
              <a:path w="2293" h="1368">
                <a:moveTo>
                  <a:pt x="0" y="1368"/>
                </a:moveTo>
                <a:cubicBezTo>
                  <a:pt x="75" y="1363"/>
                  <a:pt x="285" y="1364"/>
                  <a:pt x="451" y="1336"/>
                </a:cubicBezTo>
                <a:cubicBezTo>
                  <a:pt x="617" y="1308"/>
                  <a:pt x="835" y="1253"/>
                  <a:pt x="997" y="1200"/>
                </a:cubicBezTo>
                <a:cubicBezTo>
                  <a:pt x="1159" y="1147"/>
                  <a:pt x="1280" y="1108"/>
                  <a:pt x="1421" y="1016"/>
                </a:cubicBezTo>
                <a:cubicBezTo>
                  <a:pt x="1562" y="924"/>
                  <a:pt x="1700" y="817"/>
                  <a:pt x="1845" y="648"/>
                </a:cubicBezTo>
                <a:cubicBezTo>
                  <a:pt x="1990" y="479"/>
                  <a:pt x="2200" y="135"/>
                  <a:pt x="2293" y="0"/>
                </a:cubicBezTo>
              </a:path>
            </a:pathLst>
          </a:custGeom>
          <a:noFill/>
          <a:ln w="22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77640" y="533520"/>
            <a:ext cx="71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C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057400" y="15494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523880"/>
            <a:ext cx="3200400" cy="1828800"/>
          </a:xfrm>
          <a:custGeom>
            <a:avLst/>
            <a:gdLst/>
            <a:ahLst/>
            <a:rect l="l" t="t" r="r" b="b"/>
            <a:pathLst>
              <a:path w="2016" h="1152">
                <a:moveTo>
                  <a:pt x="0" y="0"/>
                </a:moveTo>
                <a:cubicBezTo>
                  <a:pt x="52" y="128"/>
                  <a:pt x="104" y="256"/>
                  <a:pt x="240" y="384"/>
                </a:cubicBezTo>
                <a:cubicBezTo>
                  <a:pt x="376" y="512"/>
                  <a:pt x="520" y="640"/>
                  <a:pt x="816" y="768"/>
                </a:cubicBezTo>
                <a:cubicBezTo>
                  <a:pt x="1112" y="896"/>
                  <a:pt x="1564" y="1024"/>
                  <a:pt x="2016" y="11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981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6224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581280" y="1981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439440" y="3746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57400" y="1523880"/>
            <a:ext cx="3886200" cy="914400"/>
          </a:xfrm>
          <a:custGeom>
            <a:avLst/>
            <a:gdLst/>
            <a:ahLst/>
            <a:rect l="l" t="t" r="r" b="b"/>
            <a:pathLst>
              <a:path w="2448" h="576">
                <a:moveTo>
                  <a:pt x="0" y="0"/>
                </a:moveTo>
                <a:cubicBezTo>
                  <a:pt x="276" y="96"/>
                  <a:pt x="552" y="192"/>
                  <a:pt x="960" y="288"/>
                </a:cubicBezTo>
                <a:cubicBezTo>
                  <a:pt x="1368" y="384"/>
                  <a:pt x="1908" y="480"/>
                  <a:pt x="2448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62480" y="17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206240" y="1295280"/>
            <a:ext cx="52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190760" y="16002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55520" y="4403880"/>
            <a:ext cx="757224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p &gt;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a demanda es servida completamente por las firmas competi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as firmas competitivas no pueden ofrecer productos, por l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manda residual para la firma dominante es toda la de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tre ambos precios, se puede calcular una demanda residual “libre” para la fi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minantes 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os pocos vendedores o compradores, cada uno lo suficientemente grandes para influir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ligopolio cooperativo (Cart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firmas coordinan sus acciones para maximizar los beneficios conju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últimos 100 años, en cada mercado de metales ha habido intentos para crear 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IPEC es un eje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ejan gran parte del mer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manda inelástica al pr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operación interna / baja probabilidad de castigo del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ser exitosos en el cort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largo plazo, los mayores precios incentivan el aumento de producción de firmas fuera del cartel, y la disminución de la demanda por innovación tecnológica y uso de sustit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ligopolio y Oligopso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ligopolio no coope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cepto clave: cada compañía tiene que estar preocupada de que podría estar haciendo la otra compañ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Nickel: INCO, W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eral de hierro en asia: RTZ, B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erequisitos para cooperación exit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ueños de gran parte del mercado y con barreras de ent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asticidad precio de la demanda es b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mogeneidad cultu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úmero de miemb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mas políticos / militares /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ajas expectativas de intervenció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prim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lmente tiene menor costo producirlo como subproducto, que como producción indivi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 mercado molibd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514600" y="35809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5715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91080" y="34653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$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39400" y="575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3733920"/>
            <a:ext cx="1371600" cy="106668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0" y="1296"/>
                </a:moveTo>
                <a:cubicBezTo>
                  <a:pt x="108" y="1280"/>
                  <a:pt x="216" y="1264"/>
                  <a:pt x="336" y="1200"/>
                </a:cubicBezTo>
                <a:cubicBezTo>
                  <a:pt x="456" y="1136"/>
                  <a:pt x="632" y="1112"/>
                  <a:pt x="720" y="912"/>
                </a:cubicBezTo>
                <a:cubicBezTo>
                  <a:pt x="808" y="712"/>
                  <a:pt x="836" y="356"/>
                  <a:pt x="864" y="0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37920" y="3465360"/>
            <a:ext cx="1209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ri 1970-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3657600"/>
            <a:ext cx="990720" cy="15238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886200"/>
            <a:ext cx="3429000" cy="129528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55880" y="327672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19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04000" y="4114800"/>
            <a:ext cx="86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by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4267080"/>
            <a:ext cx="2057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Quienes s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abia Saudi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ira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ra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ezue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rg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on miembr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éxi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u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m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K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 USS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icip Mercado /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0% - 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 -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rreras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nda Inelástica ?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1 – 0,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0,8 – 1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operación Inter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s o m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vención Gobier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un 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495680"/>
            <a:ext cx="82296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s en cierta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 OPEC 8 a 10 US$/barril sobre precio compet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73 – 1986: Controlaron los precios (price ma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986 – presente: Tienen menos control sobre los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secund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scrap nu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nerado en procesos de manufac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oferta no es muy sensible al precio, siempre que el precio esté sobre los costos de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: bajo y hom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886200" cy="17258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4633920" y="1523880"/>
            <a:ext cx="3556440" cy="2502000"/>
            <a:chOff x="4633920" y="1523880"/>
            <a:chExt cx="3556440" cy="2502000"/>
          </a:xfrm>
        </p:grpSpPr>
        <p:sp>
          <p:nvSpPr>
            <p:cNvPr id="66" name=""/>
            <p:cNvSpPr/>
            <p:nvPr/>
          </p:nvSpPr>
          <p:spPr>
            <a:xfrm flipV="1">
              <a:off x="5029200" y="167616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35812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33920" y="1560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773840" y="36576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29200" y="2133720"/>
              <a:ext cx="2209680" cy="1143000"/>
            </a:xfrm>
            <a:custGeom>
              <a:avLst/>
              <a:gdLst/>
              <a:ahLst/>
              <a:rect l="l" t="t" r="r" b="b"/>
              <a:pathLst>
                <a:path w="1536" h="912">
                  <a:moveTo>
                    <a:pt x="0" y="912"/>
                  </a:moveTo>
                  <a:cubicBezTo>
                    <a:pt x="108" y="904"/>
                    <a:pt x="209" y="884"/>
                    <a:pt x="336" y="864"/>
                  </a:cubicBezTo>
                  <a:cubicBezTo>
                    <a:pt x="463" y="844"/>
                    <a:pt x="608" y="840"/>
                    <a:pt x="761" y="791"/>
                  </a:cubicBezTo>
                  <a:cubicBezTo>
                    <a:pt x="914" y="742"/>
                    <a:pt x="1138" y="658"/>
                    <a:pt x="1255" y="571"/>
                  </a:cubicBezTo>
                  <a:cubicBezTo>
                    <a:pt x="1372" y="484"/>
                    <a:pt x="1418" y="365"/>
                    <a:pt x="1465" y="270"/>
                  </a:cubicBezTo>
                  <a:cubicBezTo>
                    <a:pt x="1512" y="175"/>
                    <a:pt x="1521" y="56"/>
                    <a:pt x="153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7391520" y="182880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7400" y="2666880"/>
              <a:ext cx="1378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stos reproces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3000" y="1523880"/>
              <a:ext cx="110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crap antig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80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stos alto y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persos geográficamente: costos de colección, selección, transporte y re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eterogén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ductos descar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045040" y="27432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45040" y="4648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50120" y="2627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89680" y="4724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45040" y="3200400"/>
            <a:ext cx="2209680" cy="1143000"/>
          </a:xfrm>
          <a:custGeom>
            <a:avLst/>
            <a:gdLst/>
            <a:ahLst/>
            <a:rect l="l" t="t" r="r" b="b"/>
            <a:pathLst>
              <a:path w="1536" h="912">
                <a:moveTo>
                  <a:pt x="0" y="912"/>
                </a:moveTo>
                <a:cubicBezTo>
                  <a:pt x="108" y="904"/>
                  <a:pt x="209" y="884"/>
                  <a:pt x="336" y="864"/>
                </a:cubicBezTo>
                <a:cubicBezTo>
                  <a:pt x="463" y="844"/>
                  <a:pt x="608" y="840"/>
                  <a:pt x="761" y="791"/>
                </a:cubicBezTo>
                <a:cubicBezTo>
                  <a:pt x="914" y="742"/>
                  <a:pt x="1138" y="658"/>
                  <a:pt x="1255" y="571"/>
                </a:cubicBezTo>
                <a:cubicBezTo>
                  <a:pt x="1372" y="484"/>
                  <a:pt x="1418" y="365"/>
                  <a:pt x="1465" y="270"/>
                </a:cubicBezTo>
                <a:cubicBezTo>
                  <a:pt x="1512" y="175"/>
                  <a:pt x="1521" y="56"/>
                  <a:pt x="1536" y="0"/>
                </a:cubicBezTo>
              </a:path>
            </a:pathLst>
          </a:custGeom>
          <a:noFill/>
          <a:ln w="22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407360" y="28951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3240" y="373392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stos re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8840" y="25909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ferta to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5520" y="2133720"/>
            <a:ext cx="7312680" cy="3871800"/>
            <a:chOff x="1145520" y="2133720"/>
            <a:chExt cx="7312680" cy="3871800"/>
          </a:xfrm>
        </p:grpSpPr>
        <p:sp>
          <p:nvSpPr>
            <p:cNvPr id="86" name=""/>
            <p:cNvSpPr/>
            <p:nvPr/>
          </p:nvSpPr>
          <p:spPr>
            <a:xfrm>
              <a:off x="7942680" y="56372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145520" y="2133720"/>
              <a:ext cx="7312680" cy="3370320"/>
              <a:chOff x="1145520" y="2133720"/>
              <a:chExt cx="7312680" cy="337032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1736640" y="2171880"/>
                <a:ext cx="0" cy="333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736640" y="5504040"/>
                <a:ext cx="672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145520" y="213372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52480" y="2438280"/>
                <a:ext cx="1600200" cy="199872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752480" y="2362320"/>
                <a:ext cx="3124440" cy="1388880"/>
              </a:xfrm>
              <a:custGeom>
                <a:avLst/>
                <a:gdLst/>
                <a:ahLst/>
                <a:rect l="l" t="t" r="r" b="b"/>
                <a:pathLst>
                  <a:path w="1536" h="912">
                    <a:moveTo>
                      <a:pt x="0" y="912"/>
                    </a:moveTo>
                    <a:cubicBezTo>
                      <a:pt x="108" y="904"/>
                      <a:pt x="209" y="884"/>
                      <a:pt x="336" y="864"/>
                    </a:cubicBezTo>
                    <a:cubicBezTo>
                      <a:pt x="463" y="844"/>
                      <a:pt x="608" y="840"/>
                      <a:pt x="761" y="791"/>
                    </a:cubicBezTo>
                    <a:cubicBezTo>
                      <a:pt x="914" y="742"/>
                      <a:pt x="1138" y="658"/>
                      <a:pt x="1255" y="571"/>
                    </a:cubicBezTo>
                    <a:cubicBezTo>
                      <a:pt x="1372" y="484"/>
                      <a:pt x="1418" y="365"/>
                      <a:pt x="1465" y="270"/>
                    </a:cubicBezTo>
                    <a:cubicBezTo>
                      <a:pt x="1512" y="175"/>
                      <a:pt x="1521" y="56"/>
                      <a:pt x="1536" y="0"/>
                    </a:cubicBezTo>
                  </a:path>
                </a:pathLst>
              </a:custGeom>
              <a:noFill/>
              <a:ln w="2232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1752480" y="3885840"/>
                <a:ext cx="838440" cy="1143000"/>
              </a:xfrm>
              <a:prstGeom prst="line">
                <a:avLst/>
              </a:prstGeom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977120" y="377028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55080" y="2362320"/>
              <a:ext cx="47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960080" y="23623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75248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357560" y="1905120"/>
            <a:ext cx="6379560" cy="3987000"/>
            <a:chOff x="1357560" y="1905120"/>
            <a:chExt cx="6379560" cy="3987000"/>
          </a:xfrm>
        </p:grpSpPr>
        <p:sp>
          <p:nvSpPr>
            <p:cNvPr id="100" name=""/>
            <p:cNvSpPr/>
            <p:nvPr/>
          </p:nvSpPr>
          <p:spPr>
            <a:xfrm>
              <a:off x="6705720" y="293544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357560" y="1905120"/>
              <a:ext cx="6379560" cy="3987000"/>
              <a:chOff x="1357560" y="1905120"/>
              <a:chExt cx="6379560" cy="39870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1752480" y="3697560"/>
                <a:ext cx="2286000" cy="1328760"/>
                <a:chOff x="1752480" y="3697560"/>
                <a:chExt cx="2286000" cy="1328760"/>
              </a:xfrm>
            </p:grpSpPr>
            <p:sp>
              <p:nvSpPr>
                <p:cNvPr id="103" name=""/>
                <p:cNvSpPr/>
                <p:nvPr/>
              </p:nvSpPr>
              <p:spPr>
                <a:xfrm flipV="1">
                  <a:off x="1752480" y="4383360"/>
                  <a:ext cx="457200" cy="64296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09680" y="3697560"/>
                  <a:ext cx="1828800" cy="685800"/>
                </a:xfrm>
                <a:custGeom>
                  <a:avLst/>
                  <a:gdLst/>
                  <a:ahLst/>
                  <a:rect l="l" t="t" r="r" b="b"/>
                  <a:pathLst>
                    <a:path w="1152" h="432">
                      <a:moveTo>
                        <a:pt x="0" y="432"/>
                      </a:moveTo>
                      <a:cubicBezTo>
                        <a:pt x="180" y="400"/>
                        <a:pt x="360" y="368"/>
                        <a:pt x="480" y="336"/>
                      </a:cubicBezTo>
                      <a:cubicBezTo>
                        <a:pt x="600" y="304"/>
                        <a:pt x="632" y="280"/>
                        <a:pt x="720" y="240"/>
                      </a:cubicBezTo>
                      <a:cubicBezTo>
                        <a:pt x="808" y="200"/>
                        <a:pt x="936" y="136"/>
                        <a:pt x="1008" y="96"/>
                      </a:cubicBezTo>
                      <a:cubicBezTo>
                        <a:pt x="1080" y="56"/>
                        <a:pt x="1080" y="0"/>
                        <a:pt x="1152" y="0"/>
                      </a:cubicBezTo>
                    </a:path>
                  </a:pathLst>
                </a:custGeom>
                <a:noFill/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"/>
              <p:cNvSpPr/>
              <p:nvPr/>
            </p:nvSpPr>
            <p:spPr>
              <a:xfrm>
                <a:off x="4038480" y="2325960"/>
                <a:ext cx="3124440" cy="1371600"/>
              </a:xfrm>
              <a:custGeom>
                <a:avLst/>
                <a:gdLst/>
                <a:ahLst/>
                <a:rect l="l" t="t" r="r" b="b"/>
                <a:pathLst>
                  <a:path w="1968" h="864">
                    <a:moveTo>
                      <a:pt x="0" y="864"/>
                    </a:moveTo>
                    <a:cubicBezTo>
                      <a:pt x="304" y="848"/>
                      <a:pt x="608" y="832"/>
                      <a:pt x="864" y="768"/>
                    </a:cubicBezTo>
                    <a:cubicBezTo>
                      <a:pt x="1120" y="704"/>
                      <a:pt x="1352" y="608"/>
                      <a:pt x="1536" y="480"/>
                    </a:cubicBezTo>
                    <a:cubicBezTo>
                      <a:pt x="1720" y="352"/>
                      <a:pt x="1844" y="176"/>
                      <a:pt x="1968" y="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719360" y="29354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172200" y="2021040"/>
                <a:ext cx="1371600" cy="2286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86760" y="1905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91640" y="2438640"/>
                <a:ext cx="64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tot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909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27672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572000" y="2935440"/>
                <a:ext cx="0" cy="251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200" y="5486400"/>
                <a:ext cx="4155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os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by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                  q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p                                            </a:t>
                </a: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q*</a:t>
                </a:r>
                <a:r>
                  <a:rPr b="0" lang="es-ES" sz="1800" spc="-1" strike="noStrike" baseline="-25000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357560" y="266724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Arial"/>
                  </a:rPr>
                  <a:t>P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914400"/>
            <a:ext cx="579096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0716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opolios y Monopso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rmas dominantes y oligopol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estabilidad de corto plaz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metales bá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cios y cantidades se mueven en conjunto: cuando los precios están altos, las cantidades producidas son al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tendencias similares en todos los metales: Cu, Al, Acero, Pb, Zn, Sn, Mineral de Hi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azones de la inestabilidad de precios en el corto plaz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emanda está relacionada con el cic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manda inelá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elasticidad de la oferta cerca de producción máx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tres factores, explican la naturaleza “boom and bust” de los mercados de me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emanda relacionada con ciclo de nego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recesiones, los individuos prefieren posponer el consumo de autos, casas, tranport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gunos bienes como alimentos y servicios de salud son menos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astos en Inversión son muy volát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01640" y="3365280"/>
            <a:ext cx="5408280" cy="3377160"/>
            <a:chOff x="1601640" y="3365280"/>
            <a:chExt cx="5408280" cy="3377160"/>
          </a:xfrm>
        </p:grpSpPr>
        <p:sp>
          <p:nvSpPr>
            <p:cNvPr id="123" name=""/>
            <p:cNvSpPr/>
            <p:nvPr/>
          </p:nvSpPr>
          <p:spPr>
            <a:xfrm flipV="1">
              <a:off x="1981080" y="3365280"/>
              <a:ext cx="0" cy="29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81080" y="6337440"/>
              <a:ext cx="502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57040" y="3670560"/>
              <a:ext cx="3962160" cy="1981080"/>
            </a:xfrm>
            <a:custGeom>
              <a:avLst/>
              <a:gdLst/>
              <a:ahLst/>
              <a:rect l="l" t="t" r="r" b="b"/>
              <a:pathLst>
                <a:path w="2496" h="1248">
                  <a:moveTo>
                    <a:pt x="0" y="1248"/>
                  </a:moveTo>
                  <a:cubicBezTo>
                    <a:pt x="92" y="1243"/>
                    <a:pt x="341" y="1232"/>
                    <a:pt x="552" y="1216"/>
                  </a:cubicBezTo>
                  <a:cubicBezTo>
                    <a:pt x="763" y="1200"/>
                    <a:pt x="1020" y="1195"/>
                    <a:pt x="1264" y="1152"/>
                  </a:cubicBezTo>
                  <a:cubicBezTo>
                    <a:pt x="1508" y="1109"/>
                    <a:pt x="1835" y="1060"/>
                    <a:pt x="2016" y="960"/>
                  </a:cubicBezTo>
                  <a:cubicBezTo>
                    <a:pt x="2197" y="860"/>
                    <a:pt x="2272" y="712"/>
                    <a:pt x="2352" y="552"/>
                  </a:cubicBezTo>
                  <a:cubicBezTo>
                    <a:pt x="2432" y="392"/>
                    <a:pt x="2466" y="115"/>
                    <a:pt x="2496" y="0"/>
                  </a:cubicBezTo>
                </a:path>
              </a:pathLst>
            </a:custGeom>
            <a:noFill/>
            <a:ln w="223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6040" y="3594240"/>
              <a:ext cx="60948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9360" y="3746880"/>
              <a:ext cx="6091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1640" y="3365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14640" y="637416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081480" y="3478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02720" y="4926240"/>
              <a:ext cx="63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e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1680" y="5764320"/>
              <a:ext cx="845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ece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571640" y="3899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6560" y="4316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14440" y="5231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981080" y="5334120"/>
              <a:ext cx="289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2056680" y="4559400"/>
              <a:ext cx="3695400" cy="2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76560" y="534708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90960" y="458496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53720" y="629784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53000" y="629964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5240" y="5118480"/>
              <a:ext cx="351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7400" y="43689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 flipH="1">
            <a:off x="5029200" y="5715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8-18T02:25:16Z</dcterms:modified>
  <cp:revision>139</cp:revision>
  <dc:subject/>
  <dc:title>ADVANCES IN GEOTECHNICAL DATA COLLECTION FOR LARGE UNDERGROUND MINES</dc:title>
</cp:coreProperties>
</file>