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D41-36CF-4274-9104-12A93FF9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868-7B31-4F81-B83F-E8C035E5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81A7-2BFE-4D63-8C9B-5C0BD093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7DFB-139D-4678-94C6-CA58990D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C06-562D-45EF-9DE9-1E7C6A60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DA9-F882-4883-89A2-43B1B5F0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4FE-03EE-4911-8209-CA4D775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B47-13A7-400B-BA8B-BEC142D8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10D-B5D0-4773-8DFC-0A1FD0D9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34F-8255-45A3-A0D3-DE42CDD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955-8551-468F-AD90-306B27FA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5CC-8253-4448-A90D-DD1DD1B6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4E6B-B684-4FBA-A662-D2AD42E66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elasticidad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etales son un porcentaje bajo de los costos de los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barreras al cambio en el corto plazo, por los equipos y plantas de producción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elasticidad de la oferta cerca de producción máx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3920" y="2285640"/>
            <a:ext cx="4454640" cy="3376800"/>
            <a:chOff x="1753920" y="2285640"/>
            <a:chExt cx="4454640" cy="3376800"/>
          </a:xfrm>
        </p:grpSpPr>
        <p:sp>
          <p:nvSpPr>
            <p:cNvPr id="150" name=""/>
            <p:cNvSpPr/>
            <p:nvPr/>
          </p:nvSpPr>
          <p:spPr>
            <a:xfrm flipV="1">
              <a:off x="2063880" y="22856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3880" y="5257800"/>
              <a:ext cx="410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25800" y="2590920"/>
              <a:ext cx="3237120" cy="1981080"/>
            </a:xfrm>
            <a:custGeom>
              <a:avLst/>
              <a:gdLst/>
              <a:ahLst/>
              <a:rect l="l" t="t" r="r" b="b"/>
              <a:pathLst>
                <a:path w="2496" h="1248">
                  <a:moveTo>
                    <a:pt x="0" y="1248"/>
                  </a:moveTo>
                  <a:cubicBezTo>
                    <a:pt x="92" y="1243"/>
                    <a:pt x="341" y="1232"/>
                    <a:pt x="552" y="1216"/>
                  </a:cubicBezTo>
                  <a:cubicBezTo>
                    <a:pt x="763" y="1200"/>
                    <a:pt x="1020" y="1195"/>
                    <a:pt x="1264" y="1152"/>
                  </a:cubicBezTo>
                  <a:cubicBezTo>
                    <a:pt x="1508" y="1109"/>
                    <a:pt x="1835" y="1060"/>
                    <a:pt x="2016" y="960"/>
                  </a:cubicBezTo>
                  <a:cubicBezTo>
                    <a:pt x="2197" y="860"/>
                    <a:pt x="2272" y="712"/>
                    <a:pt x="2352" y="552"/>
                  </a:cubicBezTo>
                  <a:cubicBezTo>
                    <a:pt x="2432" y="392"/>
                    <a:pt x="2466" y="115"/>
                    <a:pt x="249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7320" y="2514600"/>
              <a:ext cx="4978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392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9640" y="529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4040" y="2398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4920" y="3846600"/>
              <a:ext cx="63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64200" y="3236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125440" y="3479760"/>
              <a:ext cx="3019320" cy="2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76440" y="35053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84200" y="5218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0040" y="3289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59240" y="20937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ferta 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86040" y="2438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43797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410080" y="42667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rcados de 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inestabilidades se explican por fluctuaciones en la oferta (cl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12680" y="2666880"/>
            <a:ext cx="4461120" cy="3606120"/>
            <a:chOff x="1912680" y="2666880"/>
            <a:chExt cx="4461120" cy="3606120"/>
          </a:xfrm>
        </p:grpSpPr>
        <p:sp>
          <p:nvSpPr>
            <p:cNvPr id="170" name=""/>
            <p:cNvSpPr/>
            <p:nvPr/>
          </p:nvSpPr>
          <p:spPr>
            <a:xfrm flipV="1">
              <a:off x="2229120" y="2895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9120" y="5867280"/>
              <a:ext cx="410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1040" y="3530520"/>
              <a:ext cx="3741480" cy="1650960"/>
            </a:xfrm>
            <a:custGeom>
              <a:avLst/>
              <a:gdLst/>
              <a:ahLst/>
              <a:rect l="l" t="t" r="r" b="b"/>
              <a:pathLst>
                <a:path w="2357" h="1040">
                  <a:moveTo>
                    <a:pt x="0" y="1040"/>
                  </a:moveTo>
                  <a:cubicBezTo>
                    <a:pt x="75" y="1035"/>
                    <a:pt x="285" y="1036"/>
                    <a:pt x="451" y="1008"/>
                  </a:cubicBezTo>
                  <a:cubicBezTo>
                    <a:pt x="617" y="980"/>
                    <a:pt x="835" y="925"/>
                    <a:pt x="997" y="872"/>
                  </a:cubicBezTo>
                  <a:cubicBezTo>
                    <a:pt x="1159" y="819"/>
                    <a:pt x="1273" y="763"/>
                    <a:pt x="1421" y="688"/>
                  </a:cubicBezTo>
                  <a:cubicBezTo>
                    <a:pt x="1569" y="613"/>
                    <a:pt x="1729" y="539"/>
                    <a:pt x="1885" y="424"/>
                  </a:cubicBezTo>
                  <a:cubicBezTo>
                    <a:pt x="2041" y="309"/>
                    <a:pt x="2259" y="88"/>
                    <a:pt x="2357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0" y="3213000"/>
              <a:ext cx="2946240" cy="2286000"/>
            </a:xfrm>
            <a:custGeom>
              <a:avLst/>
              <a:gdLst/>
              <a:ahLst/>
              <a:rect l="l" t="t" r="r" b="b"/>
              <a:pathLst>
                <a:path w="1856" h="1440">
                  <a:moveTo>
                    <a:pt x="0" y="0"/>
                  </a:moveTo>
                  <a:lnTo>
                    <a:pt x="1856" y="14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9520" y="289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4880" y="5903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63760" y="35812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572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35240" y="4559040"/>
              <a:ext cx="242568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60920" y="44956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6200" y="586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25280" y="3835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2640" y="2819160"/>
              <a:ext cx="3741840" cy="1650960"/>
            </a:xfrm>
            <a:custGeom>
              <a:avLst/>
              <a:gdLst/>
              <a:ahLst/>
              <a:rect l="l" t="t" r="r" b="b"/>
              <a:pathLst>
                <a:path w="2357" h="1040">
                  <a:moveTo>
                    <a:pt x="0" y="1040"/>
                  </a:moveTo>
                  <a:cubicBezTo>
                    <a:pt x="75" y="1035"/>
                    <a:pt x="285" y="1036"/>
                    <a:pt x="451" y="1008"/>
                  </a:cubicBezTo>
                  <a:cubicBezTo>
                    <a:pt x="617" y="980"/>
                    <a:pt x="835" y="925"/>
                    <a:pt x="997" y="872"/>
                  </a:cubicBezTo>
                  <a:cubicBezTo>
                    <a:pt x="1159" y="819"/>
                    <a:pt x="1273" y="763"/>
                    <a:pt x="1421" y="688"/>
                  </a:cubicBezTo>
                  <a:cubicBezTo>
                    <a:pt x="1569" y="613"/>
                    <a:pt x="1729" y="539"/>
                    <a:pt x="1885" y="424"/>
                  </a:cubicBezTo>
                  <a:cubicBezTo>
                    <a:pt x="2041" y="309"/>
                    <a:pt x="2259" y="88"/>
                    <a:pt x="2357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2640" y="4076640"/>
              <a:ext cx="1854360" cy="12600"/>
            </a:xfrm>
            <a:custGeom>
              <a:avLst/>
              <a:gdLst/>
              <a:ahLst/>
              <a:rect l="l" t="t" r="r" b="b"/>
              <a:pathLst>
                <a:path w="1168" h="8">
                  <a:moveTo>
                    <a:pt x="1168" y="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1440" y="4101840"/>
              <a:ext cx="1440" cy="1765440"/>
            </a:xfrm>
            <a:custGeom>
              <a:avLst/>
              <a:gdLst/>
              <a:ahLst/>
              <a:rect l="l" t="t" r="r" b="b"/>
              <a:pathLst>
                <a:path w="1" h="1112">
                  <a:moveTo>
                    <a:pt x="0" y="0"/>
                  </a:moveTo>
                  <a:lnTo>
                    <a:pt x="0" y="1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7960" y="2666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36880" y="38862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30400" y="586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203360" y="6019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12680" y="4330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070360" y="419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600200"/>
            <a:ext cx="5791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 y 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vendedor (monopolio) o comprador (monopso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duc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rreras de entrada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Diam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29680" y="437976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6640" y="426708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al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32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5960" y="43434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5920" y="533412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opolis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/3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adores de mineral de hierro en Japón (monopson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ergía Eléctrica (monopolio regul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marginal e Ingreso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o medio: AR = R(q) / q = P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o Marginal: MR = dR/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5740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5715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8616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29200" y="582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657600"/>
            <a:ext cx="350532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4520" y="35053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 (Deman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52320" y="38098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657600"/>
            <a:ext cx="1828800" cy="2057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6000" y="4836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666880" y="4876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(q) = R(q) – C(q), q* que maximi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es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(q)/dq = dC(q)/dq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R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10640" y="2971440"/>
            <a:ext cx="5455440" cy="3493080"/>
            <a:chOff x="1610640" y="2971440"/>
            <a:chExt cx="5455440" cy="3493080"/>
          </a:xfrm>
        </p:grpSpPr>
        <p:sp>
          <p:nvSpPr>
            <p:cNvPr id="219" name=""/>
            <p:cNvSpPr/>
            <p:nvPr/>
          </p:nvSpPr>
          <p:spPr>
            <a:xfrm flipV="1">
              <a:off x="2000160" y="29714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00160" y="5943600"/>
              <a:ext cx="47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62080" y="3086280"/>
              <a:ext cx="3640320" cy="2171520"/>
            </a:xfrm>
            <a:custGeom>
              <a:avLst/>
              <a:gdLst/>
              <a:ahLst/>
              <a:rect l="l" t="t" r="r" b="b"/>
              <a:pathLst>
                <a:path w="2293" h="1368">
                  <a:moveTo>
                    <a:pt x="0" y="1368"/>
                  </a:moveTo>
                  <a:cubicBezTo>
                    <a:pt x="75" y="1363"/>
                    <a:pt x="285" y="1364"/>
                    <a:pt x="451" y="1336"/>
                  </a:cubicBezTo>
                  <a:cubicBezTo>
                    <a:pt x="617" y="1308"/>
                    <a:pt x="835" y="1253"/>
                    <a:pt x="997" y="1200"/>
                  </a:cubicBezTo>
                  <a:cubicBezTo>
                    <a:pt x="1159" y="1147"/>
                    <a:pt x="1280" y="1108"/>
                    <a:pt x="1421" y="1016"/>
                  </a:cubicBezTo>
                  <a:cubicBezTo>
                    <a:pt x="1562" y="924"/>
                    <a:pt x="1700" y="817"/>
                    <a:pt x="1845" y="648"/>
                  </a:cubicBezTo>
                  <a:cubicBezTo>
                    <a:pt x="1990" y="479"/>
                    <a:pt x="2200" y="135"/>
                    <a:pt x="2293" y="0"/>
                  </a:cubicBezTo>
                </a:path>
              </a:pathLst>
            </a:custGeom>
            <a:noFill/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19240" y="3276720"/>
              <a:ext cx="2946600" cy="2286000"/>
            </a:xfrm>
            <a:custGeom>
              <a:avLst/>
              <a:gdLst/>
              <a:ahLst/>
              <a:rect l="l" t="t" r="r" b="b"/>
              <a:pathLst>
                <a:path w="1856" h="1440">
                  <a:moveTo>
                    <a:pt x="0" y="0"/>
                  </a:moveTo>
                  <a:lnTo>
                    <a:pt x="1856" y="1440"/>
                  </a:ln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90920" y="2971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7160" y="6096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6800" y="31244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5400" y="4343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38480" y="39625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10640" y="38862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6640" y="59436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6640" y="3289320"/>
              <a:ext cx="3873600" cy="1295640"/>
            </a:xfrm>
            <a:custGeom>
              <a:avLst/>
              <a:gdLst/>
              <a:ahLst/>
              <a:rect l="l" t="t" r="r" b="b"/>
              <a:pathLst>
                <a:path w="2440" h="816">
                  <a:moveTo>
                    <a:pt x="0" y="0"/>
                  </a:moveTo>
                  <a:lnTo>
                    <a:pt x="2440" y="8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15160" y="52182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9807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74920" y="3606840"/>
              <a:ext cx="4254480" cy="1027080"/>
            </a:xfrm>
            <a:custGeom>
              <a:avLst/>
              <a:gdLst/>
              <a:ahLst/>
              <a:rect l="l" t="t" r="r" b="b"/>
              <a:pathLst>
                <a:path w="2680" h="647">
                  <a:moveTo>
                    <a:pt x="0" y="96"/>
                  </a:moveTo>
                  <a:cubicBezTo>
                    <a:pt x="67" y="152"/>
                    <a:pt x="284" y="355"/>
                    <a:pt x="400" y="432"/>
                  </a:cubicBezTo>
                  <a:cubicBezTo>
                    <a:pt x="516" y="509"/>
                    <a:pt x="571" y="525"/>
                    <a:pt x="696" y="560"/>
                  </a:cubicBezTo>
                  <a:cubicBezTo>
                    <a:pt x="821" y="595"/>
                    <a:pt x="983" y="647"/>
                    <a:pt x="1152" y="640"/>
                  </a:cubicBezTo>
                  <a:cubicBezTo>
                    <a:pt x="1321" y="633"/>
                    <a:pt x="1457" y="627"/>
                    <a:pt x="1712" y="520"/>
                  </a:cubicBezTo>
                  <a:cubicBezTo>
                    <a:pt x="1967" y="413"/>
                    <a:pt x="2478" y="108"/>
                    <a:pt x="26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4480" y="3618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a C(q) = 50 + q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 y la demanda dada por P(q) = 40 –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e precio de venta y cantidad producida por un monopo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cule la utilidad del monopolista y dibuje las curvas de MC, AC, MR y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 social del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00016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00160" y="525780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2080" y="2400480"/>
            <a:ext cx="3640320" cy="217152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19240" y="2590920"/>
            <a:ext cx="2946600" cy="2286000"/>
          </a:xfrm>
          <a:custGeom>
            <a:avLst/>
            <a:gdLst/>
            <a:ahLst/>
            <a:rect l="l" t="t" r="r" b="b"/>
            <a:pathLst>
              <a:path w="1856" h="1440">
                <a:moveTo>
                  <a:pt x="0" y="0"/>
                </a:moveTo>
                <a:lnTo>
                  <a:pt x="1856" y="1440"/>
                </a:ln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092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7160" y="541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0" y="2438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54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32767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10640" y="30481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96640" y="5257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06640" y="2603520"/>
            <a:ext cx="3873600" cy="1295280"/>
          </a:xfrm>
          <a:custGeom>
            <a:avLst/>
            <a:gdLst/>
            <a:ahLst/>
            <a:rect l="l" t="t" r="r" b="b"/>
            <a:pathLst>
              <a:path w="2440" h="816">
                <a:moveTo>
                  <a:pt x="0" y="0"/>
                </a:moveTo>
                <a:lnTo>
                  <a:pt x="24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15160" y="4532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807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581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6680" y="3429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3581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7080" y="5270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68320" y="1852560"/>
            <a:ext cx="35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rdida de excedente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276360" y="22096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2096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4360" y="4114800"/>
            <a:ext cx="33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rdida de excedente del pro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343400" y="3809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a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sc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tores 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mitada por la producción del producto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principal: su precio determina la cantidad de mineral a pro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producto: su precio no tiene influencia en la cantidad de mineral a pro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pro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f (……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roducto princip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stos conjuntos,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 de mineral extra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pro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stos específico de producir el subprodu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 del subproducto extra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419720"/>
            <a:ext cx="4856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5410080"/>
            <a:ext cx="4856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nopolio natural es una firma que puede producir toda la producción del mercado a un costo que es menor que si hubieran varias firmas. Ocurre cuando hay fuertes economías de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define su producción a un nivel q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MR=MC, entregando una cantidad menor que lo deseable socialmente q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301840" y="35445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01840" y="6059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3640" y="6172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01840" y="4002120"/>
            <a:ext cx="350532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3716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01840" y="4002120"/>
            <a:ext cx="1828800" cy="2057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11880" y="5754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78160" y="4383000"/>
            <a:ext cx="3441600" cy="1054080"/>
          </a:xfrm>
          <a:custGeom>
            <a:avLst/>
            <a:gdLst/>
            <a:ahLst/>
            <a:rect l="l" t="t" r="r" b="b"/>
            <a:pathLst>
              <a:path w="2168" h="664">
                <a:moveTo>
                  <a:pt x="0" y="0"/>
                </a:moveTo>
                <a:cubicBezTo>
                  <a:pt x="28" y="68"/>
                  <a:pt x="55" y="127"/>
                  <a:pt x="144" y="192"/>
                </a:cubicBezTo>
                <a:cubicBezTo>
                  <a:pt x="233" y="257"/>
                  <a:pt x="376" y="333"/>
                  <a:pt x="536" y="392"/>
                </a:cubicBezTo>
                <a:cubicBezTo>
                  <a:pt x="696" y="451"/>
                  <a:pt x="832" y="499"/>
                  <a:pt x="1104" y="544"/>
                </a:cubicBezTo>
                <a:cubicBezTo>
                  <a:pt x="1376" y="589"/>
                  <a:pt x="1946" y="639"/>
                  <a:pt x="2168" y="66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78160" y="4764240"/>
            <a:ext cx="3441600" cy="1054080"/>
          </a:xfrm>
          <a:custGeom>
            <a:avLst/>
            <a:gdLst/>
            <a:ahLst/>
            <a:rect l="l" t="t" r="r" b="b"/>
            <a:pathLst>
              <a:path w="2168" h="664">
                <a:moveTo>
                  <a:pt x="0" y="0"/>
                </a:moveTo>
                <a:cubicBezTo>
                  <a:pt x="28" y="68"/>
                  <a:pt x="55" y="127"/>
                  <a:pt x="144" y="192"/>
                </a:cubicBezTo>
                <a:cubicBezTo>
                  <a:pt x="233" y="257"/>
                  <a:pt x="376" y="333"/>
                  <a:pt x="536" y="392"/>
                </a:cubicBezTo>
                <a:cubicBezTo>
                  <a:pt x="696" y="451"/>
                  <a:pt x="832" y="499"/>
                  <a:pt x="1104" y="544"/>
                </a:cubicBezTo>
                <a:cubicBezTo>
                  <a:pt x="1376" y="589"/>
                  <a:pt x="1946" y="639"/>
                  <a:pt x="2168" y="6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56680" y="5145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08960" y="567864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301840" y="4764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73440" y="47642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39240" y="45720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5280" y="5486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6019920"/>
            <a:ext cx="2439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85640" y="57531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21160" y="5753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ular el precio en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 producción en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es posible ya que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enor que el costo de producción, y el monopolista tendría pér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as formas de evitar esas pér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bsidio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tarifa de dos partes: un cargo fijo para satisfacer los requerimientos de utilidades y una parte por precio unitario a costo 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so de costo medio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 =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29200" y="582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35160" y="3962520"/>
            <a:ext cx="4662000" cy="2556360"/>
            <a:chOff x="2135160" y="3962520"/>
            <a:chExt cx="4662000" cy="2556360"/>
          </a:xfrm>
        </p:grpSpPr>
        <p:sp>
          <p:nvSpPr>
            <p:cNvPr id="286" name=""/>
            <p:cNvSpPr/>
            <p:nvPr/>
          </p:nvSpPr>
          <p:spPr>
            <a:xfrm flipV="1">
              <a:off x="2606400" y="40017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06400" y="6516720"/>
              <a:ext cx="419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5160" y="3962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06400" y="4459320"/>
              <a:ext cx="3504960" cy="2057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41360" y="4535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06400" y="4459320"/>
              <a:ext cx="1828440" cy="20574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16080" y="621180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82720" y="4840200"/>
              <a:ext cx="3441240" cy="1054080"/>
            </a:xfrm>
            <a:custGeom>
              <a:avLst/>
              <a:gdLst/>
              <a:ahLst/>
              <a:rect l="l" t="t" r="r" b="b"/>
              <a:pathLst>
                <a:path w="2168" h="664">
                  <a:moveTo>
                    <a:pt x="0" y="0"/>
                  </a:moveTo>
                  <a:cubicBezTo>
                    <a:pt x="28" y="68"/>
                    <a:pt x="55" y="127"/>
                    <a:pt x="144" y="192"/>
                  </a:cubicBezTo>
                  <a:cubicBezTo>
                    <a:pt x="233" y="257"/>
                    <a:pt x="376" y="333"/>
                    <a:pt x="536" y="392"/>
                  </a:cubicBezTo>
                  <a:cubicBezTo>
                    <a:pt x="696" y="451"/>
                    <a:pt x="832" y="499"/>
                    <a:pt x="1104" y="544"/>
                  </a:cubicBezTo>
                  <a:cubicBezTo>
                    <a:pt x="1376" y="589"/>
                    <a:pt x="1946" y="639"/>
                    <a:pt x="2168" y="664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82720" y="5221440"/>
              <a:ext cx="3441240" cy="1054080"/>
            </a:xfrm>
            <a:custGeom>
              <a:avLst/>
              <a:gdLst/>
              <a:ahLst/>
              <a:rect l="l" t="t" r="r" b="b"/>
              <a:pathLst>
                <a:path w="2168" h="664">
                  <a:moveTo>
                    <a:pt x="0" y="0"/>
                  </a:moveTo>
                  <a:cubicBezTo>
                    <a:pt x="28" y="68"/>
                    <a:pt x="55" y="127"/>
                    <a:pt x="144" y="192"/>
                  </a:cubicBezTo>
                  <a:cubicBezTo>
                    <a:pt x="233" y="257"/>
                    <a:pt x="376" y="333"/>
                    <a:pt x="536" y="392"/>
                  </a:cubicBezTo>
                  <a:cubicBezTo>
                    <a:pt x="696" y="451"/>
                    <a:pt x="832" y="499"/>
                    <a:pt x="1104" y="544"/>
                  </a:cubicBezTo>
                  <a:cubicBezTo>
                    <a:pt x="1376" y="589"/>
                    <a:pt x="1946" y="639"/>
                    <a:pt x="2168" y="6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0880" y="56023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3160" y="6135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606040" y="5221440"/>
              <a:ext cx="137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606040" y="575460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606400" y="62118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78000" y="52214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16080" y="5754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200" y="621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44160" y="50292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54240" y="552600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55680" y="60595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59280" y="6461280"/>
            <a:ext cx="2765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onopsonios tienden a comprar menos unidades a baj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nción objetivo 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(q) = V – S, donde S=gasto (al comprar), V=valor para el comprador de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V/dq = dS/dq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V =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decir el optimo se obtiene cuando beneficio adicional de comprar una unidad más del producto, es igual al costo adicional de comprar dich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52480" y="22093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5756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91680" y="537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2514600"/>
            <a:ext cx="28954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71640" y="41511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2590920"/>
            <a:ext cx="3639960" cy="217152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2260440"/>
            <a:ext cx="2857680" cy="2349720"/>
          </a:xfrm>
          <a:custGeom>
            <a:avLst/>
            <a:gdLst/>
            <a:ahLst/>
            <a:rect l="l" t="t" r="r" b="b"/>
            <a:pathLst>
              <a:path w="1800" h="1480">
                <a:moveTo>
                  <a:pt x="0" y="1480"/>
                </a:moveTo>
                <a:cubicBezTo>
                  <a:pt x="75" y="1460"/>
                  <a:pt x="283" y="1420"/>
                  <a:pt x="448" y="1360"/>
                </a:cubicBezTo>
                <a:cubicBezTo>
                  <a:pt x="613" y="1300"/>
                  <a:pt x="840" y="1217"/>
                  <a:pt x="992" y="1120"/>
                </a:cubicBezTo>
                <a:cubicBezTo>
                  <a:pt x="1144" y="1023"/>
                  <a:pt x="1255" y="900"/>
                  <a:pt x="1360" y="776"/>
                </a:cubicBezTo>
                <a:cubicBezTo>
                  <a:pt x="1465" y="652"/>
                  <a:pt x="1551" y="505"/>
                  <a:pt x="1624" y="376"/>
                </a:cubicBezTo>
                <a:cubicBezTo>
                  <a:pt x="1697" y="247"/>
                  <a:pt x="1763" y="78"/>
                  <a:pt x="1800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24640" y="26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8480" y="217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52960" y="3581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752480" y="4267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66200" y="39988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3080" y="52182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8480" y="5257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52480" y="39625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8080" y="37339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2336760"/>
            <a:ext cx="5791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rmas domin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 algunas grandes firmas que actúan como monopo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firmas pequeñas que actúan como firmas en un mercado competitivo (tomadores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odak en la industria de ro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eing/Air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riormente INCO y AL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é existe la firma domin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s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to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usión (comportamiento de car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 flipV="1">
            <a:off x="2076480" y="7617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76480" y="373392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38400" y="876240"/>
            <a:ext cx="3639960" cy="217188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6880" y="76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312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06440" y="91440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075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840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81520" y="3733920"/>
            <a:ext cx="41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82960" y="1079640"/>
            <a:ext cx="4851360" cy="1663560"/>
          </a:xfrm>
          <a:custGeom>
            <a:avLst/>
            <a:gdLst/>
            <a:ahLst/>
            <a:rect l="l" t="t" r="r" b="b"/>
            <a:pathLst>
              <a:path w="2440" h="816">
                <a:moveTo>
                  <a:pt x="0" y="0"/>
                </a:moveTo>
                <a:lnTo>
                  <a:pt x="24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04800" y="300816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057400" y="2438280"/>
            <a:ext cx="39625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80840" y="213372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7040" y="3733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685800"/>
            <a:ext cx="1828800" cy="171468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77640" y="53352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057400" y="15494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523880"/>
            <a:ext cx="3200400" cy="1828800"/>
          </a:xfrm>
          <a:custGeom>
            <a:avLst/>
            <a:gdLst/>
            <a:ahLst/>
            <a:rect l="l" t="t" r="r" b="b"/>
            <a:pathLst>
              <a:path w="2016" h="1152">
                <a:moveTo>
                  <a:pt x="0" y="0"/>
                </a:moveTo>
                <a:cubicBezTo>
                  <a:pt x="52" y="128"/>
                  <a:pt x="104" y="256"/>
                  <a:pt x="240" y="384"/>
                </a:cubicBezTo>
                <a:cubicBezTo>
                  <a:pt x="376" y="512"/>
                  <a:pt x="520" y="640"/>
                  <a:pt x="816" y="768"/>
                </a:cubicBezTo>
                <a:cubicBezTo>
                  <a:pt x="1112" y="896"/>
                  <a:pt x="1564" y="1024"/>
                  <a:pt x="2016" y="1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981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6224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39440" y="3746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1523880"/>
            <a:ext cx="3886200" cy="914400"/>
          </a:xfrm>
          <a:custGeom>
            <a:avLst/>
            <a:gdLst/>
            <a:ahLst/>
            <a:rect l="l" t="t" r="r" b="b"/>
            <a:pathLst>
              <a:path w="2448" h="576">
                <a:moveTo>
                  <a:pt x="0" y="0"/>
                </a:moveTo>
                <a:cubicBezTo>
                  <a:pt x="276" y="96"/>
                  <a:pt x="552" y="192"/>
                  <a:pt x="960" y="288"/>
                </a:cubicBezTo>
                <a:cubicBezTo>
                  <a:pt x="1368" y="384"/>
                  <a:pt x="1908" y="480"/>
                  <a:pt x="2448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62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06240" y="1295280"/>
            <a:ext cx="5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190760" y="1600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55520" y="4403880"/>
            <a:ext cx="757224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p &gt; 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a demanda es servida completamente por las firmas competi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as firmas competitivas no pueden ofrecer productos, por l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manda residual para la firma dominante es toda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re ambos precios, se puede calcular una demanda residual “libre” para la fi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minantes 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gopolio y Olig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pocos vendedores o compradores, cada uno lo suficientemente grandes para influi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igopolio cooperativo (Car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firmas coordinan sus acciones para maximizar los beneficios 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últimos 100 años, en cada mercado de metales ha habido intentos para crear 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PEC es un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ejan gran parte del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manda inelástica al 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operación interna / baja probabilidad de castigo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ser exitosos en el cort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largo plazo, los mayores precios incentivan el aumento de producción de firmas fuera del cartel, y la disminución de la demanda por innovación tecnológica y uso de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gopolio y Olig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igopolio no coop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clave: cada compañía tiene que estar preocupada de que podría estar haciendo la otra compañ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Nickel: INCO, W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al de hierro en asia: RTZ, B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requisitos para cooperación exi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ueños de gran parte del mercado y con barrera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asticidad precio de la demanda es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operación in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gene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úmero de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mas políticos / militares /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s expectativas de intervenció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lmente tiene menor costo producirlo como subproducto, que como producció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mercado molibd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146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5715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1080" y="3465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39400" y="575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733920"/>
            <a:ext cx="1371600" cy="1066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1296"/>
                </a:moveTo>
                <a:cubicBezTo>
                  <a:pt x="108" y="1280"/>
                  <a:pt x="216" y="1264"/>
                  <a:pt x="336" y="1200"/>
                </a:cubicBezTo>
                <a:cubicBezTo>
                  <a:pt x="456" y="1136"/>
                  <a:pt x="632" y="1112"/>
                  <a:pt x="720" y="912"/>
                </a:cubicBezTo>
                <a:cubicBezTo>
                  <a:pt x="808" y="712"/>
                  <a:pt x="836" y="356"/>
                  <a:pt x="864" y="0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37920" y="3465360"/>
            <a:ext cx="120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ri 1970-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657600"/>
            <a:ext cx="990720" cy="152388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886200"/>
            <a:ext cx="3429000" cy="129528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3276720"/>
            <a:ext cx="86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y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04000" y="4114800"/>
            <a:ext cx="86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y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26708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O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ienes s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abia Saudi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i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ezu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on miemb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éx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u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m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 US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 Mercado 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0% - S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 -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eras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 Inelástica 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1 – 0,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8 – 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 Inter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o m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vención Gobi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un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4956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s en cierta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OPEC 8 a 10 US$/barril sobre precio compet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73 – 1986: Controlaron los precios (price m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86 – presente: Tienen menos control sobre l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secu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scrap nue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do en procesos de 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ferta no es muy sensible al precio, siempre que el precio esté sobre los costos de re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: bajo y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886200" cy="17258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633920" y="1523880"/>
            <a:ext cx="3556440" cy="2502000"/>
            <a:chOff x="4633920" y="1523880"/>
            <a:chExt cx="3556440" cy="2502000"/>
          </a:xfrm>
        </p:grpSpPr>
        <p:sp>
          <p:nvSpPr>
            <p:cNvPr id="66" name=""/>
            <p:cNvSpPr/>
            <p:nvPr/>
          </p:nvSpPr>
          <p:spPr>
            <a:xfrm flipV="1">
              <a:off x="5029200" y="16761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3581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3920" y="1560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3840" y="3657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9200" y="2133720"/>
              <a:ext cx="2209680" cy="1143000"/>
            </a:xfrm>
            <a:custGeom>
              <a:avLst/>
              <a:gdLst/>
              <a:ahLst/>
              <a:rect l="l" t="t" r="r" b="b"/>
              <a:pathLst>
                <a:path w="1536" h="912">
                  <a:moveTo>
                    <a:pt x="0" y="912"/>
                  </a:moveTo>
                  <a:cubicBezTo>
                    <a:pt x="108" y="904"/>
                    <a:pt x="209" y="884"/>
                    <a:pt x="336" y="864"/>
                  </a:cubicBezTo>
                  <a:cubicBezTo>
                    <a:pt x="463" y="844"/>
                    <a:pt x="608" y="840"/>
                    <a:pt x="761" y="791"/>
                  </a:cubicBezTo>
                  <a:cubicBezTo>
                    <a:pt x="914" y="742"/>
                    <a:pt x="1138" y="658"/>
                    <a:pt x="1255" y="571"/>
                  </a:cubicBezTo>
                  <a:cubicBezTo>
                    <a:pt x="1372" y="484"/>
                    <a:pt x="1418" y="365"/>
                    <a:pt x="1465" y="270"/>
                  </a:cubicBezTo>
                  <a:cubicBezTo>
                    <a:pt x="1512" y="175"/>
                    <a:pt x="1521" y="56"/>
                    <a:pt x="153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391520" y="18288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400" y="26668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stos reproc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3000" y="152388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crap antig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s alto y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ersos geográficamente: costos de colección, selección, transporte y re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ter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tos descar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045040" y="2743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45040" y="4648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50120" y="26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8968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45040" y="3200400"/>
            <a:ext cx="2209680" cy="114300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40736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3240" y="373392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stos re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8840" y="25909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5520" y="2133720"/>
            <a:ext cx="7312680" cy="3871800"/>
            <a:chOff x="1145520" y="2133720"/>
            <a:chExt cx="7312680" cy="3871800"/>
          </a:xfrm>
        </p:grpSpPr>
        <p:sp>
          <p:nvSpPr>
            <p:cNvPr id="86" name=""/>
            <p:cNvSpPr/>
            <p:nvPr/>
          </p:nvSpPr>
          <p:spPr>
            <a:xfrm>
              <a:off x="7942680" y="5637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145520" y="2133720"/>
              <a:ext cx="7312680" cy="3370320"/>
              <a:chOff x="1145520" y="2133720"/>
              <a:chExt cx="7312680" cy="337032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1736640" y="2171880"/>
                <a:ext cx="0" cy="333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36640" y="5504040"/>
                <a:ext cx="672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45520" y="2133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2438280"/>
                <a:ext cx="1600200" cy="1998720"/>
              </a:xfrm>
              <a:custGeom>
                <a:avLst/>
                <a:gdLst/>
                <a:ahLst/>
                <a:rect l="l" t="t" r="r" b="b"/>
                <a:pathLst>
                  <a:path w="1536" h="912">
                    <a:moveTo>
                      <a:pt x="0" y="912"/>
                    </a:moveTo>
                    <a:cubicBezTo>
                      <a:pt x="108" y="904"/>
                      <a:pt x="209" y="884"/>
                      <a:pt x="336" y="864"/>
                    </a:cubicBezTo>
                    <a:cubicBezTo>
                      <a:pt x="463" y="844"/>
                      <a:pt x="608" y="840"/>
                      <a:pt x="761" y="791"/>
                    </a:cubicBezTo>
                    <a:cubicBezTo>
                      <a:pt x="914" y="742"/>
                      <a:pt x="1138" y="658"/>
                      <a:pt x="1255" y="571"/>
                    </a:cubicBezTo>
                    <a:cubicBezTo>
                      <a:pt x="1372" y="484"/>
                      <a:pt x="1418" y="365"/>
                      <a:pt x="1465" y="270"/>
                    </a:cubicBezTo>
                    <a:cubicBezTo>
                      <a:pt x="1512" y="175"/>
                      <a:pt x="1521" y="56"/>
                      <a:pt x="1536" y="0"/>
                    </a:cubicBezTo>
                  </a:path>
                </a:pathLst>
              </a:custGeom>
              <a:noFill/>
              <a:ln w="223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2362320"/>
                <a:ext cx="3124440" cy="1388880"/>
              </a:xfrm>
              <a:custGeom>
                <a:avLst/>
                <a:gdLst/>
                <a:ahLst/>
                <a:rect l="l" t="t" r="r" b="b"/>
                <a:pathLst>
                  <a:path w="1536" h="912">
                    <a:moveTo>
                      <a:pt x="0" y="912"/>
                    </a:moveTo>
                    <a:cubicBezTo>
                      <a:pt x="108" y="904"/>
                      <a:pt x="209" y="884"/>
                      <a:pt x="336" y="864"/>
                    </a:cubicBezTo>
                    <a:cubicBezTo>
                      <a:pt x="463" y="844"/>
                      <a:pt x="608" y="840"/>
                      <a:pt x="761" y="791"/>
                    </a:cubicBezTo>
                    <a:cubicBezTo>
                      <a:pt x="914" y="742"/>
                      <a:pt x="1138" y="658"/>
                      <a:pt x="1255" y="571"/>
                    </a:cubicBezTo>
                    <a:cubicBezTo>
                      <a:pt x="1372" y="484"/>
                      <a:pt x="1418" y="365"/>
                      <a:pt x="1465" y="270"/>
                    </a:cubicBezTo>
                    <a:cubicBezTo>
                      <a:pt x="1512" y="175"/>
                      <a:pt x="1521" y="56"/>
                      <a:pt x="1536" y="0"/>
                    </a:cubicBezTo>
                  </a:path>
                </a:pathLst>
              </a:custGeom>
              <a:noFill/>
              <a:ln w="223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1752480" y="3885840"/>
                <a:ext cx="838440" cy="11430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977120" y="3770280"/>
              <a:ext cx="47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55080" y="2362320"/>
              <a:ext cx="47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60080" y="23623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2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7560" y="1905120"/>
            <a:ext cx="6379560" cy="3987000"/>
            <a:chOff x="1357560" y="1905120"/>
            <a:chExt cx="6379560" cy="3987000"/>
          </a:xfrm>
        </p:grpSpPr>
        <p:sp>
          <p:nvSpPr>
            <p:cNvPr id="100" name=""/>
            <p:cNvSpPr/>
            <p:nvPr/>
          </p:nvSpPr>
          <p:spPr>
            <a:xfrm>
              <a:off x="6705720" y="293544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357560" y="1905120"/>
              <a:ext cx="6379560" cy="3987000"/>
              <a:chOff x="1357560" y="1905120"/>
              <a:chExt cx="6379560" cy="3987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752480" y="3697560"/>
                <a:ext cx="2286000" cy="1328760"/>
                <a:chOff x="1752480" y="3697560"/>
                <a:chExt cx="2286000" cy="1328760"/>
              </a:xfrm>
            </p:grpSpPr>
            <p:sp>
              <p:nvSpPr>
                <p:cNvPr id="103" name=""/>
                <p:cNvSpPr/>
                <p:nvPr/>
              </p:nvSpPr>
              <p:spPr>
                <a:xfrm flipV="1">
                  <a:off x="1752480" y="4383360"/>
                  <a:ext cx="457200" cy="642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09680" y="3697560"/>
                  <a:ext cx="1828800" cy="685800"/>
                </a:xfrm>
                <a:custGeom>
                  <a:avLst/>
                  <a:gdLst/>
                  <a:ahLst/>
                  <a:rect l="l" t="t" r="r" b="b"/>
                  <a:pathLst>
                    <a:path w="1152" h="432">
                      <a:moveTo>
                        <a:pt x="0" y="432"/>
                      </a:moveTo>
                      <a:cubicBezTo>
                        <a:pt x="180" y="400"/>
                        <a:pt x="360" y="368"/>
                        <a:pt x="480" y="336"/>
                      </a:cubicBezTo>
                      <a:cubicBezTo>
                        <a:pt x="600" y="304"/>
                        <a:pt x="632" y="280"/>
                        <a:pt x="720" y="240"/>
                      </a:cubicBezTo>
                      <a:cubicBezTo>
                        <a:pt x="808" y="200"/>
                        <a:pt x="936" y="136"/>
                        <a:pt x="1008" y="96"/>
                      </a:cubicBezTo>
                      <a:cubicBezTo>
                        <a:pt x="1080" y="56"/>
                        <a:pt x="1080" y="0"/>
                        <a:pt x="1152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4038480" y="2325960"/>
                <a:ext cx="3124440" cy="1371600"/>
              </a:xfrm>
              <a:custGeom>
                <a:avLst/>
                <a:gdLst/>
                <a:ahLst/>
                <a:rect l="l" t="t" r="r" b="b"/>
                <a:pathLst>
                  <a:path w="1968" h="864">
                    <a:moveTo>
                      <a:pt x="0" y="864"/>
                    </a:moveTo>
                    <a:cubicBezTo>
                      <a:pt x="304" y="848"/>
                      <a:pt x="608" y="832"/>
                      <a:pt x="864" y="768"/>
                    </a:cubicBezTo>
                    <a:cubicBezTo>
                      <a:pt x="1120" y="704"/>
                      <a:pt x="1352" y="608"/>
                      <a:pt x="1536" y="480"/>
                    </a:cubicBezTo>
                    <a:cubicBezTo>
                      <a:pt x="1720" y="352"/>
                      <a:pt x="1844" y="176"/>
                      <a:pt x="1968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19360" y="29354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72200" y="2021040"/>
                <a:ext cx="1371600" cy="228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86760" y="1905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91640" y="2438640"/>
                <a:ext cx="64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9092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72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200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90200" y="5486400"/>
                <a:ext cx="415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os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y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               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p                                           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*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57560" y="266724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914400"/>
            <a:ext cx="5790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metale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s y cantidades se mueven en conjunto: cuando los precios están altos, las cantidades producidas son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tendencias similares en todos los metales: Cu, Al, Acero, Pb, Zn, Sn, Mineral de Hi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azones de la inestabilidad de precios en el corto pl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manda está relacionada con el cic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 inel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elasticidad de la oferta cerca de producción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tres factores, explican la naturaleza “boom and bust” de los mercados de m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manda relacionada con ciclo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cesiones, los individuos prefieren posponer el consumo de autos, casas, tranport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bienes como alimentos y servicios de salud son menos vol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astos en Inversión son muy vol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01640" y="3365280"/>
            <a:ext cx="5408280" cy="3377160"/>
            <a:chOff x="1601640" y="3365280"/>
            <a:chExt cx="5408280" cy="3377160"/>
          </a:xfrm>
        </p:grpSpPr>
        <p:sp>
          <p:nvSpPr>
            <p:cNvPr id="123" name=""/>
            <p:cNvSpPr/>
            <p:nvPr/>
          </p:nvSpPr>
          <p:spPr>
            <a:xfrm flipV="1">
              <a:off x="1981080" y="33652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6337440"/>
              <a:ext cx="50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040" y="3670560"/>
              <a:ext cx="3962160" cy="1981080"/>
            </a:xfrm>
            <a:custGeom>
              <a:avLst/>
              <a:gdLst/>
              <a:ahLst/>
              <a:rect l="l" t="t" r="r" b="b"/>
              <a:pathLst>
                <a:path w="2496" h="1248">
                  <a:moveTo>
                    <a:pt x="0" y="1248"/>
                  </a:moveTo>
                  <a:cubicBezTo>
                    <a:pt x="92" y="1243"/>
                    <a:pt x="341" y="1232"/>
                    <a:pt x="552" y="1216"/>
                  </a:cubicBezTo>
                  <a:cubicBezTo>
                    <a:pt x="763" y="1200"/>
                    <a:pt x="1020" y="1195"/>
                    <a:pt x="1264" y="1152"/>
                  </a:cubicBezTo>
                  <a:cubicBezTo>
                    <a:pt x="1508" y="1109"/>
                    <a:pt x="1835" y="1060"/>
                    <a:pt x="2016" y="960"/>
                  </a:cubicBezTo>
                  <a:cubicBezTo>
                    <a:pt x="2197" y="860"/>
                    <a:pt x="2272" y="712"/>
                    <a:pt x="2352" y="552"/>
                  </a:cubicBezTo>
                  <a:cubicBezTo>
                    <a:pt x="2432" y="392"/>
                    <a:pt x="2466" y="115"/>
                    <a:pt x="249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6040" y="3594240"/>
              <a:ext cx="6094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9360" y="3746880"/>
              <a:ext cx="6091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1640" y="3365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14640" y="637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1480" y="3478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02720" y="4926240"/>
              <a:ext cx="63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1680" y="576432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e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571640" y="3899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76560" y="4316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4440" y="5231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81080" y="5334120"/>
              <a:ext cx="289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6680" y="4559400"/>
              <a:ext cx="3695400" cy="2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34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0960" y="458496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53720" y="62978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3000" y="629964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5240" y="511848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7400" y="43689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50292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8-18T02:25:16Z</dcterms:modified>
  <cp:revision>139</cp:revision>
  <dc:subject/>
  <dc:title>ADVANCES IN GEOTECHNICAL DATA COLLECTION FOR LARGE UNDERGROUND MINES</dc:title>
</cp:coreProperties>
</file>