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A33-41E3-4397-8C1E-26B499EA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83E-2C32-4ACD-A0FC-6D607268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590-6289-4D1D-B34D-B9CE7853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F35-D82B-475B-A543-B1CDC946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425-FA4A-4BE9-913F-AB7E16F8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688-38A6-456F-B9AE-93DAEB08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8A8-ED29-4578-9371-FE3D7637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7CB-A442-4D34-9F62-2E85DA6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938-A24F-4163-943E-91EE595F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068-1759-44BE-9C02-BF853680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682-5732-4D54-85F6-2895B93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740-29C5-4DFF-9094-F02908E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74B-54DF-4935-857C-A9F454C9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emario y método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omía Mi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omía de los recursos na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 distingue a la economía de recursos na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oncepto de falla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ferta de mi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manda de mi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 en mercados compet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cepto de Renta 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ceptos básicos de optimización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omía de recursos no renovables: El modelo de Ho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ceptos económicos en planificación mi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elo de K 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st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roducción a la teoría y la gest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álisis financier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undamentos de valorización de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s de interés, valor presente, 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oría de portafolios, el modelo de Marko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s de descuento, el modelo C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ificación Estratégica: conceptos y 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emas de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stión y evaluación de Riesgo en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étodos cualit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étodos cuantitativos: Simulación de Montecarlo y 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stión de 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amiento de volat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ries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de Wiener y procesos de 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s de di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oría de O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 Black Sc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pciones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étodo de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Controles de cát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controles y 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F = 25% Examen + 50% Controles + 25 % Minic y 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8-18T00:43:14Z</dcterms:modified>
  <cp:revision>129</cp:revision>
  <dc:subject/>
  <dc:title>ADVANCES IN GEOTECHNICAL DATA COLLECTION FOR LARGE UNDERGROUND MINES</dc:title>
</cp:coreProperties>
</file>