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35B-1C08-464C-AD35-F9C25D39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357-6826-42D0-BFE0-F0A6EAC6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124-B89A-4CC2-A22A-43A5BD97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7FE-6EB6-4F7F-A64C-D5ADB8D2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DF1-E173-4E62-8711-81358011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2B8-F3CF-4747-9CB9-46DE8BF4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72C-92E9-4DF8-BE5E-7718BF04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A39-337F-4B9A-9FA9-BE57ED3D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A08-90AD-485F-8E2A-04491A6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600-6E43-4A78-B2D4-D4A200D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F4F-C6C2-4184-8202-5C64C14B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F7A-66E6-4523-862F-4DC3FBCB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7089-D79C-411E-AD80-557A8910E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urvas de Dem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09680" y="1828800"/>
            <a:ext cx="4724280" cy="3123720"/>
            <a:chOff x="2209680" y="1828800"/>
            <a:chExt cx="4724280" cy="3123720"/>
          </a:xfrm>
        </p:grpSpPr>
        <p:sp>
          <p:nvSpPr>
            <p:cNvPr id="63" name=""/>
            <p:cNvSpPr/>
            <p:nvPr/>
          </p:nvSpPr>
          <p:spPr>
            <a:xfrm>
              <a:off x="2516760" y="1885680"/>
              <a:ext cx="0" cy="269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6760" y="4584240"/>
              <a:ext cx="423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542120" y="1885320"/>
              <a:ext cx="0" cy="2698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16760" y="3264120"/>
              <a:ext cx="3681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2516760" y="2229480"/>
              <a:ext cx="3681360" cy="189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447012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09680" y="18288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8320" y="45842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1960" y="31449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19000" y="457920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42120" y="1828800"/>
              <a:ext cx="42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9999"/>
                  </a:solidFill>
                  <a:latin typeface="Arial"/>
                </a:rPr>
                <a:t>D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92120" y="2971440"/>
              <a:ext cx="42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99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76440" y="3832560"/>
              <a:ext cx="42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0000"/>
                  </a:solidFill>
                  <a:latin typeface="Arial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84360" y="5141880"/>
            <a:ext cx="58831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asticidad de demanda: mide cuán reactiva es la demanda frente a un cambio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%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Qd / %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 = dQ/dP (P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urvas de Ofer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763640" y="1773360"/>
            <a:ext cx="5543640" cy="3895560"/>
            <a:chOff x="1763640" y="1773360"/>
            <a:chExt cx="5543640" cy="3895560"/>
          </a:xfrm>
        </p:grpSpPr>
        <p:sp>
          <p:nvSpPr>
            <p:cNvPr id="79" name=""/>
            <p:cNvSpPr/>
            <p:nvPr/>
          </p:nvSpPr>
          <p:spPr>
            <a:xfrm>
              <a:off x="2124000" y="1916280"/>
              <a:ext cx="0" cy="33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24000" y="5300640"/>
              <a:ext cx="496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140360" y="3644640"/>
              <a:ext cx="0" cy="1655640"/>
            </a:xfrm>
            <a:prstGeom prst="line">
              <a:avLst/>
            </a:prstGeom>
            <a:ln w="38160">
              <a:solidFill>
                <a:srgbClr val="99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24000" y="3645000"/>
              <a:ext cx="2016360" cy="0"/>
            </a:xfrm>
            <a:prstGeom prst="line">
              <a:avLst/>
            </a:prstGeom>
            <a:ln w="38160">
              <a:solidFill>
                <a:srgbClr val="99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123640" y="1916280"/>
              <a:ext cx="4032360" cy="3384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36720" y="51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63640" y="1844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48360" y="5300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36720" y="3494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97440" y="52941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56360" y="1773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000" y="2637000"/>
              <a:ext cx="316872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5292720" y="2636640"/>
              <a:ext cx="0" cy="266364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640" y="5445000"/>
              <a:ext cx="64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979640" y="278100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ecio en Equilibri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692360" y="1844640"/>
            <a:ext cx="5614920" cy="3861720"/>
            <a:chOff x="1692360" y="1844640"/>
            <a:chExt cx="5614920" cy="3861720"/>
          </a:xfrm>
        </p:grpSpPr>
        <p:sp>
          <p:nvSpPr>
            <p:cNvPr id="96" name=""/>
            <p:cNvSpPr/>
            <p:nvPr/>
          </p:nvSpPr>
          <p:spPr>
            <a:xfrm>
              <a:off x="2124000" y="1916280"/>
              <a:ext cx="0" cy="33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24000" y="5300640"/>
              <a:ext cx="496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211640" y="349992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4000" y="357336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124000" y="2205000"/>
              <a:ext cx="3672000" cy="3095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36720" y="51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63640" y="1844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8360" y="5300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92360" y="33577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97440" y="529416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21985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4000" y="2133720"/>
              <a:ext cx="4032360" cy="273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4430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530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5440" y="5300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92360" y="41418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2360" y="256536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ecio demasiado 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76520" y="1828800"/>
            <a:ext cx="5614920" cy="3861720"/>
            <a:chOff x="1676520" y="1828800"/>
            <a:chExt cx="5614920" cy="3861720"/>
          </a:xfrm>
        </p:grpSpPr>
        <p:sp>
          <p:nvSpPr>
            <p:cNvPr id="115" name=""/>
            <p:cNvSpPr/>
            <p:nvPr/>
          </p:nvSpPr>
          <p:spPr>
            <a:xfrm>
              <a:off x="2108160" y="1900440"/>
              <a:ext cx="0" cy="33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08160" y="5284800"/>
              <a:ext cx="496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195800" y="34840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08160" y="3557520"/>
              <a:ext cx="2087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108160" y="2189160"/>
              <a:ext cx="3672000" cy="3095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0880" y="5141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7800" y="1828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2520" y="528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33418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81600" y="527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8520" y="218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11440" y="2260800"/>
              <a:ext cx="3384720" cy="27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51440" y="4630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16160" y="527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16520" y="52848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25495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8160" y="276552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5060880" y="2765520"/>
              <a:ext cx="0" cy="2519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60880" y="2765520"/>
              <a:ext cx="0" cy="2519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3980520" y="1540440"/>
              <a:ext cx="360360" cy="180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19440" y="1828800"/>
              <a:ext cx="1152720" cy="368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EX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ecio demasiado 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52480" y="1828800"/>
            <a:ext cx="5614920" cy="3861720"/>
            <a:chOff x="1752480" y="1828800"/>
            <a:chExt cx="5614920" cy="3861720"/>
          </a:xfrm>
        </p:grpSpPr>
        <p:sp>
          <p:nvSpPr>
            <p:cNvPr id="138" name=""/>
            <p:cNvSpPr/>
            <p:nvPr/>
          </p:nvSpPr>
          <p:spPr>
            <a:xfrm>
              <a:off x="2184120" y="1900440"/>
              <a:ext cx="0" cy="33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84120" y="5284800"/>
              <a:ext cx="496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200480" y="3557520"/>
              <a:ext cx="0" cy="1727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84120" y="3557520"/>
              <a:ext cx="1943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183760" y="2189160"/>
              <a:ext cx="3600360" cy="3095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96840" y="51418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3760" y="1828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8480" y="5284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52480" y="33418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57560" y="527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84480" y="218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44480" y="2333520"/>
              <a:ext cx="3527640" cy="266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27400" y="4630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92120" y="527832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2480" y="52848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406080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84120" y="427680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36840" y="42768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36840" y="42768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4056480" y="3629880"/>
              <a:ext cx="360360" cy="180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5400" y="4775400"/>
              <a:ext cx="1152720" cy="368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Escase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xceso del consumi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124000" y="1587600"/>
            <a:ext cx="5543640" cy="3861360"/>
            <a:chOff x="2124000" y="1587600"/>
            <a:chExt cx="5543640" cy="3861360"/>
          </a:xfrm>
        </p:grpSpPr>
        <p:sp>
          <p:nvSpPr>
            <p:cNvPr id="161" name=""/>
            <p:cNvSpPr/>
            <p:nvPr/>
          </p:nvSpPr>
          <p:spPr>
            <a:xfrm>
              <a:off x="2484360" y="1658520"/>
              <a:ext cx="0" cy="338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4360" y="5043240"/>
              <a:ext cx="496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140360" y="3530160"/>
              <a:ext cx="0" cy="1512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4360" y="3530160"/>
              <a:ext cx="1656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97080" y="4900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24000" y="1587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08720" y="5043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24000" y="316368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4360" y="2090520"/>
              <a:ext cx="3454560" cy="29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1640" y="20188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5640" y="50432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s-CL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56000" y="2306520"/>
              <a:ext cx="29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Excedente del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84360" y="2091960"/>
              <a:ext cx="1656000" cy="143784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492000" y="2522160"/>
              <a:ext cx="863640" cy="28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xceso del Produ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89160" y="205272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89160" y="543708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989520" y="356508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89160" y="356544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88800" y="2557440"/>
            <a:ext cx="3311640" cy="223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1880" y="5294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981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3520" y="5437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3421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72080" y="54309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7880" y="2556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32080" y="1981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2476800" y="3277080"/>
            <a:ext cx="1224000" cy="18003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2800" y="2413080"/>
            <a:ext cx="0" cy="1079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3040" y="3570120"/>
            <a:ext cx="699840" cy="1001880"/>
          </a:xfrm>
          <a:custGeom>
            <a:avLst/>
            <a:gdLst/>
            <a:ahLst/>
            <a:rect l="l" t="t" r="r" b="b"/>
            <a:pathLst>
              <a:path w="441" h="631">
                <a:moveTo>
                  <a:pt x="441" y="6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0440" y="44942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sto Mar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61560" y="342720"/>
            <a:ext cx="721044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timización de Pareto en Equilib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70160" y="2371680"/>
            <a:ext cx="3768840" cy="2270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70160" y="2371680"/>
            <a:ext cx="1884240" cy="11350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70160" y="1677960"/>
            <a:ext cx="0" cy="3463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70160" y="5141880"/>
            <a:ext cx="5000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83120" y="3501720"/>
            <a:ext cx="0" cy="1639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70160" y="3502080"/>
            <a:ext cx="18842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70160" y="2619360"/>
            <a:ext cx="3332160" cy="1954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0166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337500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38760" y="513540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40160" y="230832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2080" y="420048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cedente del Pro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640960" y="3131280"/>
            <a:ext cx="1071360" cy="181296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922120" y="2560680"/>
            <a:ext cx="507960" cy="566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705040" y="4011480"/>
            <a:ext cx="797040" cy="44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19760" y="425772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30440" y="231444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cedente d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444816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9800" y="514656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24280" y="514656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9800" y="2182680"/>
            <a:ext cx="5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907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81640" y="5165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6320" y="5751360"/>
            <a:ext cx="70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quilibrio el exceso del consumidor y del productor son máxi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á dado por el costo de los factores y la tecnología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 contable v/s Costo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 económico es el relevante para la toma de deci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epto de costo de 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s hund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s fijos (CF) y variables (C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s definiciones de 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Marginal: incremento de costo con una unidad adicional d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M = d CV / dQ = d CT / d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medi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 = CT /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 fijo medio: ATC = CF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 variable medio: AVC = CV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tinguir la economía normal, de la economía de 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ceptos básicos de micro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ntas económicas en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ferta de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manda de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ormas de curvas de 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33640" y="5065560"/>
            <a:ext cx="738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rva de costo marginal pasa por el mínimo de la curva de costo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y la de costo variable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 AVC/dQ = d (CV/Q) / dQ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133720" y="1752480"/>
            <a:ext cx="5169960" cy="2995560"/>
            <a:chOff x="2133720" y="1752480"/>
            <a:chExt cx="5169960" cy="2995560"/>
          </a:xfrm>
        </p:grpSpPr>
        <p:sp>
          <p:nvSpPr>
            <p:cNvPr id="224" name=""/>
            <p:cNvSpPr/>
            <p:nvPr/>
          </p:nvSpPr>
          <p:spPr>
            <a:xfrm flipV="1">
              <a:off x="2133720" y="1752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33720" y="4495680"/>
              <a:ext cx="48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660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053000" y="163656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4038480"/>
            <a:ext cx="44956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33720" y="2057400"/>
            <a:ext cx="4572000" cy="2438280"/>
          </a:xfrm>
          <a:custGeom>
            <a:avLst/>
            <a:gdLst/>
            <a:ahLst/>
            <a:rect l="l" t="t" r="r" b="b"/>
            <a:pathLst>
              <a:path w="2880" h="1536">
                <a:moveTo>
                  <a:pt x="0" y="1536"/>
                </a:moveTo>
                <a:cubicBezTo>
                  <a:pt x="16" y="1452"/>
                  <a:pt x="32" y="1368"/>
                  <a:pt x="96" y="1296"/>
                </a:cubicBezTo>
                <a:cubicBezTo>
                  <a:pt x="160" y="1224"/>
                  <a:pt x="224" y="1176"/>
                  <a:pt x="384" y="1104"/>
                </a:cubicBezTo>
                <a:cubicBezTo>
                  <a:pt x="544" y="1032"/>
                  <a:pt x="840" y="928"/>
                  <a:pt x="1056" y="864"/>
                </a:cubicBezTo>
                <a:cubicBezTo>
                  <a:pt x="1272" y="800"/>
                  <a:pt x="1480" y="784"/>
                  <a:pt x="1680" y="720"/>
                </a:cubicBezTo>
                <a:cubicBezTo>
                  <a:pt x="1880" y="656"/>
                  <a:pt x="2056" y="600"/>
                  <a:pt x="2256" y="480"/>
                </a:cubicBezTo>
                <a:cubicBezTo>
                  <a:pt x="2456" y="360"/>
                  <a:pt x="2668" y="180"/>
                  <a:pt x="2880" y="0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1600200"/>
            <a:ext cx="4572000" cy="2438280"/>
          </a:xfrm>
          <a:custGeom>
            <a:avLst/>
            <a:gdLst/>
            <a:ahLst/>
            <a:rect l="l" t="t" r="r" b="b"/>
            <a:pathLst>
              <a:path w="2880" h="1536">
                <a:moveTo>
                  <a:pt x="0" y="1536"/>
                </a:moveTo>
                <a:cubicBezTo>
                  <a:pt x="16" y="1452"/>
                  <a:pt x="32" y="1368"/>
                  <a:pt x="96" y="1296"/>
                </a:cubicBezTo>
                <a:cubicBezTo>
                  <a:pt x="160" y="1224"/>
                  <a:pt x="224" y="1176"/>
                  <a:pt x="384" y="1104"/>
                </a:cubicBezTo>
                <a:cubicBezTo>
                  <a:pt x="544" y="1032"/>
                  <a:pt x="840" y="928"/>
                  <a:pt x="1056" y="864"/>
                </a:cubicBezTo>
                <a:cubicBezTo>
                  <a:pt x="1272" y="800"/>
                  <a:pt x="1480" y="784"/>
                  <a:pt x="1680" y="720"/>
                </a:cubicBezTo>
                <a:cubicBezTo>
                  <a:pt x="1880" y="656"/>
                  <a:pt x="2056" y="600"/>
                  <a:pt x="2256" y="480"/>
                </a:cubicBezTo>
                <a:cubicBezTo>
                  <a:pt x="2456" y="360"/>
                  <a:pt x="2668" y="180"/>
                  <a:pt x="2880" y="0"/>
                </a:cubicBezTo>
              </a:path>
            </a:pathLst>
          </a:custGeom>
          <a:noFill/>
          <a:ln w="255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91320" y="3846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960" y="194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5760" y="1371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ormas de curvas de 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33640" y="5065560"/>
            <a:ext cx="73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rva de costo marginal pasa por el mínimo de la curva de costo f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o y la de costo variable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133720" y="1752480"/>
            <a:ext cx="5169960" cy="2995560"/>
            <a:chOff x="2133720" y="1752480"/>
            <a:chExt cx="5169960" cy="2995560"/>
          </a:xfrm>
        </p:grpSpPr>
        <p:sp>
          <p:nvSpPr>
            <p:cNvPr id="237" name=""/>
            <p:cNvSpPr/>
            <p:nvPr/>
          </p:nvSpPr>
          <p:spPr>
            <a:xfrm flipV="1">
              <a:off x="2133720" y="175248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33720" y="4495680"/>
              <a:ext cx="48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9660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53000" y="163656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$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2760" y="2895480"/>
            <a:ext cx="3517920" cy="800280"/>
          </a:xfrm>
          <a:custGeom>
            <a:avLst/>
            <a:gdLst/>
            <a:ahLst/>
            <a:rect l="l" t="t" r="r" b="b"/>
            <a:pathLst>
              <a:path w="2216" h="504">
                <a:moveTo>
                  <a:pt x="0" y="0"/>
                </a:moveTo>
                <a:cubicBezTo>
                  <a:pt x="75" y="52"/>
                  <a:pt x="319" y="239"/>
                  <a:pt x="448" y="312"/>
                </a:cubicBezTo>
                <a:cubicBezTo>
                  <a:pt x="577" y="385"/>
                  <a:pt x="649" y="411"/>
                  <a:pt x="776" y="440"/>
                </a:cubicBezTo>
                <a:cubicBezTo>
                  <a:pt x="903" y="469"/>
                  <a:pt x="1048" y="504"/>
                  <a:pt x="1208" y="488"/>
                </a:cubicBezTo>
                <a:cubicBezTo>
                  <a:pt x="1368" y="472"/>
                  <a:pt x="1568" y="400"/>
                  <a:pt x="1736" y="344"/>
                </a:cubicBezTo>
                <a:cubicBezTo>
                  <a:pt x="1904" y="288"/>
                  <a:pt x="2060" y="220"/>
                  <a:pt x="2216" y="152"/>
                </a:cubicBezTo>
              </a:path>
            </a:pathLst>
          </a:custGeom>
          <a:noFill/>
          <a:ln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74920" y="1981080"/>
            <a:ext cx="3505320" cy="1384560"/>
          </a:xfrm>
          <a:custGeom>
            <a:avLst/>
            <a:gdLst/>
            <a:ahLst/>
            <a:rect l="l" t="t" r="r" b="b"/>
            <a:pathLst>
              <a:path w="2208" h="872">
                <a:moveTo>
                  <a:pt x="0" y="0"/>
                </a:moveTo>
                <a:cubicBezTo>
                  <a:pt x="92" y="132"/>
                  <a:pt x="184" y="264"/>
                  <a:pt x="336" y="384"/>
                </a:cubicBezTo>
                <a:cubicBezTo>
                  <a:pt x="488" y="504"/>
                  <a:pt x="720" y="640"/>
                  <a:pt x="912" y="720"/>
                </a:cubicBezTo>
                <a:cubicBezTo>
                  <a:pt x="1104" y="800"/>
                  <a:pt x="1328" y="856"/>
                  <a:pt x="1488" y="864"/>
                </a:cubicBezTo>
                <a:cubicBezTo>
                  <a:pt x="1648" y="872"/>
                  <a:pt x="1752" y="824"/>
                  <a:pt x="1872" y="768"/>
                </a:cubicBezTo>
                <a:cubicBezTo>
                  <a:pt x="1992" y="712"/>
                  <a:pt x="2100" y="620"/>
                  <a:pt x="2208" y="528"/>
                </a:cubicBezTo>
              </a:path>
            </a:pathLst>
          </a:custGeom>
          <a:noFill/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2057400"/>
            <a:ext cx="3429000" cy="1905120"/>
          </a:xfrm>
          <a:custGeom>
            <a:avLst/>
            <a:gdLst/>
            <a:ahLst/>
            <a:rect l="l" t="t" r="r" b="b"/>
            <a:pathLst>
              <a:path w="2160" h="1200">
                <a:moveTo>
                  <a:pt x="0" y="720"/>
                </a:moveTo>
                <a:cubicBezTo>
                  <a:pt x="36" y="804"/>
                  <a:pt x="72" y="888"/>
                  <a:pt x="144" y="960"/>
                </a:cubicBezTo>
                <a:cubicBezTo>
                  <a:pt x="216" y="1032"/>
                  <a:pt x="352" y="1112"/>
                  <a:pt x="432" y="1152"/>
                </a:cubicBezTo>
                <a:cubicBezTo>
                  <a:pt x="512" y="1192"/>
                  <a:pt x="536" y="1200"/>
                  <a:pt x="624" y="1200"/>
                </a:cubicBezTo>
                <a:cubicBezTo>
                  <a:pt x="712" y="1200"/>
                  <a:pt x="856" y="1184"/>
                  <a:pt x="960" y="1152"/>
                </a:cubicBezTo>
                <a:cubicBezTo>
                  <a:pt x="1064" y="1120"/>
                  <a:pt x="1152" y="1064"/>
                  <a:pt x="1248" y="1008"/>
                </a:cubicBezTo>
                <a:cubicBezTo>
                  <a:pt x="1344" y="952"/>
                  <a:pt x="1432" y="904"/>
                  <a:pt x="1536" y="816"/>
                </a:cubicBezTo>
                <a:cubicBezTo>
                  <a:pt x="1640" y="728"/>
                  <a:pt x="1768" y="616"/>
                  <a:pt x="1872" y="480"/>
                </a:cubicBezTo>
                <a:cubicBezTo>
                  <a:pt x="1976" y="344"/>
                  <a:pt x="2068" y="172"/>
                  <a:pt x="216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3073320"/>
            <a:ext cx="3886200" cy="1295640"/>
          </a:xfrm>
          <a:custGeom>
            <a:avLst/>
            <a:gdLst/>
            <a:ahLst/>
            <a:rect l="l" t="t" r="r" b="b"/>
            <a:pathLst>
              <a:path w="2448" h="816">
                <a:moveTo>
                  <a:pt x="0" y="0"/>
                </a:moveTo>
                <a:cubicBezTo>
                  <a:pt x="40" y="84"/>
                  <a:pt x="80" y="168"/>
                  <a:pt x="144" y="240"/>
                </a:cubicBezTo>
                <a:cubicBezTo>
                  <a:pt x="208" y="312"/>
                  <a:pt x="312" y="384"/>
                  <a:pt x="384" y="432"/>
                </a:cubicBezTo>
                <a:cubicBezTo>
                  <a:pt x="456" y="480"/>
                  <a:pt x="480" y="496"/>
                  <a:pt x="576" y="528"/>
                </a:cubicBezTo>
                <a:cubicBezTo>
                  <a:pt x="672" y="560"/>
                  <a:pt x="760" y="584"/>
                  <a:pt x="960" y="624"/>
                </a:cubicBezTo>
                <a:cubicBezTo>
                  <a:pt x="1160" y="664"/>
                  <a:pt x="1528" y="736"/>
                  <a:pt x="1776" y="768"/>
                </a:cubicBezTo>
                <a:cubicBezTo>
                  <a:pt x="2024" y="800"/>
                  <a:pt x="2236" y="808"/>
                  <a:pt x="2448" y="816"/>
                </a:cubicBezTo>
              </a:path>
            </a:pathLst>
          </a:custGeom>
          <a:noFill/>
          <a:ln w="12600">
            <a:solidFill>
              <a:srgbClr val="3366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82200" y="17892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81840" y="2475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1840" y="2932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81840" y="3998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mos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sco mínimo de AVC c/r a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 AVC/dq = d (C/q) / dq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(dC/dq) q – C )/ q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C/dq = C/q = A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mínimo se encuentra en q* tal que AVC =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s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onomías y deseconomías de 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s: utilización de capacidad ex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onomías de 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jas de producir dos o má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va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2480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omías de escala en min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390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omías de escala en min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594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de aprendiz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2286000"/>
            <a:ext cx="7489800" cy="3243240"/>
            <a:chOff x="914400" y="2286000"/>
            <a:chExt cx="7489800" cy="324324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rcRect l="3897" t="3296" r="1926" b="2948"/>
            <a:stretch/>
          </p:blipFill>
          <p:spPr>
            <a:xfrm>
              <a:off x="914400" y="2286000"/>
              <a:ext cx="748980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17680" y="3078360"/>
              <a:ext cx="2160360" cy="2087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Fallas Sistem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DURACIÓN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LA TECNOLOG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78040" y="3078360"/>
              <a:ext cx="2808360" cy="20872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33ff"/>
                  </a:solidFill>
                  <a:latin typeface="Arial"/>
                </a:rPr>
                <a:t>Fallas Mecánicas / Eléctr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33ff"/>
                  </a:solidFill>
                  <a:latin typeface="Arial"/>
                </a:rPr>
                <a:t>SERVICIO EXT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86400" y="3078360"/>
              <a:ext cx="1944720" cy="20872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Intern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ximización de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B(q) = R(q) – C(q), el q que maximiza B, es tal que MR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49863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aximización de utilidades por una firma competi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la firma es tomadora de precios (P)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R = P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 = 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49000" y="1676520"/>
            <a:ext cx="5698080" cy="3970800"/>
            <a:chOff x="1449000" y="1676520"/>
            <a:chExt cx="5698080" cy="3970800"/>
          </a:xfrm>
        </p:grpSpPr>
        <p:grpSp>
          <p:nvGrpSpPr>
            <p:cNvPr id="270" name=""/>
            <p:cNvGrpSpPr/>
            <p:nvPr/>
          </p:nvGrpSpPr>
          <p:grpSpPr>
            <a:xfrm>
              <a:off x="1449000" y="1676520"/>
              <a:ext cx="5698080" cy="3970800"/>
              <a:chOff x="1449000" y="1676520"/>
              <a:chExt cx="5698080" cy="3970800"/>
            </a:xfrm>
          </p:grpSpPr>
          <p:sp>
            <p:nvSpPr>
              <p:cNvPr id="271" name=""/>
              <p:cNvSpPr/>
              <p:nvPr/>
            </p:nvSpPr>
            <p:spPr>
              <a:xfrm>
                <a:off x="5235840" y="5260680"/>
                <a:ext cx="61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Q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68760" y="1731600"/>
                <a:ext cx="0" cy="350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2768400" y="5240160"/>
                <a:ext cx="348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68880" y="2096640"/>
                <a:ext cx="3409920" cy="2425320"/>
              </a:xfrm>
              <a:custGeom>
                <a:avLst/>
                <a:gdLst/>
                <a:ahLst/>
                <a:rect l="l" t="t" r="r" b="b"/>
                <a:pathLst>
                  <a:path w="2495" h="1307">
                    <a:moveTo>
                      <a:pt x="0" y="680"/>
                    </a:moveTo>
                    <a:cubicBezTo>
                      <a:pt x="23" y="774"/>
                      <a:pt x="46" y="869"/>
                      <a:pt x="137" y="952"/>
                    </a:cubicBezTo>
                    <a:cubicBezTo>
                      <a:pt x="228" y="1035"/>
                      <a:pt x="371" y="1134"/>
                      <a:pt x="545" y="1179"/>
                    </a:cubicBezTo>
                    <a:cubicBezTo>
                      <a:pt x="719" y="1224"/>
                      <a:pt x="953" y="1307"/>
                      <a:pt x="1180" y="1224"/>
                    </a:cubicBezTo>
                    <a:cubicBezTo>
                      <a:pt x="1407" y="1141"/>
                      <a:pt x="1687" y="884"/>
                      <a:pt x="1906" y="680"/>
                    </a:cubicBezTo>
                    <a:cubicBezTo>
                      <a:pt x="2125" y="476"/>
                      <a:pt x="2397" y="113"/>
                      <a:pt x="2495" y="0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624480" y="2039760"/>
                <a:ext cx="2976480" cy="1818720"/>
              </a:xfrm>
              <a:custGeom>
                <a:avLst/>
                <a:gdLst/>
                <a:ahLst/>
                <a:rect l="l" t="t" r="r" b="b"/>
                <a:pathLst>
                  <a:path w="1875" h="1146">
                    <a:moveTo>
                      <a:pt x="0" y="574"/>
                    </a:moveTo>
                    <a:cubicBezTo>
                      <a:pt x="17" y="654"/>
                      <a:pt x="35" y="734"/>
                      <a:pt x="103" y="804"/>
                    </a:cubicBezTo>
                    <a:cubicBezTo>
                      <a:pt x="171" y="874"/>
                      <a:pt x="279" y="951"/>
                      <a:pt x="410" y="996"/>
                    </a:cubicBezTo>
                    <a:cubicBezTo>
                      <a:pt x="541" y="1041"/>
                      <a:pt x="717" y="1146"/>
                      <a:pt x="887" y="1076"/>
                    </a:cubicBezTo>
                    <a:cubicBezTo>
                      <a:pt x="1057" y="1006"/>
                      <a:pt x="1267" y="753"/>
                      <a:pt x="1432" y="574"/>
                    </a:cubicBezTo>
                    <a:cubicBezTo>
                      <a:pt x="1597" y="395"/>
                      <a:pt x="1801" y="95"/>
                      <a:pt x="1875" y="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40160" y="1731600"/>
                <a:ext cx="27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38720" y="5055840"/>
                <a:ext cx="27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12160" y="524160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lang="es-CL" sz="1800" spc="-1" strike="noStrike" baseline="-25000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55080" y="26031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808080"/>
                    </a:solidFill>
                    <a:latin typeface="Arial"/>
                  </a:rPr>
                  <a:t>AV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54840" y="186984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ff0000"/>
                    </a:solidFill>
                    <a:latin typeface="Arial"/>
                  </a:rPr>
                  <a:t>M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54360" y="3028680"/>
                <a:ext cx="374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59400" y="3570120"/>
                <a:ext cx="25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899080" y="2160360"/>
                <a:ext cx="2705040" cy="2793600"/>
              </a:xfrm>
              <a:custGeom>
                <a:avLst/>
                <a:gdLst/>
                <a:ahLst/>
                <a:rect l="l" t="t" r="r" b="b"/>
                <a:pathLst>
                  <a:path w="1704" h="1760">
                    <a:moveTo>
                      <a:pt x="0" y="1505"/>
                    </a:moveTo>
                    <a:cubicBezTo>
                      <a:pt x="85" y="1573"/>
                      <a:pt x="144" y="1636"/>
                      <a:pt x="321" y="1633"/>
                    </a:cubicBezTo>
                    <a:cubicBezTo>
                      <a:pt x="498" y="1630"/>
                      <a:pt x="834" y="1760"/>
                      <a:pt x="1064" y="1488"/>
                    </a:cubicBezTo>
                    <a:cubicBezTo>
                      <a:pt x="1294" y="1216"/>
                      <a:pt x="1571" y="310"/>
                      <a:pt x="1704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23080" y="186984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333399"/>
                    </a:solidFill>
                    <a:latin typeface="Arial"/>
                  </a:rPr>
                  <a:t>AT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75440" y="3028680"/>
                <a:ext cx="0" cy="22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38720" y="2307960"/>
                <a:ext cx="5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67440" y="2594880"/>
                <a:ext cx="144360" cy="64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11840" y="16765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49000" y="281916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 =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61200" y="2706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047200" y="27064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234400" y="342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21320" y="3580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806560" y="3060720"/>
            <a:ext cx="2438640" cy="457200"/>
          </a:xfrm>
          <a:prstGeom prst="rect">
            <a:avLst/>
          </a:prstGeom>
          <a:gradFill rotWithShape="0">
            <a:gsLst>
              <a:gs pos="0">
                <a:srgbClr val="bbe0e3">
                  <a:alpha val="23137"/>
                </a:srgbClr>
              </a:gs>
              <a:gs pos="50000">
                <a:srgbClr val="a0c0c3"/>
              </a:gs>
              <a:gs pos="100000">
                <a:srgbClr val="bbe0e3">
                  <a:alpha val="2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plicación: leyes de corte con criterio marginal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FINICIÓ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neral es el material cuya ley permite pagar todos los costos involucrados desde  su extracción hasta su comercializ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PÓS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ximizar el beneficio de la explotación de un recu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greso = q * ley * Rc * Rf * (P – C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sto = q * M,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cm  = Ley  de corte margi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  = Costos imputados a la unidad de mineral (US$/t - miner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   = Precio del cobre (US$/t - fino comerc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f = Costos  imputados  a  la  unidad  de  fino (US$/t - fino comerc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c = Recuperacin Concentrador y Rf = Recuperacin Fundi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dición de máximo: dI/dq = dC/d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y * Rc * Rf * (P – Cf) =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y de corte 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cm = M / [ ( P - Cf ) * Rc * Rf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uestos de la 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ipio de la soberanía del consumidor: la gente decide como y en qué son usados l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aros derechos de propiedad individuales que son comercializ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recursos o bienes, son privados: yo obtengo los beneficios de su uso, y puedo bloquear el acceso a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imiento completo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res y consumidores toman decisiones racion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o tengo un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 obtengo a mínimo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maximizar mi ut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plicación: determinación punto óptimo de operación Mina -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 dado P, Costos de operación, y la relación entre capacidad y recuperación metalúrgica, definir el punto de producción ópt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2369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uperación metalúrgica /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c = aq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bq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cq +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 = q Rc Rf l (P – C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= q Ct + 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timo: dB/dq = dC/d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f l (P – Cf) (4a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3bq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+ 2cq + d) = 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irma competitiva incurriendo pérd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firma debe cerrar si el precio está bajo el ATC. Si la firma tiene costos hundidos que amortiza y son tratados como fijos, en el corto plazo puede producir si el precio está sobre el AV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681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de la ind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44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as rentas y el equilibrio de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88000" y="5513400"/>
            <a:ext cx="122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0800" y="161136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0800" y="4995720"/>
            <a:ext cx="341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3120" y="48531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200" y="15397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18080" y="4995720"/>
            <a:ext cx="70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30528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85680" y="1971720"/>
            <a:ext cx="2916360" cy="273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160488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5068800"/>
            <a:ext cx="61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f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26128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0800" y="2819520"/>
            <a:ext cx="7831080" cy="17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39280" y="1468440"/>
            <a:ext cx="2737080" cy="2664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1539720"/>
            <a:ext cx="0" cy="3508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657320" y="5048280"/>
            <a:ext cx="348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162400" y="1971720"/>
            <a:ext cx="3410280" cy="2425680"/>
          </a:xfrm>
          <a:custGeom>
            <a:avLst/>
            <a:gdLst/>
            <a:ahLst/>
            <a:rect l="l" t="t" r="r" b="b"/>
            <a:pathLst>
              <a:path w="2495" h="1307">
                <a:moveTo>
                  <a:pt x="0" y="680"/>
                </a:moveTo>
                <a:cubicBezTo>
                  <a:pt x="23" y="774"/>
                  <a:pt x="46" y="869"/>
                  <a:pt x="137" y="952"/>
                </a:cubicBezTo>
                <a:cubicBezTo>
                  <a:pt x="228" y="1035"/>
                  <a:pt x="371" y="1134"/>
                  <a:pt x="545" y="1179"/>
                </a:cubicBezTo>
                <a:cubicBezTo>
                  <a:pt x="719" y="1224"/>
                  <a:pt x="953" y="1307"/>
                  <a:pt x="1180" y="1224"/>
                </a:cubicBezTo>
                <a:cubicBezTo>
                  <a:pt x="1407" y="1141"/>
                  <a:pt x="1687" y="884"/>
                  <a:pt x="1906" y="680"/>
                </a:cubicBezTo>
                <a:cubicBezTo>
                  <a:pt x="2125" y="476"/>
                  <a:pt x="2397" y="113"/>
                  <a:pt x="2495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13400" y="1847880"/>
            <a:ext cx="2976480" cy="1752480"/>
          </a:xfrm>
          <a:custGeom>
            <a:avLst/>
            <a:gdLst/>
            <a:ahLst/>
            <a:rect l="l" t="t" r="r" b="b"/>
            <a:pathLst>
              <a:path w="2495" h="1307">
                <a:moveTo>
                  <a:pt x="0" y="680"/>
                </a:moveTo>
                <a:cubicBezTo>
                  <a:pt x="23" y="774"/>
                  <a:pt x="46" y="869"/>
                  <a:pt x="137" y="952"/>
                </a:cubicBezTo>
                <a:cubicBezTo>
                  <a:pt x="228" y="1035"/>
                  <a:pt x="371" y="1134"/>
                  <a:pt x="545" y="1179"/>
                </a:cubicBezTo>
                <a:cubicBezTo>
                  <a:pt x="719" y="1224"/>
                  <a:pt x="953" y="1307"/>
                  <a:pt x="1180" y="1224"/>
                </a:cubicBezTo>
                <a:cubicBezTo>
                  <a:pt x="1407" y="1141"/>
                  <a:pt x="1687" y="884"/>
                  <a:pt x="1906" y="680"/>
                </a:cubicBezTo>
                <a:cubicBezTo>
                  <a:pt x="2125" y="476"/>
                  <a:pt x="2397" y="113"/>
                  <a:pt x="2495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9080" y="153972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4863960"/>
            <a:ext cx="2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101080" y="5049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44000" y="2411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0808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43760" y="167796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2044800"/>
            <a:ext cx="2808360" cy="2663640"/>
          </a:xfrm>
          <a:custGeom>
            <a:avLst/>
            <a:gdLst/>
            <a:ahLst/>
            <a:rect l="l" t="t" r="r" b="b"/>
            <a:pathLst>
              <a:path w="1497" h="1776">
                <a:moveTo>
                  <a:pt x="0" y="1542"/>
                </a:moveTo>
                <a:cubicBezTo>
                  <a:pt x="72" y="1614"/>
                  <a:pt x="144" y="1686"/>
                  <a:pt x="272" y="1678"/>
                </a:cubicBezTo>
                <a:cubicBezTo>
                  <a:pt x="400" y="1670"/>
                  <a:pt x="567" y="1776"/>
                  <a:pt x="771" y="1496"/>
                </a:cubicBezTo>
                <a:cubicBezTo>
                  <a:pt x="975" y="1216"/>
                  <a:pt x="1236" y="608"/>
                  <a:pt x="149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812000" y="16779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4360" y="283680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640" y="2908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27640" y="29084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2000" y="1468440"/>
            <a:ext cx="63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s-CL" sz="1800" spc="-1" strike="noStrike" baseline="-25000">
                <a:solidFill>
                  <a:srgbClr val="33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87280" y="5154480"/>
            <a:ext cx="187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27640" y="21160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56360" y="2403360"/>
            <a:ext cx="144360" cy="649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2819520"/>
            <a:ext cx="2514600" cy="533160"/>
          </a:xfrm>
          <a:prstGeom prst="rect">
            <a:avLst/>
          </a:prstGeom>
          <a:solidFill>
            <a:srgbClr val="8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3520" y="1828800"/>
            <a:ext cx="7831080" cy="3682080"/>
            <a:chOff x="533520" y="1828800"/>
            <a:chExt cx="7831080" cy="3682080"/>
          </a:xfrm>
        </p:grpSpPr>
        <p:sp>
          <p:nvSpPr>
            <p:cNvPr id="341" name=""/>
            <p:cNvSpPr/>
            <p:nvPr/>
          </p:nvSpPr>
          <p:spPr>
            <a:xfrm flipH="1">
              <a:off x="4190760" y="3429000"/>
              <a:ext cx="115236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6200" y="38862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π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33520" y="1828800"/>
              <a:ext cx="7831080" cy="3682080"/>
              <a:chOff x="533520" y="1828800"/>
              <a:chExt cx="7831080" cy="3682080"/>
            </a:xfrm>
          </p:grpSpPr>
          <p:sp>
            <p:nvSpPr>
              <p:cNvPr id="344" name=""/>
              <p:cNvSpPr/>
              <p:nvPr/>
            </p:nvSpPr>
            <p:spPr>
              <a:xfrm>
                <a:off x="533520" y="3225600"/>
                <a:ext cx="783108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53080" y="5105160"/>
                <a:ext cx="576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lang="es-CL" sz="1800" spc="-1" strike="noStrike" baseline="-25000">
                    <a:solidFill>
                      <a:srgbClr val="000000"/>
                    </a:solidFill>
                    <a:latin typeface="Arial"/>
                  </a:rPr>
                  <a:t>f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34320" y="3276360"/>
                <a:ext cx="0" cy="180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438280" y="2438280"/>
                <a:ext cx="64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609120" y="1828800"/>
                <a:ext cx="3734280" cy="3101400"/>
                <a:chOff x="609120" y="1828800"/>
                <a:chExt cx="3734280" cy="3101400"/>
              </a:xfrm>
            </p:grpSpPr>
            <p:sp>
              <p:nvSpPr>
                <p:cNvPr id="349" name=""/>
                <p:cNvSpPr/>
                <p:nvPr/>
              </p:nvSpPr>
              <p:spPr>
                <a:xfrm flipH="1">
                  <a:off x="609120" y="1834920"/>
                  <a:ext cx="3165480" cy="30952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3040" y="1828800"/>
                  <a:ext cx="630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333399"/>
                      </a:solidFill>
                      <a:latin typeface="Arial"/>
                    </a:rPr>
                    <a:t>O</a:t>
                  </a:r>
                  <a:r>
                    <a:rPr b="1" lang="es-CL" sz="1800" spc="-1" strike="noStrike" baseline="-25000">
                      <a:solidFill>
                        <a:srgbClr val="333399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245960" y="3563640"/>
                  <a:ext cx="648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469960" y="2136600"/>
                  <a:ext cx="865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200" spc="-1" strike="noStrike">
                      <a:solidFill>
                        <a:srgbClr val="000000"/>
                      </a:solidFill>
                      <a:latin typeface="Arial"/>
                    </a:rPr>
                    <a:t>entr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4648320" y="3251160"/>
                <a:ext cx="2286000" cy="228600"/>
              </a:xfrm>
              <a:prstGeom prst="rect">
                <a:avLst/>
              </a:prstGeom>
              <a:solidFill>
                <a:srgbClr val="99cc00">
                  <a:alpha val="2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904320" y="5638680"/>
            <a:ext cx="823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ses se reduce con el aumento de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ntas económicas se reducen tambié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xistencia de rentas económicas es un driver para la asignación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e pasa en el largo pla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nta económica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)se calcula restando el costo de oportunidad del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&gt; 0, implica un retorno inusualmente alto sobre la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el largo plazo, no hay barreras de entrada, por lo que el incentivo de la existencia de rentas económicas en el mercado hace que ingresen más fi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Oferta por lo tanto aumentará, y el precio cae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in barreras de entrada y salida, y con firmas con acceso a los mismos recursos productivos y tecnologías, en el largo plaz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das las firmas están maximizando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inguna firma tiene incentivos para entrar y/o salir de la industria, ya que todas las firmas están obteniendo rentas económicas n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l precio del producto es dado por el equilibrio entre oferta y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quilibrio de Largo Pla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32400" y="54054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1870200"/>
            <a:ext cx="0" cy="3508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29000" y="5359320"/>
            <a:ext cx="4457520" cy="1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33720" y="2301840"/>
            <a:ext cx="3409920" cy="2425680"/>
          </a:xfrm>
          <a:custGeom>
            <a:avLst/>
            <a:gdLst/>
            <a:ahLst/>
            <a:rect l="l" t="t" r="r" b="b"/>
            <a:pathLst>
              <a:path w="2495" h="1307">
                <a:moveTo>
                  <a:pt x="0" y="680"/>
                </a:moveTo>
                <a:cubicBezTo>
                  <a:pt x="23" y="774"/>
                  <a:pt x="46" y="869"/>
                  <a:pt x="137" y="952"/>
                </a:cubicBezTo>
                <a:cubicBezTo>
                  <a:pt x="228" y="1035"/>
                  <a:pt x="371" y="1134"/>
                  <a:pt x="545" y="1179"/>
                </a:cubicBezTo>
                <a:cubicBezTo>
                  <a:pt x="719" y="1224"/>
                  <a:pt x="953" y="1307"/>
                  <a:pt x="1180" y="1224"/>
                </a:cubicBezTo>
                <a:cubicBezTo>
                  <a:pt x="1407" y="1141"/>
                  <a:pt x="1687" y="884"/>
                  <a:pt x="1906" y="680"/>
                </a:cubicBezTo>
                <a:cubicBezTo>
                  <a:pt x="2125" y="476"/>
                  <a:pt x="2397" y="113"/>
                  <a:pt x="2495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84720" y="2178000"/>
            <a:ext cx="2976480" cy="1752480"/>
          </a:xfrm>
          <a:custGeom>
            <a:avLst/>
            <a:gdLst/>
            <a:ahLst/>
            <a:rect l="l" t="t" r="r" b="b"/>
            <a:pathLst>
              <a:path w="2495" h="1307">
                <a:moveTo>
                  <a:pt x="0" y="680"/>
                </a:moveTo>
                <a:cubicBezTo>
                  <a:pt x="23" y="774"/>
                  <a:pt x="46" y="869"/>
                  <a:pt x="137" y="952"/>
                </a:cubicBezTo>
                <a:cubicBezTo>
                  <a:pt x="228" y="1035"/>
                  <a:pt x="371" y="1134"/>
                  <a:pt x="545" y="1179"/>
                </a:cubicBezTo>
                <a:cubicBezTo>
                  <a:pt x="719" y="1224"/>
                  <a:pt x="953" y="1307"/>
                  <a:pt x="1180" y="1224"/>
                </a:cubicBezTo>
                <a:cubicBezTo>
                  <a:pt x="1407" y="1141"/>
                  <a:pt x="1687" y="884"/>
                  <a:pt x="1906" y="680"/>
                </a:cubicBezTo>
                <a:cubicBezTo>
                  <a:pt x="2125" y="476"/>
                  <a:pt x="2397" y="113"/>
                  <a:pt x="2495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55680" y="179856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27320" y="5194440"/>
            <a:ext cx="2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34240" y="53593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4960" y="27417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0808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15080" y="20080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3886200"/>
            <a:ext cx="37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09880" y="2286000"/>
            <a:ext cx="2400480" cy="2782800"/>
          </a:xfrm>
          <a:custGeom>
            <a:avLst/>
            <a:gdLst/>
            <a:ahLst/>
            <a:rect l="l" t="t" r="r" b="b"/>
            <a:pathLst>
              <a:path w="1512" h="1753">
                <a:moveTo>
                  <a:pt x="0" y="1288"/>
                </a:moveTo>
                <a:cubicBezTo>
                  <a:pt x="57" y="1339"/>
                  <a:pt x="201" y="1559"/>
                  <a:pt x="344" y="1592"/>
                </a:cubicBezTo>
                <a:cubicBezTo>
                  <a:pt x="487" y="1625"/>
                  <a:pt x="661" y="1753"/>
                  <a:pt x="856" y="1488"/>
                </a:cubicBezTo>
                <a:cubicBezTo>
                  <a:pt x="1051" y="1223"/>
                  <a:pt x="1375" y="310"/>
                  <a:pt x="151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83320" y="2008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75320" y="3886200"/>
            <a:ext cx="0" cy="1512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54240" y="3741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48040" y="2692440"/>
            <a:ext cx="15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tinguir la economía normal, de la economía de 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ceptos básicos de micro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ntas económicas en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ferta de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manda de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ntas económicas en Min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donde surgen las rentas económica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ería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alidad de un depósito o recurso m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ecnología (Proc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bricación / Distribución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ecnología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o por un factor de producción que es difícil de obtener o repl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nta de Hot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orción de la ganancia debida a la escases de un re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nta Ricardi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porción de la ganancia debida a la alta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s sobre r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a marginal: no recibe r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ntas y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59360" y="3352320"/>
            <a:ext cx="4118040" cy="2767320"/>
            <a:chOff x="459360" y="3352320"/>
            <a:chExt cx="4118040" cy="2767320"/>
          </a:xfrm>
        </p:grpSpPr>
        <p:sp>
          <p:nvSpPr>
            <p:cNvPr id="381" name=""/>
            <p:cNvSpPr/>
            <p:nvPr/>
          </p:nvSpPr>
          <p:spPr>
            <a:xfrm flipV="1">
              <a:off x="1085400" y="335232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85400" y="5751360"/>
              <a:ext cx="32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5400" y="4997520"/>
              <a:ext cx="305640" cy="753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91400" y="4860000"/>
              <a:ext cx="306000" cy="891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7760" y="4791960"/>
              <a:ext cx="306000" cy="95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04120" y="4723200"/>
              <a:ext cx="305640" cy="1027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10120" y="4517640"/>
              <a:ext cx="306000" cy="1233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16480" y="4312080"/>
              <a:ext cx="306000" cy="143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22840" y="4037760"/>
              <a:ext cx="305640" cy="1713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28480" y="3832200"/>
              <a:ext cx="306000" cy="1918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085400" y="4312080"/>
              <a:ext cx="283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360" y="33850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$/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08400" y="5751360"/>
              <a:ext cx="126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pac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97480" y="39333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8160" y="3453840"/>
              <a:ext cx="161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ina Mar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86800" y="3832200"/>
              <a:ext cx="38232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24360" y="434448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V="1">
            <a:off x="5334120" y="3352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5715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53341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4952880"/>
            <a:ext cx="2057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45720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torno libre de ries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41911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mio por ries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3809880"/>
            <a:ext cx="2057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3809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454160" y="33894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02840" y="4202280"/>
            <a:ext cx="95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ín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e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419112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ipos de Recurs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07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 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 Mi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 privado con externalidad 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 privado con externalidad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-5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piedad común (ej: pescar en el océ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entes de las r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año de depó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idad metalú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idad del management y exper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der de mercado (Monopolio / Oligopol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o obtener (y defender) las re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lo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rket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rar cuando precios son bajos 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nder cuando precios son al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ticipar cambios en riesgos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fendiendo las r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eños de los minerales (gobierno, entidades privad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dades lo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blos indíg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eses medio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dic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tinguir la economía normal, de la economía de recursos na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ceptos básicos de micro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ntas económicas en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ferta de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manda de Min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manda de mi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d = f(I, P, Ps, Pc, T, G,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reso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tividad industrial y de constr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ducción de vehículos y mo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ducción de ac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de sustitutos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: alum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de complementos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: uso de zinc con cobre para hacer br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cnología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ede cambiar el tamaño y número de usuarios finales, ejemplo la introducción del 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ede reducir o aumentar la cantidad (latas de alumin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stitución, ejemplo tuberías de pv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manda de mi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ede influir demanda, ejemplo regulaciones de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mbios en gastos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ferencias de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mplo: si la tendencia es usar autos pequeños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menor uso de c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asticidad: medida de cuan sensible es una variable respecto a o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asticidad precio de la deman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 baseline="-26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= %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d / %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 = dQ/dP (P/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|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 baseline="-26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| &gt; 1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|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 baseline="-26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| &lt; 1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el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asticidad ingreso de la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 baseline="-26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= %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d / %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 = dQ/dI (I/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asticidades de cort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, gaso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 baseline="-26000">
                <a:solidFill>
                  <a:srgbClr val="000000"/>
                </a:solidFill>
                <a:latin typeface="Arial"/>
              </a:rPr>
              <a:t>d gasolin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to plazo (-0,1 ; -0,2), largo plazo (-0,8 ; -1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 =10 – 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6000">
                <a:solidFill>
                  <a:srgbClr val="000000"/>
                </a:solidFill>
                <a:latin typeface="Arial"/>
              </a:rPr>
              <a:t>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-2 P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00200" y="2971800"/>
            <a:ext cx="5528160" cy="3580920"/>
            <a:chOff x="1600200" y="2971800"/>
            <a:chExt cx="5528160" cy="3580920"/>
          </a:xfrm>
        </p:grpSpPr>
        <p:graphicFrame>
          <p:nvGraphicFramePr>
            <p:cNvPr id="426" name=""/>
            <p:cNvGraphicFramePr/>
            <p:nvPr/>
          </p:nvGraphicFramePr>
          <p:xfrm>
            <a:off x="1600200" y="3285000"/>
            <a:ext cx="5345640" cy="3267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285000"/>
                      <a:ext cx="5345640" cy="326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>
              <a:off x="2405880" y="2971800"/>
              <a:ext cx="100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ε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infin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54960" y="49734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ε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527920" y="3403440"/>
              <a:ext cx="515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49840" y="5328720"/>
              <a:ext cx="20628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492360" y="2781360"/>
            <a:ext cx="79236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asticidad de la Deman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484360" y="1628640"/>
            <a:ext cx="0" cy="338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4360" y="5013360"/>
            <a:ext cx="496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7080" y="4870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24000" y="155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08720" y="50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24000" y="25574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00720" y="50068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32000" y="1916280"/>
            <a:ext cx="3959280" cy="280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32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50068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140360" y="5013360"/>
            <a:ext cx="50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124000" y="1989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84360" y="4292640"/>
            <a:ext cx="395928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3640" y="4724280"/>
            <a:ext cx="64944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84360" y="2205000"/>
            <a:ext cx="1008000" cy="57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948360" y="50133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24000" y="45021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4000" y="4076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563640" y="249228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6732360" y="4365720"/>
            <a:ext cx="36036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795640" y="3860640"/>
            <a:ext cx="649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356000" y="313992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95080" y="22464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minución de gan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855760" y="29322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o de gan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01280" y="34290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minución de gan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27240" y="396252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mento de gana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59280" y="2932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54680" y="3809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29718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52880" y="383544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ergía y actividad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915480" y="1371600"/>
            <a:ext cx="6917040" cy="4290840"/>
            <a:chOff x="915480" y="1371600"/>
            <a:chExt cx="6917040" cy="4290840"/>
          </a:xfrm>
        </p:grpSpPr>
        <p:grpSp>
          <p:nvGrpSpPr>
            <p:cNvPr id="466" name=""/>
            <p:cNvGrpSpPr/>
            <p:nvPr/>
          </p:nvGrpSpPr>
          <p:grpSpPr>
            <a:xfrm>
              <a:off x="915480" y="2057040"/>
              <a:ext cx="6323040" cy="3605400"/>
              <a:chOff x="915480" y="2057040"/>
              <a:chExt cx="6323040" cy="360540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1981080" y="2057040"/>
                <a:ext cx="0" cy="32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981080" y="5333760"/>
                <a:ext cx="52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037600" y="5294160"/>
                <a:ext cx="457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1870            1920    1945                     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5480" y="2209680"/>
                <a:ext cx="107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Btu/PG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1981080" y="3429000"/>
                <a:ext cx="167580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57240" y="3378240"/>
                <a:ext cx="3200040" cy="969840"/>
              </a:xfrm>
              <a:custGeom>
                <a:avLst/>
                <a:gdLst/>
                <a:ahLst/>
                <a:rect l="l" t="t" r="r" b="b"/>
                <a:pathLst>
                  <a:path w="2016" h="611">
                    <a:moveTo>
                      <a:pt x="0" y="32"/>
                    </a:moveTo>
                    <a:cubicBezTo>
                      <a:pt x="16" y="0"/>
                      <a:pt x="37" y="5"/>
                      <a:pt x="48" y="32"/>
                    </a:cubicBezTo>
                    <a:cubicBezTo>
                      <a:pt x="59" y="59"/>
                      <a:pt x="60" y="142"/>
                      <a:pt x="68" y="196"/>
                    </a:cubicBezTo>
                    <a:cubicBezTo>
                      <a:pt x="76" y="250"/>
                      <a:pt x="65" y="311"/>
                      <a:pt x="94" y="356"/>
                    </a:cubicBezTo>
                    <a:cubicBezTo>
                      <a:pt x="123" y="401"/>
                      <a:pt x="112" y="448"/>
                      <a:pt x="240" y="466"/>
                    </a:cubicBezTo>
                    <a:cubicBezTo>
                      <a:pt x="368" y="484"/>
                      <a:pt x="742" y="462"/>
                      <a:pt x="864" y="464"/>
                    </a:cubicBezTo>
                    <a:cubicBezTo>
                      <a:pt x="986" y="466"/>
                      <a:pt x="938" y="457"/>
                      <a:pt x="972" y="476"/>
                    </a:cubicBezTo>
                    <a:cubicBezTo>
                      <a:pt x="1006" y="495"/>
                      <a:pt x="1023" y="556"/>
                      <a:pt x="1066" y="578"/>
                    </a:cubicBezTo>
                    <a:cubicBezTo>
                      <a:pt x="1109" y="600"/>
                      <a:pt x="1074" y="601"/>
                      <a:pt x="1232" y="606"/>
                    </a:cubicBezTo>
                    <a:cubicBezTo>
                      <a:pt x="1390" y="611"/>
                      <a:pt x="1853" y="608"/>
                      <a:pt x="2016" y="6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700080" y="274320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267080" y="274320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181480" y="2743200"/>
                <a:ext cx="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423520" y="30081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718440" y="28558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0560" y="316044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699880" y="361764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I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2054160" y="2514600"/>
              <a:ext cx="14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ndustrial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22160" y="1371600"/>
              <a:ext cx="250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lectr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Uso de combustibles líqu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otores a combust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885840" y="213336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56240" y="2590560"/>
              <a:ext cx="227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ficiencia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umento de electr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867280" y="312408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1374840" y="6019920"/>
            <a:ext cx="65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largo plazo, la tecnología es la fuerza de cambio más impor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s supu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84360"/>
            <a:ext cx="8507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hay restricciones en la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ercados competitivos que eliminan renta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ercados competitivos que permiten la sustit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obtiene el óptimo social a través de los mercados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ercados competitivos generan eficiencia económica (los beneficios netos para la sociedad son un máx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de mi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s = f(P, Icost, T, G, M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 de los insumos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cnología de producción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bierno (+/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uestos o regu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uctura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y menos oferta, en mercados menos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juste de la 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tísimo plaz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tringida por la producción existente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anejo de inv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relevante: costos de inve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to plaz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tringida por capacidad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juste de tasa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relevante: costo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rgo plaz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tringida por los depósitos conocidos y la tecnología existente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arrollar depósitos conocidos, adoptar nueva tecnología 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relevante: costos to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largo plazo: “no hay restricciones”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scubrir y desarrollar nuevos depósitos, inno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s de 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523880" y="206064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23880" y="5184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3880" y="259380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1296"/>
                </a:moveTo>
                <a:cubicBezTo>
                  <a:pt x="108" y="1280"/>
                  <a:pt x="216" y="1264"/>
                  <a:pt x="336" y="1200"/>
                </a:cubicBezTo>
                <a:cubicBezTo>
                  <a:pt x="456" y="1136"/>
                  <a:pt x="632" y="1112"/>
                  <a:pt x="720" y="912"/>
                </a:cubicBezTo>
                <a:cubicBezTo>
                  <a:pt x="808" y="712"/>
                  <a:pt x="836" y="356"/>
                  <a:pt x="864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2441520"/>
            <a:ext cx="2438640" cy="144792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2289240"/>
            <a:ext cx="3762360" cy="1479600"/>
          </a:xfrm>
          <a:custGeom>
            <a:avLst/>
            <a:gdLst/>
            <a:ahLst/>
            <a:rect l="l" t="t" r="r" b="b"/>
            <a:pathLst>
              <a:path w="2370" h="932">
                <a:moveTo>
                  <a:pt x="0" y="912"/>
                </a:moveTo>
                <a:cubicBezTo>
                  <a:pt x="57" y="912"/>
                  <a:pt x="129" y="932"/>
                  <a:pt x="341" y="914"/>
                </a:cubicBezTo>
                <a:cubicBezTo>
                  <a:pt x="553" y="896"/>
                  <a:pt x="1026" y="840"/>
                  <a:pt x="1273" y="805"/>
                </a:cubicBezTo>
                <a:cubicBezTo>
                  <a:pt x="1520" y="770"/>
                  <a:pt x="1686" y="750"/>
                  <a:pt x="1822" y="704"/>
                </a:cubicBezTo>
                <a:cubicBezTo>
                  <a:pt x="1958" y="658"/>
                  <a:pt x="2025" y="586"/>
                  <a:pt x="2087" y="530"/>
                </a:cubicBezTo>
                <a:cubicBezTo>
                  <a:pt x="2149" y="474"/>
                  <a:pt x="2150" y="454"/>
                  <a:pt x="2197" y="366"/>
                </a:cubicBezTo>
                <a:cubicBezTo>
                  <a:pt x="2244" y="278"/>
                  <a:pt x="2334" y="76"/>
                  <a:pt x="2370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2362320"/>
            <a:ext cx="4938840" cy="1619280"/>
          </a:xfrm>
          <a:custGeom>
            <a:avLst/>
            <a:gdLst/>
            <a:ahLst/>
            <a:rect l="l" t="t" r="r" b="b"/>
            <a:pathLst>
              <a:path w="3111" h="1020">
                <a:moveTo>
                  <a:pt x="0" y="1010"/>
                </a:moveTo>
                <a:cubicBezTo>
                  <a:pt x="57" y="1010"/>
                  <a:pt x="133" y="1020"/>
                  <a:pt x="341" y="1012"/>
                </a:cubicBezTo>
                <a:cubicBezTo>
                  <a:pt x="549" y="1004"/>
                  <a:pt x="1001" y="979"/>
                  <a:pt x="1246" y="960"/>
                </a:cubicBezTo>
                <a:cubicBezTo>
                  <a:pt x="1491" y="941"/>
                  <a:pt x="1641" y="916"/>
                  <a:pt x="1813" y="896"/>
                </a:cubicBezTo>
                <a:cubicBezTo>
                  <a:pt x="1985" y="876"/>
                  <a:pt x="2139" y="865"/>
                  <a:pt x="2279" y="841"/>
                </a:cubicBezTo>
                <a:cubicBezTo>
                  <a:pt x="2419" y="817"/>
                  <a:pt x="2549" y="808"/>
                  <a:pt x="2654" y="749"/>
                </a:cubicBezTo>
                <a:cubicBezTo>
                  <a:pt x="2759" y="690"/>
                  <a:pt x="2834" y="609"/>
                  <a:pt x="2910" y="484"/>
                </a:cubicBezTo>
                <a:cubicBezTo>
                  <a:pt x="2986" y="359"/>
                  <a:pt x="3069" y="101"/>
                  <a:pt x="3111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971800" y="221256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962520" y="221256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221256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52640" y="2097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43960" y="514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53680" y="22496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48200" y="2289240"/>
            <a:ext cx="44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17280" y="21366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64960" y="2136600"/>
            <a:ext cx="47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urvas de ofe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VC (Costo medio variable) y capacidad de operacion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siones económicas de corto plaz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 &gt; AT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nta económica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C &lt; P &lt; ATC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ducir para minimizar pér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VC &gt; P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er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TC incluyendo las utilidades mínimas aceptables (costo de oportun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eraciones existentes, depósitos conocidos no desarrollados, expansiones, cierr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rva de oferta de cobre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304920" y="1752480"/>
          <a:ext cx="8001000" cy="44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001000" cy="44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65136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s de partida y de 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el precio baja (P1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2) algunos productores continuarán debido a costos de cier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l caso de que el precio suba, los costos de inicio, pueden impedir que un productor reinici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02000" y="3580920"/>
            <a:ext cx="5305320" cy="2807280"/>
            <a:chOff x="1602000" y="3580920"/>
            <a:chExt cx="5305320" cy="2807280"/>
          </a:xfrm>
        </p:grpSpPr>
        <p:sp>
          <p:nvSpPr>
            <p:cNvPr id="515" name=""/>
            <p:cNvSpPr/>
            <p:nvPr/>
          </p:nvSpPr>
          <p:spPr>
            <a:xfrm flipV="1">
              <a:off x="2448000" y="3580920"/>
              <a:ext cx="0" cy="23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48000" y="5979960"/>
              <a:ext cx="444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48000" y="5226120"/>
              <a:ext cx="412920" cy="753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860920" y="5089680"/>
              <a:ext cx="412560" cy="89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3480" y="5021280"/>
              <a:ext cx="414360" cy="9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87840" y="4951440"/>
              <a:ext cx="412920" cy="1028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60920" y="4746600"/>
              <a:ext cx="412920" cy="1233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73840" y="4540320"/>
              <a:ext cx="412560" cy="14396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486400" y="4267080"/>
              <a:ext cx="412920" cy="1712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99320" y="4060800"/>
              <a:ext cx="412560" cy="191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438640" y="4343400"/>
              <a:ext cx="3821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02000" y="361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$/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8920" y="6019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33880" y="4876920"/>
              <a:ext cx="503280" cy="1104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2433240" y="4724280"/>
              <a:ext cx="3821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62360" y="40989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78200" y="457200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24400" y="3581280"/>
              <a:ext cx="21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urva de oferta (AV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29000" y="4343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s de partida y de 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el precio está subiendo, la gente “espera” para ver si permanece en el tiempo antes de parti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otra parte,si el precio está bajando, se espera para ver que pasa, antes de cerra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Qué sucede en la Economía de Recursos Natur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 por los Derechos de 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n los recursos de Propiedad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 crean diferencias entre el costo privado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n restricciones a la oferta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antienen las rentas econó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ocupación por los resultados distribu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ocupación por intereses de las generaciones fu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conomía de los recursos naturales gira alrededor del concepto de la falla de merc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 de mercados competitivos: Monopolios, Cart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piedad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temas de distribución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lefonía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uberías para transporte de petróleo y gas (Caso Rockefe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eses de futuras generaciones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La falla de los mercados da lugar a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necesidad de la intervención d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ormulación de políticas 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Juicios acerca del presente v/s los intereses futu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social (Análisis Costo Benef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CF + Extern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centivos v/s dirección y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ates sobre equidad y efic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luciones de mercado a fallas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cuotas de carb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istinguir la economía normal, de la economía de recurs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eptos básicos de micro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 y 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t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ximización de uti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quilibrio en el corto y 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ntas económicas en min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ferta de Mi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anda de Mi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8-08T22:34:55Z</dcterms:modified>
  <cp:revision>131</cp:revision>
  <dc:subject/>
  <dc:title>ADVANCES IN GEOTECHNICAL DATA COLLECTION FOR LARGE UNDERGROUND MINES</dc:title>
</cp:coreProperties>
</file>