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E2EC-1F37-4668-A057-81021FFD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43C-01BA-45D8-9A3F-EB7F77E7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F2E-4CAB-494B-9215-2B11C033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0BB-3EF2-4A35-99B0-FC624F27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8653-FD12-4435-9857-11EB06AE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F303-22C5-405A-AB8D-2DD84D6D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7F6-BD9D-469C-97F5-5989CDA0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FCB2-14BC-455F-8DE2-334D0484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FFD-29B2-4F3C-A7B4-586F39C1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0AE-8BEB-4AF2-98D0-F33D62A2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A52E-EC71-4A90-AE53-19A189D8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7430-65A8-4559-88E3-CFD982C6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8A9C-1C0B-41F3-A174-06AB20D49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32720" y="6400800"/>
            <a:ext cx="285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 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778440" y="65070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area Dise</a:t>
            </a: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ño de Sub Level Cav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Diseño de Granulometría de Fragmentación Miner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50= 0.67 m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os/gruesos=0.8 para lograr el empaquetamiento requer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os en tamaño deben ser 0.3 veces el tamaño de los gru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los gruesos estan definidos por el d95 y se supone un d95=1.1m3. Los finos deben ser 0.33 m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57600" y="1981080"/>
            <a:ext cx="5486400" cy="3808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48520" y="3581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2286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54520" y="2205000"/>
            <a:ext cx="2449440" cy="2489400"/>
          </a:xfrm>
          <a:custGeom>
            <a:avLst/>
            <a:gdLst/>
            <a:ahLst/>
            <a:rect l="l" t="t" r="r" b="b"/>
            <a:pathLst>
              <a:path w="1543" h="1568">
                <a:moveTo>
                  <a:pt x="0" y="1568"/>
                </a:moveTo>
                <a:cubicBezTo>
                  <a:pt x="71" y="1563"/>
                  <a:pt x="170" y="1564"/>
                  <a:pt x="240" y="1529"/>
                </a:cubicBezTo>
                <a:cubicBezTo>
                  <a:pt x="250" y="1524"/>
                  <a:pt x="258" y="1514"/>
                  <a:pt x="269" y="1510"/>
                </a:cubicBezTo>
                <a:cubicBezTo>
                  <a:pt x="294" y="1501"/>
                  <a:pt x="346" y="1491"/>
                  <a:pt x="346" y="1491"/>
                </a:cubicBezTo>
                <a:cubicBezTo>
                  <a:pt x="383" y="1467"/>
                  <a:pt x="422" y="1465"/>
                  <a:pt x="461" y="1443"/>
                </a:cubicBezTo>
                <a:cubicBezTo>
                  <a:pt x="499" y="1422"/>
                  <a:pt x="538" y="1406"/>
                  <a:pt x="576" y="1385"/>
                </a:cubicBezTo>
                <a:cubicBezTo>
                  <a:pt x="676" y="1330"/>
                  <a:pt x="597" y="1360"/>
                  <a:pt x="663" y="1337"/>
                </a:cubicBezTo>
                <a:cubicBezTo>
                  <a:pt x="679" y="1321"/>
                  <a:pt x="695" y="1305"/>
                  <a:pt x="711" y="1289"/>
                </a:cubicBezTo>
                <a:cubicBezTo>
                  <a:pt x="720" y="1280"/>
                  <a:pt x="739" y="1261"/>
                  <a:pt x="739" y="1261"/>
                </a:cubicBezTo>
                <a:cubicBezTo>
                  <a:pt x="746" y="1242"/>
                  <a:pt x="752" y="1222"/>
                  <a:pt x="759" y="1203"/>
                </a:cubicBezTo>
                <a:cubicBezTo>
                  <a:pt x="766" y="1182"/>
                  <a:pt x="807" y="1155"/>
                  <a:pt x="807" y="1155"/>
                </a:cubicBezTo>
                <a:cubicBezTo>
                  <a:pt x="826" y="1094"/>
                  <a:pt x="896" y="1048"/>
                  <a:pt x="941" y="1001"/>
                </a:cubicBezTo>
                <a:cubicBezTo>
                  <a:pt x="966" y="974"/>
                  <a:pt x="962" y="944"/>
                  <a:pt x="979" y="915"/>
                </a:cubicBezTo>
                <a:cubicBezTo>
                  <a:pt x="990" y="897"/>
                  <a:pt x="1007" y="884"/>
                  <a:pt x="1018" y="867"/>
                </a:cubicBezTo>
                <a:cubicBezTo>
                  <a:pt x="1043" y="786"/>
                  <a:pt x="1007" y="885"/>
                  <a:pt x="1047" y="819"/>
                </a:cubicBezTo>
                <a:cubicBezTo>
                  <a:pt x="1079" y="766"/>
                  <a:pt x="1025" y="810"/>
                  <a:pt x="1085" y="771"/>
                </a:cubicBezTo>
                <a:cubicBezTo>
                  <a:pt x="1088" y="761"/>
                  <a:pt x="1090" y="751"/>
                  <a:pt x="1095" y="742"/>
                </a:cubicBezTo>
                <a:cubicBezTo>
                  <a:pt x="1106" y="722"/>
                  <a:pt x="1133" y="685"/>
                  <a:pt x="1133" y="685"/>
                </a:cubicBezTo>
                <a:cubicBezTo>
                  <a:pt x="1152" y="612"/>
                  <a:pt x="1176" y="592"/>
                  <a:pt x="1210" y="531"/>
                </a:cubicBezTo>
                <a:cubicBezTo>
                  <a:pt x="1228" y="498"/>
                  <a:pt x="1237" y="466"/>
                  <a:pt x="1258" y="435"/>
                </a:cubicBezTo>
                <a:cubicBezTo>
                  <a:pt x="1278" y="375"/>
                  <a:pt x="1289" y="306"/>
                  <a:pt x="1335" y="262"/>
                </a:cubicBezTo>
                <a:cubicBezTo>
                  <a:pt x="1343" y="227"/>
                  <a:pt x="1349" y="195"/>
                  <a:pt x="1373" y="166"/>
                </a:cubicBezTo>
                <a:cubicBezTo>
                  <a:pt x="1403" y="130"/>
                  <a:pt x="1446" y="112"/>
                  <a:pt x="1479" y="80"/>
                </a:cubicBezTo>
                <a:cubicBezTo>
                  <a:pt x="1501" y="9"/>
                  <a:pt x="1469" y="91"/>
                  <a:pt x="1517" y="32"/>
                </a:cubicBezTo>
                <a:cubicBezTo>
                  <a:pt x="1543" y="0"/>
                  <a:pt x="1512" y="3"/>
                  <a:pt x="1536" y="3"/>
                </a:cubicBezTo>
              </a:path>
            </a:pathLst>
          </a:custGeom>
          <a:noFill/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uesto Encontrar el Diagrama de Disparo para la Fragmentación de Mineral Espe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Teorí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oría de Kvapil muestra que existe una relación entre la altura del elipsoide y su ancho definida por las características del material fragmen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partir de estas observaciones se plantea la siguiente metodología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61722" t="18753" r="13282" b="52084"/>
          <a:stretch/>
        </p:blipFill>
        <p:spPr>
          <a:xfrm>
            <a:off x="5791320" y="1523880"/>
            <a:ext cx="3047760" cy="2667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16405" t="18753" r="60157" b="52084"/>
          <a:stretch/>
        </p:blipFill>
        <p:spPr>
          <a:xfrm>
            <a:off x="5791320" y="4114800"/>
            <a:ext cx="2590560" cy="241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14400" y="3581280"/>
                <a:ext cx="14479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≤</m:t>
                        </m:r>
                        <m:f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762120" y="4952880"/>
                <a:ext cx="284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43040" y="5257800"/>
                <a:ext cx="323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62120" y="5638680"/>
                <a:ext cx="182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62120" y="5867280"/>
                <a:ext cx="263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752400" y="6248520"/>
                <a:ext cx="2844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1134720" y="5029200"/>
            <a:ext cx="28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cho teórico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35080" y="5257800"/>
            <a:ext cx="26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cho total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59480" y="5562720"/>
            <a:ext cx="34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cho efectivo de apertura para lograr flujo li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36880" y="5943600"/>
            <a:ext cx="22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ltura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34000" y="6248520"/>
            <a:ext cx="270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ofundidad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zado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eriencias de trazadores de flujo han mostrado que la mayoría de los trazadores provienen de la parte central del elipsoide de extr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60940" t="46877" r="14844" b="8333"/>
          <a:stretch/>
        </p:blipFill>
        <p:spPr>
          <a:xfrm>
            <a:off x="6032520" y="609480"/>
            <a:ext cx="2690640" cy="3733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14844" t="61461" r="60157" b="10415"/>
          <a:stretch/>
        </p:blipFill>
        <p:spPr>
          <a:xfrm>
            <a:off x="6019920" y="4606920"/>
            <a:ext cx="26668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Predicción de Fragmentación de un Abanico de Perfor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s variables crí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ergía del Explo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empo de retardo para lograr interacción de o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Modelo Kuznetsov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819520" y="1752480"/>
                <a:ext cx="2933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/</m:t>
                    </m:r>
                    <m:r>
                      <m:t xml:space="preserve">Q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sup>
                    </m:sSup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62120" y="26668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207080" y="2703600"/>
            <a:ext cx="34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maño medio de partícula (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76160" y="3230640"/>
                <a:ext cx="3272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1209240" y="3048120"/>
            <a:ext cx="75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de roca =1, para roca blanda, 7 para roca mediana, 10 para ro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 con estructuras, 13 para roca dura sin estruct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70040" y="3780000"/>
                <a:ext cx="3268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222920" y="373392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lumen de roca por tiro (m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62120" y="4162320"/>
                <a:ext cx="3268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227960" y="4191120"/>
            <a:ext cx="76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ga en masa de explosivo equivalente a TNT en energía de deto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Rosin Rammler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276720" y="1600200"/>
                <a:ext cx="1758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c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76160" y="2697120"/>
                <a:ext cx="3272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210680" y="2703600"/>
            <a:ext cx="58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orción del material retenido en la malla de tamaño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85800" y="3048120"/>
                <a:ext cx="22003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3</m:t>
                            </m:r>
                          </m:e>
                        </m:d>
                      </m:e>
                      <m:sup>
                        <m:sSub>
                          <m:e/>
                          <m:sub>
                            <m:sSup>
                              <m:e/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55640" y="3780000"/>
                <a:ext cx="357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223280" y="373392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Índice de uniform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62120" y="4191120"/>
                <a:ext cx="57974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B</m:t>
                    </m:r>
                    <m:r>
                      <m:t xml:space="preserve">/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W</m:t>
                    </m:r>
                    <m:r>
                      <m:t xml:space="preserve">/</m:t>
                    </m:r>
                    <m:r>
                      <m:t xml:space="preserve">B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/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66880" y="469260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82680" y="472932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ámetro de la carga (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38080" y="5105520"/>
                <a:ext cx="3272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1281960" y="50734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urden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46000" y="5819760"/>
                <a:ext cx="3272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299600" y="575928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aciamiento/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30360" y="6202440"/>
                <a:ext cx="74268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378440" y="617220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zón entre largo de la carga sobre el alto d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838080" y="5410080"/>
                <a:ext cx="3859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302840" y="5349960"/>
            <a:ext cx="59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 estándar de la precisión de la perforación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Diseño de Malla de Tronadura de SL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be lograr que el tamaño medio de partícula del mineral sea 50% men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empaquetamiento estimado con partículas pequeñas como la mitad de las partículas grandes debe ser un 10% mayor del mineral fragmentado con respecto al material dil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Curva de Fragmentación Medida de Material Diluy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50=1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tícula pequeña 0.5m3, 20% en la mezc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tícula grande =1 m3, 50% en la mezc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mpaquetamiento esférico para una fracción de 20% de partículas gruesas y 20% de partículas f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426708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Empaquetamiento esferi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rar “x” que tiene una relación de 1 a 2 con respecto a las particulas pequeñas y grandes, los “o” son 0,3 y las “+” son 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racción será 20/50=40%, por lo tanto el empaquetamiento será de 0.5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empaquetamiento requerido para la fragmentación mineral será por lo tanto 0.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96216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8:53:43Z</dcterms:created>
  <dc:creator>Enrique Rubio</dc:creator>
  <dc:description/>
  <dc:language>en-US</dc:language>
  <cp:lastModifiedBy>Enrique Rubio</cp:lastModifiedBy>
  <dcterms:modified xsi:type="dcterms:W3CDTF">2007-10-06T15:25:20Z</dcterms:modified>
  <cp:revision>8</cp:revision>
  <dc:subject/>
  <dc:title>Tarea Diseño de Sub Level Caving</dc:title>
</cp:coreProperties>
</file>