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lase Auxiliar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58B – Diseño de Minas Subterrá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3047760"/>
            <a:ext cx="40388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Hn = 30*2/3m = 20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tilizando la relación de exc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Bn = 4.4m,  W´ = 8.8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juste por geometría de galer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WT=11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447920"/>
            <a:ext cx="2895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so Altura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forada 3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70520" y="1219320"/>
            <a:ext cx="5073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447920"/>
            <a:ext cx="426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lución Perforación 3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1520" y="3446640"/>
            <a:ext cx="50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1520" y="3446640"/>
            <a:ext cx="50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05160" y="4815000"/>
            <a:ext cx="50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05160" y="2438280"/>
            <a:ext cx="50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965160" y="5246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965160" y="286992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965160" y="2870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662280"/>
            <a:ext cx="68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685880" y="3877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25520" y="430992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757520" y="344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557520" y="344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46240" y="395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33520" y="351792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00480" y="4583160"/>
            <a:ext cx="1729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540480" y="2638440"/>
            <a:ext cx="792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829560" y="2638440"/>
            <a:ext cx="792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964120" y="2638440"/>
            <a:ext cx="792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53200" y="2638440"/>
            <a:ext cx="792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676840" y="2638440"/>
            <a:ext cx="792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8160" y="213372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=2.7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31720" y="523080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s / m =11*(30-4)*2.7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3657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80% de extracción la dilución máxima esperada es de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onelaje de un abanico 2650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recuperación será de 2.650*0.8*5 =10. 58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114300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lu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09880" y="1371600"/>
            <a:ext cx="5105160" cy="4648320"/>
            <a:chOff x="3809880" y="1371600"/>
            <a:chExt cx="5105160" cy="46483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3809880" y="1371600"/>
              <a:ext cx="510516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982760" y="2654280"/>
              <a:ext cx="2482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5680" y="2654280"/>
              <a:ext cx="0" cy="240516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82760" y="3776760"/>
              <a:ext cx="1724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05360" y="3810240"/>
              <a:ext cx="0" cy="1282680"/>
            </a:xfrm>
            <a:prstGeom prst="line">
              <a:avLst/>
            </a:prstGeom>
            <a:ln w="25560">
              <a:solidFill>
                <a:srgbClr val="0000ff"/>
              </a:solidFill>
              <a:prstDash val="sysDot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ipsoide de esponjamiento o movimiento es el elipsoide que marca el límite entre roca in situ y queb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elipsoide de extracción es aquel que representa la extracción de material en un tiempo deter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lación de alturas es de 1: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lación de volúmenes es de 1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37160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ámetros Geométricos de los Elipsoides de Mov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62520" y="2077920"/>
            <a:ext cx="5105160" cy="3408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639760" y="5622120"/>
            <a:ext cx="240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 cone representation (Kvapil 198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17880"/>
            <a:ext cx="34290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mayor movilidad de partículas menor es la excentricidad del elipso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xcentricidad del elipsoide varía entre 0.92 y 0.9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37080" y="1143000"/>
            <a:ext cx="437832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447920"/>
            <a:ext cx="3809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ormación del Elipso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03600" y="1066680"/>
          <a:ext cx="55404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0" y="1066680"/>
                    <a:ext cx="55404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533520" y="1905120"/>
            <a:ext cx="2514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133720"/>
            <a:ext cx="403848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quema típico Niveles operativos en una mina S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Kiruna, Suecia (Fe) : 60.000 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1371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stema M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143000"/>
            <a:ext cx="1676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4361" t="6788" r="0" b="0"/>
          <a:stretch/>
        </p:blipFill>
        <p:spPr>
          <a:xfrm>
            <a:off x="4397400" y="1219320"/>
            <a:ext cx="4502160" cy="5638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1951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acuerdo a las relaciones geométricas del elipsoide de extracción existe una relación entre el alto de extracción hn y el ancho 2b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relación se encuentra dada por la excentricidad del elipso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espaciamiento entre galerías de producción es el ancho de extracción (2b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332080"/>
            <a:ext cx="325116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realiza el diseño para una altura de extracción 2/3 de la altura perforada de modo de asegurar la interacción entre colum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altura de extracción se calcula entre pisos de niveles de producción contigu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390840" y="1752480"/>
            <a:ext cx="5600880" cy="4505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cho de Elipsoide de Extracción y Diseño M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3733920" y="1295280"/>
            <a:ext cx="5105160" cy="4648320"/>
            <a:chOff x="3733920" y="1295280"/>
            <a:chExt cx="5105160" cy="4648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3733920" y="1295280"/>
              <a:ext cx="510516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906800" y="2577960"/>
              <a:ext cx="2482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89720" y="2577960"/>
              <a:ext cx="0" cy="240516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06800" y="3700440"/>
              <a:ext cx="1724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29400" y="3733920"/>
              <a:ext cx="0" cy="1282680"/>
            </a:xfrm>
            <a:prstGeom prst="line">
              <a:avLst/>
            </a:prstGeom>
            <a:ln w="25560">
              <a:solidFill>
                <a:srgbClr val="0000ff"/>
              </a:solidFill>
              <a:prstDash val="sysDot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447920"/>
            <a:ext cx="3352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3733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ara 80% de extracción de mineral hay a lo más un 43% de dilución y el mínimo es 1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ara 60% de extracción de mineral existe a lo más 30% de dilución y un mínimo de 1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2590920"/>
            <a:ext cx="0" cy="24048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3746520"/>
            <a:ext cx="0" cy="128268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37160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S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ncho galería de producción: 5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lto galería de producción: 4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nsidad material tronado: alta (3.7), excentricidad baja (0.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echo galería de producción: pl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y del mineral: 5 g/ton 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eometría convencional, asegurando 80% de recuperación del mi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imular las alturas de material tronado, ht=30m y ht=40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time el diseño y la proporción m preparados por tonelaje extraído (utilice el área de un romb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2666880"/>
            <a:ext cx="2667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tura de extracción se estima en 2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 = 80%*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 = 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6324480" cy="4453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144792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juste por Geometría de Galería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124080"/>
            <a:ext cx="4495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2743200"/>
            <a:ext cx="44956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53280" y="2743200"/>
            <a:ext cx="0" cy="2514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WinuE</cp:lastModifiedBy>
  <dcterms:modified xsi:type="dcterms:W3CDTF">2007-11-15T02:02:08Z</dcterms:modified>
  <cp:revision>93</cp:revision>
  <dc:subject/>
  <dc:title>Diseño de Minas Subterráneas</dc:title>
</cp:coreProperties>
</file>