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76A-7D91-4F20-8C4D-6450342A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710-E7C6-40CA-9DB0-584DEDE5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34C-D0F2-4A46-8ED0-7EACC499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8AA-5D65-4FC1-8F5D-0D4EA32D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21C-5791-41D7-A865-97A3474C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2D0-1BD3-43F8-8B25-4A36D7B3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523-54D1-4B60-92CD-A055F8A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25E-1D25-4E33-9501-1C830C7B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B93-FC72-4B54-BA87-12754013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E34-1A55-41CC-9B27-85C5A00B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C92-5D07-485A-A1FC-5C43EB30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49E-0113-4542-B499-FC82AB2C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CD7-CA97-4F3D-90A0-5CDD37F21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rea Dise</a:t>
            </a: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ño de Sub Level Cav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Granulometría de Fragmentación Miner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50= 0.67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/gruesos=0.8 para lograr el empaquetamient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 en tamaño deben ser 0.3 veces el tamaño de los gr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os gruesos estan definidos por el d95 y se supone un d95=1.1m3. Los finos deben ser 0.33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4520" y="2205000"/>
            <a:ext cx="2449440" cy="2489400"/>
          </a:xfrm>
          <a:custGeom>
            <a:avLst/>
            <a:gdLst/>
            <a:ahLst/>
            <a:rect l="l" t="t" r="r" b="b"/>
            <a:pathLst>
              <a:path w="1543" h="1568">
                <a:moveTo>
                  <a:pt x="0" y="1568"/>
                </a:moveTo>
                <a:cubicBezTo>
                  <a:pt x="71" y="1563"/>
                  <a:pt x="170" y="1564"/>
                  <a:pt x="240" y="1529"/>
                </a:cubicBezTo>
                <a:cubicBezTo>
                  <a:pt x="250" y="1524"/>
                  <a:pt x="258" y="1514"/>
                  <a:pt x="269" y="1510"/>
                </a:cubicBezTo>
                <a:cubicBezTo>
                  <a:pt x="294" y="1501"/>
                  <a:pt x="346" y="1491"/>
                  <a:pt x="346" y="1491"/>
                </a:cubicBezTo>
                <a:cubicBezTo>
                  <a:pt x="383" y="1467"/>
                  <a:pt x="422" y="1465"/>
                  <a:pt x="461" y="1443"/>
                </a:cubicBezTo>
                <a:cubicBezTo>
                  <a:pt x="499" y="1422"/>
                  <a:pt x="538" y="1406"/>
                  <a:pt x="576" y="1385"/>
                </a:cubicBezTo>
                <a:cubicBezTo>
                  <a:pt x="676" y="1330"/>
                  <a:pt x="597" y="1360"/>
                  <a:pt x="663" y="1337"/>
                </a:cubicBezTo>
                <a:cubicBezTo>
                  <a:pt x="679" y="1321"/>
                  <a:pt x="695" y="1305"/>
                  <a:pt x="711" y="1289"/>
                </a:cubicBezTo>
                <a:cubicBezTo>
                  <a:pt x="720" y="1280"/>
                  <a:pt x="739" y="1261"/>
                  <a:pt x="739" y="1261"/>
                </a:cubicBezTo>
                <a:cubicBezTo>
                  <a:pt x="746" y="1242"/>
                  <a:pt x="752" y="1222"/>
                  <a:pt x="759" y="1203"/>
                </a:cubicBezTo>
                <a:cubicBezTo>
                  <a:pt x="766" y="1182"/>
                  <a:pt x="807" y="1155"/>
                  <a:pt x="807" y="1155"/>
                </a:cubicBezTo>
                <a:cubicBezTo>
                  <a:pt x="826" y="1094"/>
                  <a:pt x="896" y="1048"/>
                  <a:pt x="941" y="1001"/>
                </a:cubicBezTo>
                <a:cubicBezTo>
                  <a:pt x="966" y="974"/>
                  <a:pt x="962" y="944"/>
                  <a:pt x="979" y="915"/>
                </a:cubicBezTo>
                <a:cubicBezTo>
                  <a:pt x="990" y="897"/>
                  <a:pt x="1007" y="884"/>
                  <a:pt x="1018" y="867"/>
                </a:cubicBezTo>
                <a:cubicBezTo>
                  <a:pt x="1043" y="786"/>
                  <a:pt x="1007" y="885"/>
                  <a:pt x="1047" y="819"/>
                </a:cubicBezTo>
                <a:cubicBezTo>
                  <a:pt x="1079" y="766"/>
                  <a:pt x="1025" y="810"/>
                  <a:pt x="1085" y="771"/>
                </a:cubicBezTo>
                <a:cubicBezTo>
                  <a:pt x="1088" y="761"/>
                  <a:pt x="1090" y="751"/>
                  <a:pt x="1095" y="742"/>
                </a:cubicBezTo>
                <a:cubicBezTo>
                  <a:pt x="1106" y="722"/>
                  <a:pt x="1133" y="685"/>
                  <a:pt x="1133" y="685"/>
                </a:cubicBezTo>
                <a:cubicBezTo>
                  <a:pt x="1152" y="612"/>
                  <a:pt x="1176" y="592"/>
                  <a:pt x="1210" y="531"/>
                </a:cubicBezTo>
                <a:cubicBezTo>
                  <a:pt x="1228" y="498"/>
                  <a:pt x="1237" y="466"/>
                  <a:pt x="1258" y="435"/>
                </a:cubicBezTo>
                <a:cubicBezTo>
                  <a:pt x="1278" y="375"/>
                  <a:pt x="1289" y="306"/>
                  <a:pt x="1335" y="262"/>
                </a:cubicBezTo>
                <a:cubicBezTo>
                  <a:pt x="1343" y="227"/>
                  <a:pt x="1349" y="195"/>
                  <a:pt x="1373" y="166"/>
                </a:cubicBezTo>
                <a:cubicBezTo>
                  <a:pt x="1403" y="130"/>
                  <a:pt x="1446" y="112"/>
                  <a:pt x="1479" y="80"/>
                </a:cubicBezTo>
                <a:cubicBezTo>
                  <a:pt x="1501" y="9"/>
                  <a:pt x="1469" y="91"/>
                  <a:pt x="1517" y="32"/>
                </a:cubicBezTo>
                <a:cubicBezTo>
                  <a:pt x="1543" y="0"/>
                  <a:pt x="1512" y="3"/>
                  <a:pt x="1536" y="3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uesto Encontrar el Diagrama de Disparo para la Fragmentación de Mineral Es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oría de Kvapil muestra que existe una relación entre la altura del elipsoide y su ancho definida por las características del material fragme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estas observaciones se plantea la siguiente metodologí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722" t="18753" r="13282" b="52084"/>
          <a:stretch/>
        </p:blipFill>
        <p:spPr>
          <a:xfrm>
            <a:off x="5791320" y="15238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6405" t="18753" r="60157" b="52084"/>
          <a:stretch/>
        </p:blipFill>
        <p:spPr>
          <a:xfrm>
            <a:off x="5791320" y="4114800"/>
            <a:ext cx="259056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3581280"/>
                <a:ext cx="14479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4952880"/>
                <a:ext cx="28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040" y="5257800"/>
                <a:ext cx="32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5638680"/>
                <a:ext cx="182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586728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52400" y="6248520"/>
                <a:ext cx="2844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34720" y="50292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eórico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5080" y="525780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otal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9480" y="5562720"/>
            <a:ext cx="34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efectivo de apertura para lograr flujo li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594360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tura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000" y="624852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fundidad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zad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encias de trazadores de flujo han mostrado que la mayoría de los trazadores provienen de la parte central del elipsoide de ex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0940" t="46877" r="14844" b="8333"/>
          <a:stretch/>
        </p:blipFill>
        <p:spPr>
          <a:xfrm>
            <a:off x="6032520" y="609480"/>
            <a:ext cx="269064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4844" t="61461" r="60157" b="10415"/>
          <a:stretch/>
        </p:blipFill>
        <p:spPr>
          <a:xfrm>
            <a:off x="6019920" y="460692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Predicción de Fragmentación de un Abanico de Perfo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variables 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ergía del Explo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retardo para lograr interacción de o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Modelo Kuznetsov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1752480"/>
                <a:ext cx="293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/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2120" y="2666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207080" y="2703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maño medio de partícula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76160" y="323064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09240" y="3048120"/>
            <a:ext cx="75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roca =1, para roca blanda, 7 para roca mediana, 10 para r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 con estructuras, 13 para roca dura sin estru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0040" y="3780000"/>
                <a:ext cx="32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22920" y="37339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 roca por tiro (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4162320"/>
                <a:ext cx="3268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27960" y="419112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n masa de explosivo equivalente a TNT en energía de det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Rosin Ramml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1600200"/>
                <a:ext cx="1758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76160" y="2697120"/>
                <a:ext cx="327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10680" y="270360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orción del material retenido en la malla de tamañ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048120"/>
                <a:ext cx="2200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3</m:t>
                            </m:r>
                          </m:e>
                        </m:d>
                      </m:e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55640" y="378000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223280" y="37339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4191120"/>
                <a:ext cx="579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B</m:t>
                    </m:r>
                    <m:r>
                      <m:t xml:space="preserve">/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/</m:t>
                    </m:r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66880" y="4692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82680" y="47293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ámetro de la carga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10552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81960" y="5073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rde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46000" y="5819760"/>
                <a:ext cx="327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99600" y="5759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amiento/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360" y="6202440"/>
                <a:ext cx="7426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378440" y="617220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ón entre largo de la carga sobre el alto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38080" y="5410080"/>
                <a:ext cx="38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02840" y="53499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 estándar de la precisión de la perforació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Malla de Tronadura de SL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lograr que el tamaño medio de partícula del mineral sea 50% me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empaquetamiento estimado con partículas pequeñas como la mitad de las partículas grandes debe ser un 10% mayor del mineral fragmentado con respecto al material di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urva de Fragmentación Medida de Material Diluy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50=1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pequeña 0.5m3, 20% en la mezc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grande =1 m3, 50% en la mez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paquetamiento esférico para una fracción de 20% de partículas gruesas y 20% de partículas f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mpaquetamiento esfer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rar “x” que tiene una relación de 1 a 2 con respecto a las particulas pequeñas y grandes, los “o” son 0,3 y las “+” son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acción será 20/50=40%, por lo tanto el empaquetamiento será de 0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mpaquetamiento requerido para la fragmentación mineral será por lo tanto 0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62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3:43Z</dcterms:created>
  <dc:creator>Enrique Rubio</dc:creator>
  <dc:description/>
  <dc:language>en-US</dc:language>
  <cp:lastModifiedBy>Enrique Rubio</cp:lastModifiedBy>
  <dcterms:modified xsi:type="dcterms:W3CDTF">2007-10-06T15:25:20Z</dcterms:modified>
  <cp:revision>8</cp:revision>
  <dc:subject/>
  <dc:title>Tarea Diseño de Sub Level Caving</dc:title>
</cp:coreProperties>
</file>