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5A2-0527-457F-858A-0A35D6A7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0AC-3DAA-4728-B5FB-42CA771C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657-ACB2-463B-8E89-06724C25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63D-1561-4BCA-A6F9-BAD5A9B0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418-2474-4252-8B51-33AFA61C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108-B014-471C-921D-420D493B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0DB-F0DB-422A-AC28-638B9EF1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AF3-EE79-4F3D-A6A5-A4130F6D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B9D-E218-483F-B837-7D6421BF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CB7-738D-452F-8F63-D359958D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C1A-263D-454A-A108-68B18231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78A-04E7-471A-AC72-5CA4CE63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C22D-60C8-4205-B576-A36753467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area Dise</a:t>
            </a: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ño de Sub Level Cav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Granulometría de Fragmentación Miner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50= 0.67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/gruesos=0.8 para lograr el empaquetamiento requ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 en tamaño deben ser 0.3 veces el tamaño de los gru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os gruesos estan definidos por el d95 y se supone un d95=1.1m3. Los finos deben ser 0.33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486400" cy="380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852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54520" y="2205000"/>
            <a:ext cx="2449440" cy="2489400"/>
          </a:xfrm>
          <a:custGeom>
            <a:avLst/>
            <a:gdLst/>
            <a:ahLst/>
            <a:rect l="l" t="t" r="r" b="b"/>
            <a:pathLst>
              <a:path w="1543" h="1568">
                <a:moveTo>
                  <a:pt x="0" y="1568"/>
                </a:moveTo>
                <a:cubicBezTo>
                  <a:pt x="71" y="1563"/>
                  <a:pt x="170" y="1564"/>
                  <a:pt x="240" y="1529"/>
                </a:cubicBezTo>
                <a:cubicBezTo>
                  <a:pt x="250" y="1524"/>
                  <a:pt x="258" y="1514"/>
                  <a:pt x="269" y="1510"/>
                </a:cubicBezTo>
                <a:cubicBezTo>
                  <a:pt x="294" y="1501"/>
                  <a:pt x="346" y="1491"/>
                  <a:pt x="346" y="1491"/>
                </a:cubicBezTo>
                <a:cubicBezTo>
                  <a:pt x="383" y="1467"/>
                  <a:pt x="422" y="1465"/>
                  <a:pt x="461" y="1443"/>
                </a:cubicBezTo>
                <a:cubicBezTo>
                  <a:pt x="499" y="1422"/>
                  <a:pt x="538" y="1406"/>
                  <a:pt x="576" y="1385"/>
                </a:cubicBezTo>
                <a:cubicBezTo>
                  <a:pt x="676" y="1330"/>
                  <a:pt x="597" y="1360"/>
                  <a:pt x="663" y="1337"/>
                </a:cubicBezTo>
                <a:cubicBezTo>
                  <a:pt x="679" y="1321"/>
                  <a:pt x="695" y="1305"/>
                  <a:pt x="711" y="1289"/>
                </a:cubicBezTo>
                <a:cubicBezTo>
                  <a:pt x="720" y="1280"/>
                  <a:pt x="739" y="1261"/>
                  <a:pt x="739" y="1261"/>
                </a:cubicBezTo>
                <a:cubicBezTo>
                  <a:pt x="746" y="1242"/>
                  <a:pt x="752" y="1222"/>
                  <a:pt x="759" y="1203"/>
                </a:cubicBezTo>
                <a:cubicBezTo>
                  <a:pt x="766" y="1182"/>
                  <a:pt x="807" y="1155"/>
                  <a:pt x="807" y="1155"/>
                </a:cubicBezTo>
                <a:cubicBezTo>
                  <a:pt x="826" y="1094"/>
                  <a:pt x="896" y="1048"/>
                  <a:pt x="941" y="1001"/>
                </a:cubicBezTo>
                <a:cubicBezTo>
                  <a:pt x="966" y="974"/>
                  <a:pt x="962" y="944"/>
                  <a:pt x="979" y="915"/>
                </a:cubicBezTo>
                <a:cubicBezTo>
                  <a:pt x="990" y="897"/>
                  <a:pt x="1007" y="884"/>
                  <a:pt x="1018" y="867"/>
                </a:cubicBezTo>
                <a:cubicBezTo>
                  <a:pt x="1043" y="786"/>
                  <a:pt x="1007" y="885"/>
                  <a:pt x="1047" y="819"/>
                </a:cubicBezTo>
                <a:cubicBezTo>
                  <a:pt x="1079" y="766"/>
                  <a:pt x="1025" y="810"/>
                  <a:pt x="1085" y="771"/>
                </a:cubicBezTo>
                <a:cubicBezTo>
                  <a:pt x="1088" y="761"/>
                  <a:pt x="1090" y="751"/>
                  <a:pt x="1095" y="742"/>
                </a:cubicBezTo>
                <a:cubicBezTo>
                  <a:pt x="1106" y="722"/>
                  <a:pt x="1133" y="685"/>
                  <a:pt x="1133" y="685"/>
                </a:cubicBezTo>
                <a:cubicBezTo>
                  <a:pt x="1152" y="612"/>
                  <a:pt x="1176" y="592"/>
                  <a:pt x="1210" y="531"/>
                </a:cubicBezTo>
                <a:cubicBezTo>
                  <a:pt x="1228" y="498"/>
                  <a:pt x="1237" y="466"/>
                  <a:pt x="1258" y="435"/>
                </a:cubicBezTo>
                <a:cubicBezTo>
                  <a:pt x="1278" y="375"/>
                  <a:pt x="1289" y="306"/>
                  <a:pt x="1335" y="262"/>
                </a:cubicBezTo>
                <a:cubicBezTo>
                  <a:pt x="1343" y="227"/>
                  <a:pt x="1349" y="195"/>
                  <a:pt x="1373" y="166"/>
                </a:cubicBezTo>
                <a:cubicBezTo>
                  <a:pt x="1403" y="130"/>
                  <a:pt x="1446" y="112"/>
                  <a:pt x="1479" y="80"/>
                </a:cubicBezTo>
                <a:cubicBezTo>
                  <a:pt x="1501" y="9"/>
                  <a:pt x="1469" y="91"/>
                  <a:pt x="1517" y="32"/>
                </a:cubicBezTo>
                <a:cubicBezTo>
                  <a:pt x="1543" y="0"/>
                  <a:pt x="1512" y="3"/>
                  <a:pt x="1536" y="3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uesto Encontrar el Diagrama de Disparo para la Fragmentación de Mineral Esp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oría de Kvapil muestra que existe una relación entre la altura del elipsoide y su ancho definida por las características del material fragmen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estas observaciones se plantea la siguiente metodología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722" t="18753" r="13282" b="52084"/>
          <a:stretch/>
        </p:blipFill>
        <p:spPr>
          <a:xfrm>
            <a:off x="5791320" y="1523880"/>
            <a:ext cx="304776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6405" t="18753" r="60157" b="52084"/>
          <a:stretch/>
        </p:blipFill>
        <p:spPr>
          <a:xfrm>
            <a:off x="5791320" y="4114800"/>
            <a:ext cx="2590560" cy="24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14400" y="3581280"/>
                <a:ext cx="14479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62120" y="4952880"/>
                <a:ext cx="284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43040" y="5257800"/>
                <a:ext cx="323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2120" y="5638680"/>
                <a:ext cx="182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62120" y="5867280"/>
                <a:ext cx="26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52400" y="6248520"/>
                <a:ext cx="2844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34720" y="502920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eórico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35080" y="525780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otal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59480" y="5562720"/>
            <a:ext cx="34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efectivo de apertura para lograr flujo li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36880" y="594360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tura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34000" y="6248520"/>
            <a:ext cx="27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fundidad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zad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eriencias de trazadores de flujo han mostrado que la mayoría de los trazadores provienen de la parte central del elipsoide de ex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60940" t="46877" r="14844" b="8333"/>
          <a:stretch/>
        </p:blipFill>
        <p:spPr>
          <a:xfrm>
            <a:off x="6032520" y="609480"/>
            <a:ext cx="2690640" cy="3733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14844" t="61461" r="60157" b="10415"/>
          <a:stretch/>
        </p:blipFill>
        <p:spPr>
          <a:xfrm>
            <a:off x="6019920" y="4606920"/>
            <a:ext cx="26668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Predicción de Fragmentación de un Abanico de Perfor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variables 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ergía del Explo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de retardo para lograr interacción de o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Modelo Kuznetsov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19520" y="1752480"/>
                <a:ext cx="2933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/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2120" y="26668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207080" y="270360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maño medio de partícula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76160" y="323064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09240" y="3048120"/>
            <a:ext cx="75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roca =1, para roca blanda, 7 para roca mediana, 10 para r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 con estructuras, 13 para roca dura sin estru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70040" y="3780000"/>
                <a:ext cx="326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222920" y="373392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 roca por tiro (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4162320"/>
                <a:ext cx="3268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27960" y="419112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n masa de explosivo equivalente a TNT en energía de deto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Rosin Rammle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76720" y="1600200"/>
                <a:ext cx="1758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c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76160" y="2697120"/>
                <a:ext cx="327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10680" y="270360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orción del material retenido en la malla de tamañ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5800" y="3048120"/>
                <a:ext cx="2200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3</m:t>
                            </m:r>
                          </m:e>
                        </m:d>
                      </m:e>
                      <m:sup>
                        <m:sSub>
                          <m:e/>
                          <m:sub>
                            <m:sSup>
                              <m:e/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55640" y="378000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223280" y="37339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Índice de uni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2120" y="4191120"/>
                <a:ext cx="5797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B</m:t>
                    </m:r>
                    <m:r>
                      <m:t xml:space="preserve">/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/</m:t>
                    </m:r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/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66880" y="4692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82680" y="47293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ámetro de la carga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510552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281960" y="5073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urde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46000" y="5819760"/>
                <a:ext cx="327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299600" y="57592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amiento/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0360" y="6202440"/>
                <a:ext cx="7426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378440" y="617220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zón entre largo de la carga sobre el alto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38080" y="5410080"/>
                <a:ext cx="385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302840" y="5349960"/>
            <a:ext cx="59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 estándar de la precisión de la perforació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Malla de Tronadura de SL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lograr que el tamaño medio de partícula del mineral sea 50% men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empaquetamiento estimado con partículas pequeñas como la mitad de las partículas grandes debe ser un 10% mayor del mineral fragmentado con respecto al material di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Curva de Fragmentación Medida de Material Diluy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50=1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pequeña 0.5m3, 20% en la mezc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grande =1 m3, 50% en la mezc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mpaquetamiento esférico para una fracción de 20% de partículas gruesas y 20% de partículas f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42670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Empaquetamiento esfer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rar “x” que tiene una relación de 1 a 2 con respecto a las particulas pequeñas y grandes, los “o” son 0,3 y las “+” son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acción será 20/50=40%, por lo tanto el empaquetamiento será de 0.5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mpaquetamiento requerido para la fragmentación mineral será por lo tanto 0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96216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8:53:43Z</dcterms:created>
  <dc:creator>Enrique Rubio</dc:creator>
  <dc:description/>
  <dc:language>en-US</dc:language>
  <cp:lastModifiedBy>Enrique Rubio</cp:lastModifiedBy>
  <dcterms:modified xsi:type="dcterms:W3CDTF">2007-10-06T15:25:20Z</dcterms:modified>
  <cp:revision>8</cp:revision>
  <dc:subject/>
  <dc:title>Tarea Diseño de Sub Level Caving</dc:title>
</cp:coreProperties>
</file>