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E8990B4-DF52-4D33-A5E5-0A9C7414B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061A514-E05C-4E07-A5A1-8E16D218D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14:02Z</dcterms:modified>
  <cp:revision>75</cp:revision>
  <dc:subject/>
  <dc:title>Diseño de Minas Subterráneas</dc:title>
</cp:coreProperties>
</file>