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06600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Semestre Primavera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324480" y="601992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Profesor: 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Prof. Auxs:  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Camilo Morales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808080"/>
                </a:solidFill>
                <a:latin typeface="Arial"/>
              </a:rPr>
              <a:t>Víctor Rivero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sentación e Inform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echa de Entre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rega de Informe y present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ueves 27 de Septiem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forme debe ser lo mas breve posible, mostrando los aspectos esenciales del trabajo realizado en el proyecto. Los contenidos mínimos que debe tener so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Introducción y Objetivos del trabajo de diseñ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ntecedentes Genera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eología, Geotecnia, Análisis exploratorio modelo de bloques (estadísticas básicas), curvas tonelaje ley (MTon de recursos de mx vs ley de corte vs ley m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Metodología Emplead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lección métodos de explotación (justificación); Supuestos económicos, calculo de leyes de corte para cada método de explotación escogido, objetivos del diseño (Recuperación, minimizar dilución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Desarrollo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imensionamiento y diseño de las UBE (mostrar esencialmente tablas resumen con dimensiones, no mostrar memoria de cálc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Planificación Producción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ubicación de reservas (Envolvente económica), reservas por UBE, ritmo de producción, plan minero, plan de desarrollos y prepa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Dimensionamiento de equip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perfo, tronadura, carguío y trans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Evaluación económic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an, 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Discusiones, conclusiones y recomendaciones.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o mejorar el diseño? Que aspectos deben ser revisados con detención? La metodologías de dimensionamiento son las adecuad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nexo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rincipalmente, despliegue de plantas y perfiles representativas de la solución propue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Listado de Conten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ntecedentes Gener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otec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ursos (Curvas Tonelaje - Ley Block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 a resolver, resultados esper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Metodología desarrolla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uestos ( ej: económicos) + simplificaciones del diseñ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Tablas Resumen: resultados signific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mensiones unidades básicas de expl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Ton de Reservas explotables, leyes me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uperación, Dilu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tros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Despliegue de plantas, secciones transversales y longitudin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o posible, mostrar sectores de relevancia: niveles productivos, acces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ficar dimensiones de las excavaciones, así como también distancias de refer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Desplegar una vista isométrica representa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nclus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s futuros a re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finar supuestos re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rtidum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victor rivero</cp:lastModifiedBy>
  <dcterms:modified xsi:type="dcterms:W3CDTF">2007-08-30T04:49:14Z</dcterms:modified>
  <cp:revision>80</cp:revision>
  <dc:subject/>
  <dc:title>Diseño de Minas Subterráneas</dc:title>
</cp:coreProperties>
</file>