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64771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 58B: Dise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ágina </a:t>
            </a:r>
            <a:fld id="{11C83C40-396C-4E11-A0BF-12633CF6E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64771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 58B: Dise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ágina </a:t>
            </a:r>
            <a:fld id="{32D6E02F-0EAB-4660-A3EE-DE38D2E0B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432720" y="6400800"/>
            <a:ext cx="285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I 58B: Dise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6778440" y="65070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4"/>
          <p:cNvGrpSpPr/>
          <p:nvPr/>
        </p:nvGrpSpPr>
        <p:grpSpPr>
          <a:xfrm>
            <a:off x="0" y="0"/>
            <a:ext cx="9144000" cy="6915240"/>
            <a:chOff x="0" y="0"/>
            <a:chExt cx="9144000" cy="6915240"/>
          </a:xfrm>
        </p:grpSpPr>
        <p:pic>
          <p:nvPicPr>
            <p:cNvPr id="48" name="Picture 5" descr="fondo"/>
            <p:cNvPicPr/>
            <p:nvPr/>
          </p:nvPicPr>
          <p:blipFill>
            <a:blip r:embed="rId1">
              <a:lum bright="-40000"/>
            </a:blip>
            <a:srcRect l="0" t="0" r="0" b="50004"/>
            <a:stretch/>
          </p:blipFill>
          <p:spPr>
            <a:xfrm>
              <a:off x="0" y="0"/>
              <a:ext cx="9144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" descr="P1_P2 drilling"/>
            <p:cNvPicPr/>
            <p:nvPr/>
          </p:nvPicPr>
          <p:blipFill>
            <a:blip r:embed="rId2"/>
            <a:stretch/>
          </p:blipFill>
          <p:spPr>
            <a:xfrm>
              <a:off x="0" y="3429000"/>
              <a:ext cx="44956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7" descr="DSC00406"/>
            <p:cNvPicPr/>
            <p:nvPr/>
          </p:nvPicPr>
          <p:blipFill>
            <a:blip r:embed="rId3"/>
            <a:stretch/>
          </p:blipFill>
          <p:spPr>
            <a:xfrm>
              <a:off x="4495680" y="3429000"/>
              <a:ext cx="4648320" cy="348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Rectangle 8"/>
          <p:cNvSpPr/>
          <p:nvPr/>
        </p:nvSpPr>
        <p:spPr>
          <a:xfrm>
            <a:off x="380880" y="1371600"/>
            <a:ext cx="84582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MI 58B - Diseño de Minas Subterrán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Indicaciones Proyec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Diseño N</a:t>
            </a:r>
            <a:r>
              <a:rPr b="1" lang="es-CL" sz="4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mestre Primavera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743200" y="4343400"/>
            <a:ext cx="6400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fesor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Enrique Rubio 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fs. Auxiliar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Víctor Rivero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milo Morales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logo"/>
          <p:cNvPicPr/>
          <p:nvPr/>
        </p:nvPicPr>
        <p:blipFill>
          <a:blip r:embed="rId4"/>
          <a:stretch/>
        </p:blipFill>
        <p:spPr>
          <a:xfrm>
            <a:off x="0" y="5676840"/>
            <a:ext cx="1219320" cy="1181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5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280" y="12952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7. Programa de 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terminar las restricciones operacionales de producción (caserón como UBE), a través de simulaciones de carguío y transpo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mensionamien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lota de Equi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alizar el programa de preparación minera y el programa de producción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etros de desarrollo y/o preparación por unidad de tiempo (mes, 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alizar una evaluación económica del diseño propuesto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Indicadores: VAN, 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esta presentación se exponen los principales puntos que se deben considerar para el desarrollo del primer proyecto de diseño a realizar durante el presente sem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servación preliminar e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pografía del sector donde se encuentra emplazado el yacimiento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undidad media depósi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álisis de infraestructura pre-existente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sible existencia de actividad minera artesanal. Posibilidad de utilización de esta infraestructura? (Ventilación, 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1920" y="137160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 Análisis de plantas, y secciones tanto transversales como longitudinales con el objetivo de estudi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delo geotéc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tribución de l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MR, Q de Barton, RQD y estructu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ometría de los cuer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ología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it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ns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 Análisis de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zonas explot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Elección del método de explotación dependerá principalmente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fundidad del emplazamiento de el(los) cuerpo(s), para determinar E/M y sobrecarga exist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ometría, leyes y geomecán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. Diseño de unidades básicas de explotación (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B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mensionamiento de las excav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mensionamiento de pi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 de dilución y % de recupe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fraestructura y preparación miner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la U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lerías de perfo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lerías de z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spasos de mineral y selección del método para ello (por ejemplo: buzó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sarrollos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cesos y conexion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ntre U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levar la parte anterior (infraestructura y preparación minera de la UBE) al computador (software Datamin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ectar las distintas U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partir de lo anterior, determina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tros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arroll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Inve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tros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eparación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o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oneladas recuperabl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ediante el método de explotación previamente seleccionado. (Reservas Extraíbl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5:41:55Z</dcterms:created>
  <dc:creator>Enrique Rubio</dc:creator>
  <dc:description/>
  <dc:language>en-US</dc:language>
  <cp:lastModifiedBy>victor rivero</cp:lastModifiedBy>
  <dcterms:modified xsi:type="dcterms:W3CDTF">2007-08-22T01:51:23Z</dcterms:modified>
  <cp:revision>50</cp:revision>
  <dc:subject/>
  <dc:title>Diseño de Minas Subterráneas</dc:title>
</cp:coreProperties>
</file>