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EAA10968-A0A6-4C59-89D7-C3E55570D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6477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1F601C36-6B4E-463B-924B-EB90F672E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0" y="0"/>
            <a:ext cx="9144000" cy="6915240"/>
            <a:chOff x="0" y="0"/>
            <a:chExt cx="9144000" cy="6915240"/>
          </a:xfrm>
        </p:grpSpPr>
        <p:pic>
          <p:nvPicPr>
            <p:cNvPr id="48" name="Picture 5" descr="fondo"/>
            <p:cNvPicPr/>
            <p:nvPr/>
          </p:nvPicPr>
          <p:blipFill>
            <a:blip r:embed="rId1">
              <a:lum bright="-40000"/>
            </a:blip>
            <a:srcRect l="0" t="0" r="0" b="50004"/>
            <a:stretch/>
          </p:blipFill>
          <p:spPr>
            <a:xfrm>
              <a:off x="0" y="0"/>
              <a:ext cx="9144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P1_P2 drilling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DSC00406"/>
            <p:cNvPicPr/>
            <p:nvPr/>
          </p:nvPicPr>
          <p:blipFill>
            <a:blip r:embed="rId3"/>
            <a:stretch/>
          </p:blipFill>
          <p:spPr>
            <a:xfrm>
              <a:off x="4495680" y="3429000"/>
              <a:ext cx="4648320" cy="34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8"/>
          <p:cNvSpPr/>
          <p:nvPr/>
        </p:nvSpPr>
        <p:spPr>
          <a:xfrm>
            <a:off x="380880" y="1371600"/>
            <a:ext cx="8458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MI 58B - Diseño de Minas Subterrá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Indicaciones Proyec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Diseño N</a:t>
            </a:r>
            <a:r>
              <a:rPr b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mestre Primavera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743200" y="434340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Enrique Rubio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s. Auxiliar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Víctor River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milo Morales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logo"/>
          <p:cNvPicPr/>
          <p:nvPr/>
        </p:nvPicPr>
        <p:blipFill>
          <a:blip r:embed="rId4"/>
          <a:stretch/>
        </p:blipFill>
        <p:spPr>
          <a:xfrm>
            <a:off x="0" y="567684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12952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Programa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r las restricciones operacionales de producción (caserón como UBE), a través de simulaciones de carguío y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lota de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alizar el programa de preparación minera y el programa de produc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tros de desarrollo y/o preparación por unidad de tiempo (mes,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lizar una evaluación económica del diseño propues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dicadores: VA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sta presentación se exponen los principales puntos que se deben considerar para el desarrollo del primer proyecto de diseño a realizar durante el presente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ción preliminar 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pografía del sector donde se encuentra emplazado el yacimien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undidad media depós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infraestructura pre-existent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ble existencia de actividad minera artesanal. Posibilidad de utilización de esta infraestructura? (Ventilación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3716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Análisis de plantas, y secciones tanto transversales como longitudinales con el objetivo de estudi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 geotéc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ón de l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MR, Q de Barton, RQD y estruc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metría de los cuer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logía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it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Análisis d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onas explo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Elección del método de explotación dependerá principalment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fundidad del emplazamiento de el(los) cuerpo(s), para determinar E/M y sobrecarga exist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ometría, leyes y geo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Diseño de unidades básicas de explotación (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B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las excav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p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 de dilución y % de recup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fraestructura y preparación miner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perf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z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os de mineral y selección del método para ello (por ejemplo: buz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rroll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cesos y conex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tre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evar la parte anterior (infraestructura y preparación minera de la UBE) al computador (software Datam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ectar las distintas 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partir de lo anterior, determin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neladas recuperab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método de explotación previamente seleccionado. (Reservas Extraíb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victor rivero</cp:lastModifiedBy>
  <dcterms:modified xsi:type="dcterms:W3CDTF">2007-08-22T01:51:23Z</dcterms:modified>
  <cp:revision>50</cp:revision>
  <dc:subject/>
  <dc:title>Diseño de Minas Subterráneas</dc:title>
</cp:coreProperties>
</file>