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ísticas de los Diseños Subterrán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eptos de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riables críticas en la estimación de dilución en minería subterr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étodo minero y el tamaño de l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variabilidad de la ley en los limites del cuerpo mi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geometría y continuidad de la 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ritmos de ex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mensionamiento de los caserones como radio hidráulico, RQD y dimensiones de pi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lución de Acuerdo al Método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ilución nunca es menor a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ut and fill tipicamente la dilución es del orden de 5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aserones la dilución es de 10-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étodos de caving 20-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 Minero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tivación: Necesario para el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ga sobre el Pi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Sobre el Pi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rga Vertical Sobre 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litoest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l esfuerzo in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rea Tribu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efiniciones de Excav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minero es toda aquel excavación que se realiza en estéril y tiene la finalidad de poder acceder un cuerpo mineral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paración minera es toda aquella excavación que se realiza al interior del cuerpo mineralizado y tiene la función de poder facilitar el arranque, selección y el transporte primario del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desarrollos son excavaciones que se consideran inversión por lo tanto se pueden depre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reparaciones son parte del costo de operación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51480" y="1552680"/>
            <a:ext cx="4506840" cy="4125960"/>
          </a:xfrm>
          <a:custGeom>
            <a:avLst/>
            <a:gdLst/>
            <a:ahLst/>
            <a:rect l="l" t="t" r="r" b="b"/>
            <a:pathLst>
              <a:path w="2839" h="2599">
                <a:moveTo>
                  <a:pt x="0" y="2599"/>
                </a:moveTo>
                <a:cubicBezTo>
                  <a:pt x="59" y="2420"/>
                  <a:pt x="126" y="2236"/>
                  <a:pt x="227" y="2076"/>
                </a:cubicBezTo>
                <a:cubicBezTo>
                  <a:pt x="285" y="1984"/>
                  <a:pt x="360" y="1902"/>
                  <a:pt x="415" y="1808"/>
                </a:cubicBezTo>
                <a:cubicBezTo>
                  <a:pt x="458" y="1736"/>
                  <a:pt x="480" y="1654"/>
                  <a:pt x="522" y="1581"/>
                </a:cubicBezTo>
                <a:cubicBezTo>
                  <a:pt x="628" y="1396"/>
                  <a:pt x="520" y="1606"/>
                  <a:pt x="643" y="1420"/>
                </a:cubicBezTo>
                <a:cubicBezTo>
                  <a:pt x="727" y="1293"/>
                  <a:pt x="634" y="1376"/>
                  <a:pt x="736" y="1299"/>
                </a:cubicBezTo>
                <a:cubicBezTo>
                  <a:pt x="766" y="1225"/>
                  <a:pt x="819" y="1160"/>
                  <a:pt x="870" y="1098"/>
                </a:cubicBezTo>
                <a:cubicBezTo>
                  <a:pt x="901" y="1061"/>
                  <a:pt x="917" y="1061"/>
                  <a:pt x="937" y="1018"/>
                </a:cubicBezTo>
                <a:cubicBezTo>
                  <a:pt x="968" y="950"/>
                  <a:pt x="985" y="883"/>
                  <a:pt x="1018" y="817"/>
                </a:cubicBezTo>
                <a:cubicBezTo>
                  <a:pt x="1022" y="795"/>
                  <a:pt x="1021" y="770"/>
                  <a:pt x="1031" y="750"/>
                </a:cubicBezTo>
                <a:cubicBezTo>
                  <a:pt x="1041" y="730"/>
                  <a:pt x="1121" y="650"/>
                  <a:pt x="1138" y="629"/>
                </a:cubicBezTo>
                <a:cubicBezTo>
                  <a:pt x="1148" y="617"/>
                  <a:pt x="1153" y="599"/>
                  <a:pt x="1165" y="589"/>
                </a:cubicBezTo>
                <a:cubicBezTo>
                  <a:pt x="1181" y="576"/>
                  <a:pt x="1201" y="572"/>
                  <a:pt x="1219" y="562"/>
                </a:cubicBezTo>
                <a:cubicBezTo>
                  <a:pt x="1233" y="554"/>
                  <a:pt x="1247" y="546"/>
                  <a:pt x="1259" y="536"/>
                </a:cubicBezTo>
                <a:cubicBezTo>
                  <a:pt x="1278" y="520"/>
                  <a:pt x="1291" y="497"/>
                  <a:pt x="1312" y="482"/>
                </a:cubicBezTo>
                <a:cubicBezTo>
                  <a:pt x="1340" y="462"/>
                  <a:pt x="1377" y="459"/>
                  <a:pt x="1406" y="442"/>
                </a:cubicBezTo>
                <a:cubicBezTo>
                  <a:pt x="1484" y="397"/>
                  <a:pt x="1564" y="356"/>
                  <a:pt x="1647" y="321"/>
                </a:cubicBezTo>
                <a:cubicBezTo>
                  <a:pt x="1715" y="293"/>
                  <a:pt x="1808" y="275"/>
                  <a:pt x="1875" y="241"/>
                </a:cubicBezTo>
                <a:cubicBezTo>
                  <a:pt x="1942" y="208"/>
                  <a:pt x="1910" y="220"/>
                  <a:pt x="1969" y="201"/>
                </a:cubicBezTo>
                <a:cubicBezTo>
                  <a:pt x="2096" y="115"/>
                  <a:pt x="2161" y="109"/>
                  <a:pt x="2317" y="94"/>
                </a:cubicBezTo>
                <a:cubicBezTo>
                  <a:pt x="2446" y="67"/>
                  <a:pt x="2558" y="49"/>
                  <a:pt x="2692" y="40"/>
                </a:cubicBezTo>
                <a:cubicBezTo>
                  <a:pt x="2783" y="10"/>
                  <a:pt x="2670" y="46"/>
                  <a:pt x="2799" y="13"/>
                </a:cubicBezTo>
                <a:cubicBezTo>
                  <a:pt x="2813" y="10"/>
                  <a:pt x="2839" y="0"/>
                  <a:pt x="283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23160" y="2657520"/>
            <a:ext cx="1795320" cy="2978280"/>
          </a:xfrm>
          <a:custGeom>
            <a:avLst/>
            <a:gdLst/>
            <a:ahLst/>
            <a:rect l="l" t="t" r="r" b="b"/>
            <a:pathLst>
              <a:path w="1131" h="1876">
                <a:moveTo>
                  <a:pt x="341" y="0"/>
                </a:moveTo>
                <a:cubicBezTo>
                  <a:pt x="265" y="27"/>
                  <a:pt x="308" y="3"/>
                  <a:pt x="234" y="108"/>
                </a:cubicBezTo>
                <a:cubicBezTo>
                  <a:pt x="225" y="121"/>
                  <a:pt x="207" y="148"/>
                  <a:pt x="207" y="148"/>
                </a:cubicBezTo>
                <a:cubicBezTo>
                  <a:pt x="188" y="220"/>
                  <a:pt x="166" y="288"/>
                  <a:pt x="153" y="362"/>
                </a:cubicBezTo>
                <a:cubicBezTo>
                  <a:pt x="167" y="443"/>
                  <a:pt x="176" y="479"/>
                  <a:pt x="234" y="536"/>
                </a:cubicBezTo>
                <a:cubicBezTo>
                  <a:pt x="265" y="632"/>
                  <a:pt x="226" y="765"/>
                  <a:pt x="167" y="844"/>
                </a:cubicBezTo>
                <a:cubicBezTo>
                  <a:pt x="138" y="955"/>
                  <a:pt x="175" y="841"/>
                  <a:pt x="113" y="951"/>
                </a:cubicBezTo>
                <a:cubicBezTo>
                  <a:pt x="106" y="963"/>
                  <a:pt x="106" y="979"/>
                  <a:pt x="100" y="992"/>
                </a:cubicBezTo>
                <a:cubicBezTo>
                  <a:pt x="88" y="1015"/>
                  <a:pt x="73" y="1037"/>
                  <a:pt x="59" y="1059"/>
                </a:cubicBezTo>
                <a:cubicBezTo>
                  <a:pt x="46" y="1112"/>
                  <a:pt x="36" y="1147"/>
                  <a:pt x="6" y="1193"/>
                </a:cubicBezTo>
                <a:cubicBezTo>
                  <a:pt x="13" y="1307"/>
                  <a:pt x="0" y="1394"/>
                  <a:pt x="59" y="1487"/>
                </a:cubicBezTo>
                <a:cubicBezTo>
                  <a:pt x="88" y="1533"/>
                  <a:pt x="122" y="1576"/>
                  <a:pt x="153" y="1621"/>
                </a:cubicBezTo>
                <a:cubicBezTo>
                  <a:pt x="162" y="1634"/>
                  <a:pt x="180" y="1661"/>
                  <a:pt x="180" y="1661"/>
                </a:cubicBezTo>
                <a:cubicBezTo>
                  <a:pt x="180" y="1663"/>
                  <a:pt x="193" y="1810"/>
                  <a:pt x="234" y="1836"/>
                </a:cubicBezTo>
                <a:cubicBezTo>
                  <a:pt x="258" y="1851"/>
                  <a:pt x="287" y="1853"/>
                  <a:pt x="314" y="1862"/>
                </a:cubicBezTo>
                <a:cubicBezTo>
                  <a:pt x="327" y="1866"/>
                  <a:pt x="354" y="1876"/>
                  <a:pt x="354" y="1876"/>
                </a:cubicBezTo>
                <a:cubicBezTo>
                  <a:pt x="509" y="1864"/>
                  <a:pt x="611" y="1844"/>
                  <a:pt x="756" y="1809"/>
                </a:cubicBezTo>
                <a:cubicBezTo>
                  <a:pt x="820" y="1777"/>
                  <a:pt x="847" y="1760"/>
                  <a:pt x="890" y="1702"/>
                </a:cubicBezTo>
                <a:cubicBezTo>
                  <a:pt x="886" y="1666"/>
                  <a:pt x="888" y="1629"/>
                  <a:pt x="877" y="1594"/>
                </a:cubicBezTo>
                <a:cubicBezTo>
                  <a:pt x="859" y="1536"/>
                  <a:pt x="812" y="1463"/>
                  <a:pt x="783" y="1407"/>
                </a:cubicBezTo>
                <a:cubicBezTo>
                  <a:pt x="777" y="1394"/>
                  <a:pt x="777" y="1379"/>
                  <a:pt x="769" y="1367"/>
                </a:cubicBezTo>
                <a:cubicBezTo>
                  <a:pt x="758" y="1351"/>
                  <a:pt x="742" y="1340"/>
                  <a:pt x="729" y="1327"/>
                </a:cubicBezTo>
                <a:cubicBezTo>
                  <a:pt x="734" y="1296"/>
                  <a:pt x="727" y="1260"/>
                  <a:pt x="743" y="1233"/>
                </a:cubicBezTo>
                <a:cubicBezTo>
                  <a:pt x="756" y="1211"/>
                  <a:pt x="789" y="1209"/>
                  <a:pt x="810" y="1193"/>
                </a:cubicBezTo>
                <a:cubicBezTo>
                  <a:pt x="989" y="1057"/>
                  <a:pt x="727" y="1232"/>
                  <a:pt x="890" y="1126"/>
                </a:cubicBezTo>
                <a:cubicBezTo>
                  <a:pt x="950" y="1034"/>
                  <a:pt x="880" y="1123"/>
                  <a:pt x="957" y="1072"/>
                </a:cubicBezTo>
                <a:cubicBezTo>
                  <a:pt x="986" y="1053"/>
                  <a:pt x="1008" y="1024"/>
                  <a:pt x="1037" y="1005"/>
                </a:cubicBezTo>
                <a:cubicBezTo>
                  <a:pt x="1059" y="974"/>
                  <a:pt x="1082" y="943"/>
                  <a:pt x="1104" y="911"/>
                </a:cubicBezTo>
                <a:cubicBezTo>
                  <a:pt x="1113" y="898"/>
                  <a:pt x="1131" y="871"/>
                  <a:pt x="1131" y="871"/>
                </a:cubicBezTo>
                <a:cubicBezTo>
                  <a:pt x="1127" y="840"/>
                  <a:pt x="1127" y="807"/>
                  <a:pt x="1118" y="777"/>
                </a:cubicBezTo>
                <a:cubicBezTo>
                  <a:pt x="1108" y="743"/>
                  <a:pt x="1078" y="717"/>
                  <a:pt x="1064" y="684"/>
                </a:cubicBezTo>
                <a:cubicBezTo>
                  <a:pt x="1035" y="615"/>
                  <a:pt x="997" y="564"/>
                  <a:pt x="944" y="509"/>
                </a:cubicBezTo>
                <a:cubicBezTo>
                  <a:pt x="908" y="406"/>
                  <a:pt x="961" y="532"/>
                  <a:pt x="890" y="442"/>
                </a:cubicBezTo>
                <a:cubicBezTo>
                  <a:pt x="881" y="431"/>
                  <a:pt x="886" y="413"/>
                  <a:pt x="877" y="402"/>
                </a:cubicBezTo>
                <a:cubicBezTo>
                  <a:pt x="854" y="372"/>
                  <a:pt x="817" y="353"/>
                  <a:pt x="796" y="322"/>
                </a:cubicBezTo>
                <a:cubicBezTo>
                  <a:pt x="756" y="262"/>
                  <a:pt x="709" y="214"/>
                  <a:pt x="649" y="175"/>
                </a:cubicBezTo>
                <a:cubicBezTo>
                  <a:pt x="635" y="119"/>
                  <a:pt x="633" y="22"/>
                  <a:pt x="555" y="14"/>
                </a:cubicBezTo>
                <a:cubicBezTo>
                  <a:pt x="484" y="6"/>
                  <a:pt x="412" y="5"/>
                  <a:pt x="341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4267080"/>
            <a:ext cx="17524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66080" y="4267080"/>
            <a:ext cx="137160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1640" y="44197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07680" y="441972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pa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entración de Esfuerzos como Función de la Recu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133720" y="213372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743200" y="50292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19520" y="20570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562720" y="5105520"/>
                <a:ext cx="4284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2743200" y="2514600"/>
            <a:ext cx="2286000" cy="2463840"/>
          </a:xfrm>
          <a:custGeom>
            <a:avLst/>
            <a:gdLst/>
            <a:ahLst/>
            <a:rect l="l" t="t" r="r" b="b"/>
            <a:pathLst>
              <a:path w="1440" h="1552">
                <a:moveTo>
                  <a:pt x="0" y="1536"/>
                </a:moveTo>
                <a:cubicBezTo>
                  <a:pt x="336" y="1544"/>
                  <a:pt x="672" y="1552"/>
                  <a:pt x="912" y="1296"/>
                </a:cubicBezTo>
                <a:cubicBezTo>
                  <a:pt x="1152" y="1040"/>
                  <a:pt x="1296" y="520"/>
                  <a:pt x="14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rea Tributaria para Muros y Pilares Rectan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457200" y="1600200"/>
            <a:ext cx="563868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racción Sobre el Techo del Caser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z máxima para un estrato de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Pilare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rdy and Agapito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ert and Duvall (196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lamon and Munro (1967), Holland (19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19320" y="2133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066680" y="5334120"/>
                <a:ext cx="16002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4317840" y="48132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4946400" y="4952880"/>
            <a:ext cx="301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sistencia del macizo rocoso 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469280" y="434340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153280" y="2895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95040" y="3276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s Utilizadas Para El Diseño de Pi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terio de Hoek and Brown (1980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54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 mi para Distintos Tipos de Roca Inta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Escalamiento de 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Importancia de W/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sbeltez del pilar define el grado de confinamiento de 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como función del Confinamiento d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efine el confinamiento medio del pi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a formula nace del análisis de múltiples geometrías modeladas numéricamente y estimación del confinamiento al interior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verage pilar st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+s2+s3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990720" y="2133720"/>
                <a:ext cx="2438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rámetros a Reportar en el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lución (Planned and Unplan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peración Minera (Planned and Unplan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Pilares Para Roca Compet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kalnis Y Lunde (1997) proponen una relación para estimar la resistencia del pilar considerando el confinamiento medio de los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Pilares en Minería Metá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10938" t="23960" r="40625" b="21878"/>
          <a:stretch/>
        </p:blipFill>
        <p:spPr>
          <a:xfrm>
            <a:off x="4038480" y="2048040"/>
            <a:ext cx="4876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uz Máxima y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l Pilar Uni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uz Máxima y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l Pilar Uni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8717040" cy="24400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808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. S. Esterhuizen ,AN EVALUATION OF THE STRENGTH OF SLENDER PILLA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volvente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quel material que económicamente conduce al mejor negocio productivo del re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nvolvente ec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ómica define lo que es mi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ón Recuperación Di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, tonelaje cubicado (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, ley in situ cubicada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, recuperación minera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, dilución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f, factor de utilidad ($/%/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, costo mina ($/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, utilidad (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2590920" y="4038480"/>
                <a:ext cx="939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05880" y="39625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onelaje recup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99960" y="441972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Dilu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540160" y="4343400"/>
                <a:ext cx="1498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LR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362320" y="5181480"/>
                <a:ext cx="2539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fL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371600" y="5181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tili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638680" y="2209680"/>
                <a:ext cx="2540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fL</m:t>
                    </m:r>
                    <m:r>
                      <m:t xml:space="preserve">/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036680" y="228600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lución Cr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2743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esante que siempre el diseño óptimo económico depende de la raz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943600" y="3581280"/>
                <a:ext cx="1039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L</m:t>
                    </m:r>
                    <m:r>
                      <m:t xml:space="preserve">/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ón de la Dilu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lución Planificada es el material que se encuentra fuera de la definición económica de mineral y se incorpora como parte del diseño m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lución actual u operativa es aquella que se extrae por sobre las reservas mine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lución operativa puede ser económica o no dependiendo de su contenido de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495680" y="1600200"/>
            <a:ext cx="430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per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cuperación minera planificada es aquella porción de la envolvente económica que se extrae como parte de un diseño. En algunos métodos la recuperación es baja producto de pilares, losas y también la contaminación de minerales económicos con esté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cuperación actual u operativa toma en consideración la extracción con respecto a las reservas mineras definidas en el plan de produ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cuperación actual podría incluir materiales estériles en su definición, ya que estos son parte de las reservas min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98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ti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orcentaje de tonelaje que se extrae por día en relación al tonelaje preparado en las diferentes UBMs que componen el sistema m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09680"/>
            <a:ext cx="11430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505320"/>
            <a:ext cx="1143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505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572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209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32767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58000" y="24382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2209680"/>
            <a:ext cx="152640" cy="129564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53280" y="3581280"/>
            <a:ext cx="152640" cy="129564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68200" y="2627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0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08080" y="4038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0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43600" y="28195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6104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25000" y="29322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k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7242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 caserón en producción/(2 caserones preparados)=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 rela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n con la probabilidad que un determinado diseño minero opere para producir una determinada cantidad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función de la tasa de falla intrínseca de los componentes del sistema min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función del estado tensional presentado en la infraestructura min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267080" y="1447920"/>
            <a:ext cx="4648320" cy="2514600"/>
            <a:chOff x="4267080" y="1447920"/>
            <a:chExt cx="4648320" cy="25146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267080" y="1447920"/>
              <a:ext cx="46483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408360" y="1527120"/>
              <a:ext cx="68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247440" y="1884600"/>
              <a:ext cx="4039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51720" y="1845000"/>
              <a:ext cx="36360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2840" y="3559320"/>
              <a:ext cx="62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085800" y="3355200"/>
              <a:ext cx="3636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923800" y="3235680"/>
              <a:ext cx="2019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519520" y="2917800"/>
              <a:ext cx="24228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91840" y="338328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920480" y="4344840"/>
            <a:ext cx="3461040" cy="2284200"/>
            <a:chOff x="4920480" y="4344840"/>
            <a:chExt cx="3461040" cy="2284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228640" y="6376320"/>
                  <a:ext cx="39096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363360" y="6376320"/>
                  <a:ext cx="312840" cy="2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693200" y="6376320"/>
                  <a:ext cx="334800" cy="2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99" name=""/>
            <p:cNvCxnSpPr/>
            <p:nvPr/>
          </p:nvCxnSpPr>
          <p:spPr>
            <a:xfrm>
              <a:off x="5697720" y="6498000"/>
              <a:ext cx="665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>
              <a:off x="6832440" y="6498000"/>
              <a:ext cx="665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01" name=""/>
            <p:cNvGrpSpPr/>
            <p:nvPr/>
          </p:nvGrpSpPr>
          <p:grpSpPr>
            <a:xfrm>
              <a:off x="4920480" y="4344840"/>
              <a:ext cx="3461040" cy="1855440"/>
              <a:chOff x="4920480" y="4344840"/>
              <a:chExt cx="3461040" cy="1855440"/>
            </a:xfrm>
          </p:grpSpPr>
          <p:sp>
            <p:nvSpPr>
              <p:cNvPr id="102" name="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20080" y="437544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20080" y="500832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19360" y="5618880"/>
                <a:ext cx="182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56160" y="56188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77400" y="4604400"/>
                <a:ext cx="720" cy="37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74880" y="5235120"/>
                <a:ext cx="3960" cy="34956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9520" y="461808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89520" y="498636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89160" y="5445000"/>
                <a:ext cx="266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88960" y="54450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12280" y="5155200"/>
                <a:ext cx="3960" cy="2584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21400" y="4716720"/>
                <a:ext cx="126360" cy="8294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43920" y="5034600"/>
                <a:ext cx="133560" cy="648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59880" y="461808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59880" y="492732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9880" y="544500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81920" y="5155200"/>
                <a:ext cx="3960" cy="2584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91760" y="4716720"/>
                <a:ext cx="126000" cy="8294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59040" y="4986360"/>
                <a:ext cx="29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58680" y="5067360"/>
                <a:ext cx="12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549200" y="5081400"/>
                <a:ext cx="100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978600" y="5083560"/>
                <a:ext cx="221400" cy="396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20480" y="6042960"/>
                <a:ext cx="67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90040" y="460980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90040" y="493848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89680" y="5441040"/>
                <a:ext cx="302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16480" y="54410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09920" y="5149080"/>
                <a:ext cx="4680" cy="2588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44960" y="4710960"/>
                <a:ext cx="100080" cy="82836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75400" y="5102640"/>
                <a:ext cx="133560" cy="756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76160" y="434484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20080" y="437544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76160" y="4978800"/>
                <a:ext cx="4017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20080" y="5008320"/>
                <a:ext cx="23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76160" y="5588280"/>
                <a:ext cx="40176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9360" y="5618880"/>
                <a:ext cx="182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56160" y="56188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77400" y="4604400"/>
                <a:ext cx="720" cy="37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74880" y="5235120"/>
                <a:ext cx="3960" cy="34956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4704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9520" y="461808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47040" y="495540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9520" y="4986360"/>
                <a:ext cx="31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4704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89160" y="5445000"/>
                <a:ext cx="266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88960" y="54450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12280" y="5155200"/>
                <a:ext cx="3960" cy="2584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21400" y="4716720"/>
                <a:ext cx="126360" cy="8294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43920" y="5034600"/>
                <a:ext cx="133560" cy="648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17400" y="4587840"/>
                <a:ext cx="33408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9880" y="461808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817400" y="48981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859880" y="492732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17400" y="5416560"/>
                <a:ext cx="334080" cy="2584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59880" y="5445000"/>
                <a:ext cx="270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81920" y="5155200"/>
                <a:ext cx="3960" cy="2584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91760" y="4716720"/>
                <a:ext cx="126000" cy="8294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5840" y="4956120"/>
                <a:ext cx="33336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59040" y="4986360"/>
                <a:ext cx="29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58680" y="5067360"/>
                <a:ext cx="12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549200" y="5081400"/>
                <a:ext cx="100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78600" y="5083560"/>
                <a:ext cx="221400" cy="396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20480" y="6042960"/>
                <a:ext cx="67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92640" y="6012360"/>
                <a:ext cx="837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duction Crosscut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56760" y="6032520"/>
                <a:ext cx="476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raw Point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45040" y="4581000"/>
                <a:ext cx="401040" cy="2595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0040" y="460980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45040" y="490968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90040" y="4938480"/>
                <a:ext cx="35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5040" y="5410440"/>
                <a:ext cx="401040" cy="2588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89680" y="5441040"/>
                <a:ext cx="302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16480" y="544104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09920" y="5149080"/>
                <a:ext cx="4680" cy="2588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44960" y="4710960"/>
                <a:ext cx="100080" cy="82836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11480" y="5070960"/>
                <a:ext cx="66600" cy="687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75400" y="5102640"/>
                <a:ext cx="133560" cy="756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79640" y="5001480"/>
                <a:ext cx="66600" cy="69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50360" y="5047920"/>
                <a:ext cx="66600" cy="680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57760" y="6093360"/>
                <a:ext cx="23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 100 t de mineral de una ley de 10%  de la cubicaci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ón de un caser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 acuerdo a topografía la dilución media es de 15% y la recuperación metalica es de 88%. Estime las reservas mine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00t*1.15=115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y=10%*0.88/1.15t=7.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7-08-14T17:35:14Z</dcterms:modified>
  <cp:revision>54</cp:revision>
  <dc:subject/>
  <dc:title>Diseño de Minas Subterráneas</dc:title>
</cp:coreProperties>
</file>