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484-0694-400C-9969-A9BA81CD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A61-D0AF-4027-AA80-17560FAA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A70-C43E-485E-BA29-78B537E4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9B9-3582-48B8-A843-4BC06F17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4FC-C718-4325-884F-89533F23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2F2-4246-415A-A6BF-7D82E917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32E-5277-4B32-930C-89ED6853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6E6-8227-4685-A002-24AA7C3E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0F6-8D79-4762-9A83-14080C1C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7AC-3F67-4E29-8BB4-3C62D3A8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F2D-FF6E-4AAF-8080-46158A87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D9F-559F-4637-BF67-FE06EE21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554E-6CA8-4338-87DC-1A2BF25E9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de Cort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rategia de maximización del 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justando la ley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pta por no procesar parte del material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mbio, se elige extraer más mineral superior a la ley de corte critica y procesar aquella porción con más alta l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actual del material con más baja l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ierde si es que nunca se recup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disminuye en caso de ser puesto en un stockpile durante muchos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se incurre en un costo extra de rehandle al recuperarse eventual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reemplazado por un costo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genera por un aumento en el valor actual obtenido mediante la venta de materiales de alta ley con an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penden del tipo de mineral, del método de procesamiento, de la ubicació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aspectos principales son los costos capitales de la planta procesadora, los tranques de relave y la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mina se calcula multiplicando la capacidad anual de la mina durante el primer año por un factor de costo de 1,16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los años siguientes este factor se aplica a los aumentos en la capacidad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i la capacidad de la mina disminuye no hay crédito ni se suma ningún nuevo capital (Ej. hacia el final del proyect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s capitales nuevos se descuentan al año 0 </a:t>
            </a:r>
            <a:r>
              <a:rPr b="0" lang="es-E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sto Capital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planta se calcula dividiendo la capacidad diaria de la planta por 1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e costo incluye tranques de relaves, sistemas de transporte de material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ital de reemplazo actual de la planta y la mina se calcula en US$0,1/ton para los cálculos de flujos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pacidad de la planta se varía de 40.000 a 100.000 tpd con intervalos de 2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ada etapa se calculan el costo capital de la planta, la mina, el valor actual del flujo mineralógico y el VAN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 de corte con ingreso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9001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es de corte con cero ingreso optim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3786120"/>
            <a:ext cx="8975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año óptimo de la planta al llegar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N total aumenta un 54% al alcanzar el tamaño de planta de 40.000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8697" t="13147" r="16341" b="9377"/>
          <a:stretch/>
        </p:blipFill>
        <p:spPr>
          <a:xfrm>
            <a:off x="755640" y="62064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8697" t="12211" r="15742" b="9377"/>
          <a:stretch/>
        </p:blipFill>
        <p:spPr>
          <a:xfrm>
            <a:off x="755640" y="477720"/>
            <a:ext cx="79930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4012" t="26378" r="22825" b="16916"/>
          <a:stretch/>
        </p:blipFill>
        <p:spPr>
          <a:xfrm>
            <a:off x="1403280" y="1628640"/>
            <a:ext cx="6481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tockpiles cumplirán una función determinada para la mayor parte de las estrategias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ificación min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ndes stockpiles utilizados para depositar materiales durante largos períodos de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queños stockpiles ubicados cerca de la chancadora para amortiguar la extracción diaria y la producción de la pla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lta ser esencial un stockpile pequ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revistos  afectan la produ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podemos planificar la extracción y el procesamiento de la planta para obtener exactamente 20,000 toneladas diar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mente, se debería permitir de 1 a 7 días de producción para stockpiles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grandes stockpiles también son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lítica de leyes de cort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neral de ley más baja es dispuesto para procesamiento durante los años pos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sto de recuperación de los grandes stockpiles en el largo plazo, es basta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ximadamente el 60% del costo de extracción origi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recuperan cuando la extracción del pit ha disminuido o ces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gastos generales de la operación deben ser, en parte, controlados por la operación recuperad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costos de recuperación de un stockpile pequeño ubicado cerca de la chancadora, son mucho más bajos, aproximadamente el 5% del costo de extracción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 el valor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s de Recu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de equipo adec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apacidad de pala provoca bajo factor de llenado del cam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Subir factor de llenado del camión provoca bajar factor de llenado de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Un número de palas produce por ejemplo 90 millones ton/año y el número siguiente produce 110 millones ton/año y se requiere una producción de 100 millones ton/añ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odificar capacidad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Mayor profundidad pit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ayor E/M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o capacidad mina, tramos dentro del pit y tiempos de cicl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ar número de palas y camion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sa de producción ópt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 determinación es de las decisiones estratégicas más importantes que afectan un proyecto de extr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 menudo se seleccionan sin ningún análisis previo del nivel ópt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requiere mucho tiempo en los análisis de flujo de caja para determinar el tamaño óptimo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estudiar el efecto de distintas tasas de producción en el VAN es necesario estimar los costos capitales asoci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20:20:41Z</dcterms:created>
  <dc:creator>PPV</dc:creator>
  <dc:description/>
  <dc:language>en-US</dc:language>
  <cp:lastModifiedBy>PPV</cp:lastModifiedBy>
  <dcterms:modified xsi:type="dcterms:W3CDTF">2007-11-13T00:55:57Z</dcterms:modified>
  <cp:revision>4</cp:revision>
  <dc:subject/>
  <dc:title>Diapositiva 1</dc:title>
</cp:coreProperties>
</file>