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4D6D-72DA-4D58-A4D0-4EAB6573A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56EF-F734-41A1-914B-FE457DBA6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243BB-9632-4690-9291-6389BCCFD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0332-6FD2-426A-AFD7-F69762E2C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5137-B817-44C3-895A-0BB08EB03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A686-473F-4C71-AF98-B5C2CC2EF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F966-94D5-4225-9FC5-F2C34DDC0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F936B-21E9-4084-8EEA-0B3EE69C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6F7C-3154-437C-9809-CD86DB729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F1F6-453A-4355-9CEF-DF428BF08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55F8A-90CD-4FF8-A684-55B9B1A2F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73C7-4CBB-48CA-AC6E-1A6A17B77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D70CE-6A0B-4547-A4DB-700C0113A9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yes de Corte Variab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trategia de maximización del V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justando la ley de c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opta por no procesar parte del material rent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cambio, se elige extraer más mineral superior a la ley de corte critica y procesar aquella porción con más alta le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valor actual del material con más baja le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pierde si es que nunca se recupe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O disminuye en caso de ser puesto en un stockpile durante muchos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se incurre en un costo extra de rehandle al recuperarse eventual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s reemplazado por un costo de oportun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e genera por un aumento en el valor actual obtenido mediante la venta de materiales de alta ley con anticipació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Dependen del tipo de mineral, del método de procesamiento, de la ubicación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Los aspectos principales son los costos capitales de la planta procesadora, los tranques de relave y la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mina se calcula multiplicando la capacidad anual de la mina durante el primer año por un factor de costo de 1,16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los años siguientes este factor se aplica a los aumentos en la capacidad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i la capacidad de la mina disminuye no hay crédito ni se suma ningún nuevo capital (Ej. hacia el final del proyecto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s capitales nuevos se descuentan al año 0 </a:t>
            </a:r>
            <a:r>
              <a:rPr b="0" lang="es-ES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Costo Capital Min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Costo capital de la planta se calcula dividiendo la capacidad diaria de la planta por 10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Este costo incluye tranques de relaves, sistemas de transporte de material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stimación de costos capit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pital de reemplazo actual de la planta y la mina se calcula en US$0,1/ton para los cálculos de flujos de caj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capacidad de la planta se varía de 40.000 a 100.000 tpd con intervalos de 2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cada etapa se calculan el costo capital de la planta, la mina, el valor actual del flujo mineralógico y el VAN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 de corte con ingreso cer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3643200"/>
            <a:ext cx="9001080" cy="17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ultados financieros vs tamaño de planta con precio de cobre de US$0,9/lb, tasa de interés de 8% y leyes de corte con cero ingreso optimiz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0" y="3786120"/>
            <a:ext cx="897588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maño óptimo de la plan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amaño óptimo de la planta al llegar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AN total aumenta un 54% al alcanzar el tamaño de planta de 40.000 a 100.000 tp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18697" t="13147" r="16341" b="9377"/>
          <a:stretch/>
        </p:blipFill>
        <p:spPr>
          <a:xfrm>
            <a:off x="755640" y="620640"/>
            <a:ext cx="792000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rcRect l="18697" t="12211" r="15742" b="9377"/>
          <a:stretch/>
        </p:blipFill>
        <p:spPr>
          <a:xfrm>
            <a:off x="755640" y="477720"/>
            <a:ext cx="7993080" cy="59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24012" t="26378" r="22825" b="16916"/>
          <a:stretch/>
        </p:blipFill>
        <p:spPr>
          <a:xfrm>
            <a:off x="1403280" y="1628640"/>
            <a:ext cx="648180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stockpiles cumplirán una función determinada para la mayor parte de las estrategias de 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lanificación miner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Grandes stockpiles utilizados para depositar materiales durante largos períodos de tiemp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equeños stockpiles ubicados cerca de la chancadora para amortiguar la extracción diaria y la producción de la plant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sulta ser esencial un stockpile peque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Imprevistos  afectan la producció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no podemos planificar la extracción y el procesamiento de la planta para obtener exactamente 20,000 toneladas diaria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Normalmente, se debería permitir de 1 a 7 días de producción para stockpiles tempor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grandes stockpiles también son neces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olítica de leyes de corte varia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Mineral de ley más baja es dispuesto para procesamiento durante los años pos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costo de recuperación de los grandes stockpiles en el largo plazo, es bastante 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Aproximadamente el 60% del costo de extracción origin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Se recuperan cuando la extracción del pit ha disminuido o ces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Los gastos generales de la operación deben ser, en parte, controlados por la operación recuperador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costos de recuperación de un stockpile pequeño ubicado cerca de la chancadora, son mucho más bajos, aproximadamente el 5% del costo de extracción nor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Uso de Stockp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nefici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jora el valor del nego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id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stos de Recupe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lección de equipo adecu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Capacidad de pala provoca bajo factor de llenado del camió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Subir factor de llenado del camión provoca bajar factor de llenado de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Un número de palas produce por ejemplo 90 millones ton/año y el número siguiente produce 110 millones ton/año y se requiere una producción de 100 millones ton/añ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odificar capacidad pal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Mayor profundidad pit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mayor E/M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o capacidad mina, tramos dentro del pit y tiempos de ciclo </a:t>
            </a:r>
            <a:r>
              <a:rPr b="0" lang="es-ES" sz="2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" sz="2700" spc="-1" strike="noStrike">
                <a:solidFill>
                  <a:srgbClr val="000000"/>
                </a:solidFill>
                <a:latin typeface="Arial"/>
              </a:rPr>
              <a:t> aumentar número de palas y camion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asa de producción ópt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u determinación es de las decisiones estratégicas más importantes que afectan un proyecto de extracció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A menudo se seleccionan sin ningún análisis previo del nivel óptim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Se requiere mucho tiempo en los análisis de flujo de caja para determinar el tamaño óptimo de plant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Arial"/>
              </a:rPr>
              <a:t>Para estudiar el efecto de distintas tasas de producción en el VAN es necesario estimar los costos capitales asociad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2T20:20:41Z</dcterms:created>
  <dc:creator>PPV</dc:creator>
  <dc:description/>
  <dc:language>en-US</dc:language>
  <cp:lastModifiedBy>PPV</cp:lastModifiedBy>
  <dcterms:modified xsi:type="dcterms:W3CDTF">2007-11-13T00:55:57Z</dcterms:modified>
  <cp:revision>4</cp:revision>
  <dc:subject/>
  <dc:title>Diapositiva 1</dc:title>
</cp:coreProperties>
</file>