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931-110F-48F3-ADAF-7C9E5B84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9AF-05F6-4CF4-A691-747306AE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99B-506D-4750-B5ED-A1BCEF55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691-085B-457A-8515-77134D17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EEE-ED44-4089-B994-93EA7F9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ED9-8FD5-42A5-8BC7-9E8A694E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751-5FEB-4B88-A0CD-46A55FCA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32B-55E9-4B2D-9D75-4ADB4EE1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DD6-D7C7-47B1-9372-51A77A6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2AE-9715-4F92-B048-0C2DA42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599-7E65-4ADD-BBA9-32838CD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B6A-FF34-4D89-A16B-BDC6F54B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142-30AB-4ECF-BCFC-90A13A97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de Cort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 de maximización del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justando la ley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pta por no procesar parte del material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, se elige extraer más mineral superior a la ley de corte critica y procesar aquella porción con más alta l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actual del material con más baja 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ierde si es que nunca se recu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disminuye en caso de ser puesto en un stockpile durante muchos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se incurre en un costo extra de rehandle al recuperarse even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reemplazado por un 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por un aumento en el valor actual obtenido mediante la venta de materiales de alta ley con an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enden del tipo de mineral, del método de procesamiento, de la ubicació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aspectos principales son los costos capitales de la planta procesadora, los tranques de relave y la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mina se calcula multiplicando la capacidad anual de la mina durante el primer año por un factor de costo de 1,16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los años siguientes este factor se aplica a los aumentos en la capacidad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la capacidad de la mina disminuye no hay crédito ni se suma ningún nuevo capital (Ej. hacia el final del proyec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s capitales nuevos se descuentan al año 0 </a:t>
            </a:r>
            <a:r>
              <a:rPr b="0" lang="es-E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sto Capital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planta se calcula dividiendo la capacidad diaria de la planta por 1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e costo incluye tranques de relaves, sistemas de transporte de material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ital de reemplazo actual de la planta y la mina se calcula en US$0,1/ton para los cálculos de flujos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la planta se varía de 40.000 a 100.000 tpd con intervalos de 2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da etapa se calculan el costo capital de la planta, la mina, el valor actual del flujo mineralógico y el VA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 de corte con ingreso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9001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es de corte con cero ingreso optim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8975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óptimo de la planta al llegar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N total aumenta un 54% al alcanzar el tamaño de planta de 40.000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697" t="13147" r="16341" b="9377"/>
          <a:stretch/>
        </p:blipFill>
        <p:spPr>
          <a:xfrm>
            <a:off x="755640" y="620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8697" t="12211" r="15742" b="9377"/>
          <a:stretch/>
        </p:blipFill>
        <p:spPr>
          <a:xfrm>
            <a:off x="755640" y="477720"/>
            <a:ext cx="7993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012" t="26378" r="22825" b="16916"/>
          <a:stretch/>
        </p:blipFill>
        <p:spPr>
          <a:xfrm>
            <a:off x="1403280" y="1628640"/>
            <a:ext cx="6481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tockpiles cumplirán una función determinada para la mayor parte de las estrategia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min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s stockpiles utilizados para depositar materiales durante largos períodos de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s stockpiles ubicados cerca de la chancadora para amortiguar la extracción diaria y la producción de la pla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 ser esencial un stockpile pequ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vistos  afectan la produ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odemos planificar la extracción y el procesamiento de la planta para obtener exactamente 20,000 toneladas di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, se debería permitir de 1 a 7 días de producción para stockpiles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randes stockpiles también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ítica de leyes de cor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eral de ley más baja es dispuesto para procesamiento durante los años pos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sto de recuperación de los grandes stockpiles en el largo plazo, es basta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damente el 60% del costo de extracción origi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recuperan cuando la extracción del pit ha disminuido o c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stos generales de la operación deben ser, en parte, controlados por la operación recu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stos de recuperación de un stockpile pequeño ubicado cerca de la chancadora, son mucho más bajos, aproximadamente el 5% del costo de extracció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 el valor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s de Recu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de equipo adec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apacidad de pala provoca bajo factor de llenado del cam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bir factor de llenado del camión provoca bajar factor de llenado de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Un número de palas produce por ejemplo 90 millones ton/año y el número siguiente produce 110 millones ton/año y se requiere una producción de 100 millones ton/añ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odificar capacidad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Mayor profundidad pit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ayor E/M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o capacidad mina, tramos dentro del pit y tiempos de cicl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ar número de palas y camio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sa de producción óp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 determinación es de las decisiones estratégicas más importantes que afectan un proyecto de extr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menudo se seleccionan sin ningún análisis previo del nivel ópt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quiere mucho tiempo en los análisis de flujo de caja para determinar el tamaño óptimo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estudiar el efecto de distintas tasas de producción en el VAN es necesario estimar los costos capitales aso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20:41Z</dcterms:created>
  <dc:creator>PPV</dc:creator>
  <dc:description/>
  <dc:language>en-US</dc:language>
  <cp:lastModifiedBy>PPV</cp:lastModifiedBy>
  <dcterms:modified xsi:type="dcterms:W3CDTF">2007-11-13T00:55:57Z</dcterms:modified>
  <cp:revision>4</cp:revision>
  <dc:subject/>
  <dc:title>Diapositiva 1</dc:title>
</cp:coreProperties>
</file>