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21.png" ContentType="image/png"/>
  <Override PartName="/ppt/media/image3.wmf" ContentType="image/x-wmf"/>
  <Override PartName="/ppt/media/image4.png" ContentType="image/png"/>
  <Override PartName="/ppt/media/image19.wmf" ContentType="image/x-wmf"/>
  <Override PartName="/ppt/media/image1.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5.png" ContentType="image/pn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D465C-20E6-47BF-948A-5D4075180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7B4FC-5F3A-4931-8B63-70CCA3946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DC04E-16FE-4052-B637-AF9CB5C6F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B56FE-EC84-4F69-BBE3-FE2E7CE63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4BF7C-AD32-4436-A425-C5CEB49C2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4D5F3-5FFB-40A0-AB38-30C96F1AD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78860-84AF-4E6E-BBBA-58A6C8F56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93B54-D7BD-4DBE-A085-616940071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322CF-60CF-4703-AA40-F796232E6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10750-6DC3-4612-9338-B434A87AF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B0D32-5504-40D1-9083-A6DDCAE48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EDA40-A552-4572-B04E-20D7E67BA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A2D0C-9377-4757-B353-5C6C99EB2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CB0A8-8684-4421-93AC-CA8449AFD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3B7AB-AE1A-4D21-9B0E-1EDF3A399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6BC54-EB63-4F6E-B749-70122BA5C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831D3-85A9-4D66-A73E-763F495E1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A4D62-907D-4B04-9530-79433A7D0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D7DD1-48A7-4E7C-A113-B55F37861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856E2-7CD2-4A13-A4C3-5D1292BC6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8EBB8-F63C-4989-9E1E-0F903A3E7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43717-7226-46AF-9CE6-B49BA61F1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1279-5B56-43D9-B17A-58DC1E868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D040B-D5A7-4139-9405-0AB494D09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D67F-03BE-4DBB-9CBC-D5197501F03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10AA-F227-4BD2-89B8-D538832374D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I58A  </a:t>
            </a:r>
            <a:br>
              <a:rPr sz="4400"/>
            </a:br>
            <a:r>
              <a:rPr b="1" lang="en-US" sz="4400" spc="-1" strike="noStrike">
                <a:solidFill>
                  <a:srgbClr val="330066"/>
                </a:solidFill>
                <a:latin typeface="Arial"/>
              </a:rPr>
              <a:t>Diseño Minas a Cielo Abierto</a:t>
            </a:r>
            <a:endParaRPr b="1" lang="en-US" sz="4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Auxilia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a 9</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o Prieto V.</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ilo Morales 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1" name="" descr=""/>
          <p:cNvPicPr/>
          <p:nvPr/>
        </p:nvPicPr>
        <p:blipFill>
          <a:blip r:embed="rId1"/>
          <a:stretch/>
        </p:blipFill>
        <p:spPr>
          <a:xfrm>
            <a:off x="971640" y="1989000"/>
            <a:ext cx="7200720" cy="4259520"/>
          </a:xfrm>
          <a:prstGeom prst="rect">
            <a:avLst/>
          </a:prstGeom>
          <a:ln w="0">
            <a:noFill/>
          </a:ln>
        </p:spPr>
      </p:pic>
      <p:sp>
        <p:nvSpPr>
          <p:cNvPr id="172"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4" name="" descr=""/>
          <p:cNvPicPr/>
          <p:nvPr/>
        </p:nvPicPr>
        <p:blipFill>
          <a:blip r:embed="rId1"/>
          <a:stretch/>
        </p:blipFill>
        <p:spPr>
          <a:xfrm>
            <a:off x="4284720" y="1989000"/>
            <a:ext cx="4586400" cy="2743200"/>
          </a:xfrm>
          <a:prstGeom prst="rect">
            <a:avLst/>
          </a:prstGeom>
          <a:ln w="0">
            <a:noFill/>
          </a:ln>
        </p:spPr>
      </p:pic>
      <p:pic>
        <p:nvPicPr>
          <p:cNvPr id="175" name="" descr=""/>
          <p:cNvPicPr/>
          <p:nvPr/>
        </p:nvPicPr>
        <p:blipFill>
          <a:blip r:embed="rId2"/>
          <a:stretch/>
        </p:blipFill>
        <p:spPr>
          <a:xfrm>
            <a:off x="1116000" y="1989000"/>
            <a:ext cx="2682720" cy="40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7" name="" descr=""/>
          <p:cNvPicPr/>
          <p:nvPr/>
        </p:nvPicPr>
        <p:blipFill>
          <a:blip r:embed="rId1"/>
          <a:stretch/>
        </p:blipFill>
        <p:spPr>
          <a:xfrm>
            <a:off x="971640" y="2492280"/>
            <a:ext cx="7200720" cy="2678040"/>
          </a:xfrm>
          <a:prstGeom prst="rect">
            <a:avLst/>
          </a:prstGeom>
          <a:ln w="0">
            <a:noFill/>
          </a:ln>
        </p:spPr>
      </p:pic>
      <p:sp>
        <p:nvSpPr>
          <p:cNvPr id="178"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80" name="PlaceHolder 2"/>
          <p:cNvSpPr>
            <a:spLocks noGrp="1"/>
          </p:cNvSpPr>
          <p:nvPr>
            <p:ph/>
          </p:nvPr>
        </p:nvSpPr>
        <p:spPr>
          <a:xfrm>
            <a:off x="456840" y="1719000"/>
            <a:ext cx="5267160" cy="487836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gadores Fronta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movilidad que una pala.</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capital mas bajo para una capacidad de producción equivalente</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tiempo de carguí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ermite la operación de doble posicionamient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es costos operacionales</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general, poco confiables</a:t>
            </a:r>
            <a:endParaRPr b="0" lang="en-US" sz="2000" spc="-1" strike="noStrike">
              <a:solidFill>
                <a:srgbClr val="000000"/>
              </a:solidFill>
              <a:latin typeface="Arial"/>
            </a:endParaRPr>
          </a:p>
        </p:txBody>
      </p:sp>
      <p:pic>
        <p:nvPicPr>
          <p:cNvPr id="181" name="" descr=""/>
          <p:cNvPicPr/>
          <p:nvPr/>
        </p:nvPicPr>
        <p:blipFill>
          <a:blip r:embed="rId1"/>
          <a:stretch/>
        </p:blipFill>
        <p:spPr>
          <a:xfrm>
            <a:off x="5940360" y="1989000"/>
            <a:ext cx="2908440" cy="18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3" name="" descr=""/>
          <p:cNvPicPr/>
          <p:nvPr/>
        </p:nvPicPr>
        <p:blipFill>
          <a:blip r:embed="rId1"/>
          <a:stretch/>
        </p:blipFill>
        <p:spPr>
          <a:xfrm>
            <a:off x="971640" y="2349360"/>
            <a:ext cx="7200720" cy="2262240"/>
          </a:xfrm>
          <a:prstGeom prst="rect">
            <a:avLst/>
          </a:prstGeom>
          <a:ln w="0">
            <a:noFill/>
          </a:ln>
        </p:spPr>
      </p:pic>
      <p:sp>
        <p:nvSpPr>
          <p:cNvPr id="184"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6" name="" descr=""/>
          <p:cNvPicPr/>
          <p:nvPr/>
        </p:nvPicPr>
        <p:blipFill>
          <a:blip r:embed="rId1"/>
          <a:stretch/>
        </p:blipFill>
        <p:spPr>
          <a:xfrm>
            <a:off x="971640" y="2492280"/>
            <a:ext cx="7345440" cy="250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0.7 a 1 USD con precios baj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1 a 1.5 USD con precios alt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en además d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eza y abrasión de la roc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onibilidad de energí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o de obr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pic>
        <p:nvPicPr>
          <p:cNvPr id="190" name="" descr=""/>
          <p:cNvPicPr/>
          <p:nvPr/>
        </p:nvPicPr>
        <p:blipFill>
          <a:blip r:embed="rId1"/>
          <a:stretch/>
        </p:blipFill>
        <p:spPr>
          <a:xfrm>
            <a:off x="611280" y="2205000"/>
            <a:ext cx="7775640" cy="3489480"/>
          </a:xfrm>
          <a:prstGeom prst="rect">
            <a:avLst/>
          </a:prstGeom>
          <a:ln w="0">
            <a:noFill/>
          </a:ln>
        </p:spPr>
      </p:pic>
      <p:sp>
        <p:nvSpPr>
          <p:cNvPr id="191"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selección de los parámetros de diseño básicos, es extremadamente importa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parámetros a ser evaluados son generalmente los siguie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 Ancho y pendiente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 Plan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 Talud del suelo del pit</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 Ancho e intervalo de bermas</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 Pendiente total y pendiente lo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6) Ubicación de la infraesctructura princip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195" name="" descr=""/>
          <p:cNvPicPr/>
          <p:nvPr/>
        </p:nvPicPr>
        <p:blipFill>
          <a:blip r:embed="rId1"/>
          <a:stretch/>
        </p:blipFill>
        <p:spPr>
          <a:xfrm>
            <a:off x="611280" y="1989000"/>
            <a:ext cx="8137440" cy="40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s a Tratar</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endario Clases Auxilia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e 1</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1</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cha y Ho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d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es anterior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ura de Banc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rige por tamaño de equipo de perforación y de carguío a emplear</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 también en cierta medida por el equipo de transporte</a:t>
            </a:r>
            <a:endParaRPr b="0" lang="en-US" sz="2300" spc="-1" strike="noStrike">
              <a:solidFill>
                <a:srgbClr val="000000"/>
              </a:solidFill>
              <a:latin typeface="Arial"/>
            </a:endParaRPr>
          </a:p>
          <a:p>
            <a:pPr lvl="2" marL="9874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aciones de mezcla de minerale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ferente caso del cobre que del or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aumentar el tamaño del banco por:</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 eficiencia en la perforación</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nos movimientos de perforadora entre poz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entras mayor sea la diferencia entre bancos mayor es el ahorro en costos</a:t>
            </a:r>
            <a:endParaRPr b="0" lang="en-US" sz="23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iciencia de la Pala</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ervas fragmentadas son proporcionales a la altura del banco. </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s reservas fragmentadas      menor frecuencia de tronadura</a:t>
            </a:r>
            <a:endParaRPr b="0" lang="en-US" sz="2300" spc="-1" strike="noStrike">
              <a:solidFill>
                <a:srgbClr val="000000"/>
              </a:solidFill>
              <a:latin typeface="Arial"/>
            </a:endParaRPr>
          </a:p>
          <a:p>
            <a:pPr lvl="2" marL="98748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0" name=""/>
          <p:cNvSpPr/>
          <p:nvPr/>
        </p:nvSpPr>
        <p:spPr>
          <a:xfrm>
            <a:off x="5148360" y="5516640"/>
            <a:ext cx="360360" cy="71280"/>
          </a:xfrm>
          <a:prstGeom prst="rightArrow">
            <a:avLst>
              <a:gd name="adj1" fmla="val 50000"/>
              <a:gd name="adj2" fmla="val 126389"/>
            </a:avLst>
          </a:prstGeom>
          <a:solidFill>
            <a:srgbClr val="cccc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reducir el tamaño del banco para:</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r la dilució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acimientos de metales preciosos</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gregación de zonas de alta ley</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as de oro </a:t>
            </a:r>
            <a:endParaRPr b="0" lang="en-US" sz="23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7mt mineral</a:t>
            </a:r>
            <a:endParaRPr b="0" lang="en-US" sz="20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14mt estéril</a:t>
            </a:r>
            <a:endParaRPr b="0" lang="en-US" sz="2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determinación de la ruta del camino de transporte dentro del pi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maximizar la recuperación económica de la reserva de mineral,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inimizar los costos de transporte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segurar las condiciones operativas</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a actividad de diseño enormemente desafian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lgoritmos de optimización de pit final NO hacen consideraciones sobre los cami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7" name="" descr=""/>
          <p:cNvPicPr/>
          <p:nvPr/>
        </p:nvPicPr>
        <p:blipFill>
          <a:blip r:embed="rId1"/>
          <a:stretch/>
        </p:blipFill>
        <p:spPr>
          <a:xfrm>
            <a:off x="971640" y="3357720"/>
            <a:ext cx="2654280" cy="2168280"/>
          </a:xfrm>
          <a:prstGeom prst="rect">
            <a:avLst/>
          </a:prstGeom>
          <a:ln w="0">
            <a:noFill/>
          </a:ln>
        </p:spPr>
      </p:pic>
      <p:pic>
        <p:nvPicPr>
          <p:cNvPr id="208" name="" descr=""/>
          <p:cNvPicPr/>
          <p:nvPr/>
        </p:nvPicPr>
        <p:blipFill>
          <a:blip r:embed="rId2"/>
          <a:stretch/>
        </p:blipFill>
        <p:spPr>
          <a:xfrm>
            <a:off x="5219640" y="3141720"/>
            <a:ext cx="2475000" cy="249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lo tanto las reservas e ingresos pueden cambiar drásticamente en ambos casos.</a:t>
            </a:r>
            <a:endParaRPr b="0" lang="en-US" sz="3000" spc="-1" strike="noStrike">
              <a:solidFill>
                <a:srgbClr val="000000"/>
              </a:solidFill>
              <a:latin typeface="Arial"/>
            </a:endParaRPr>
          </a:p>
        </p:txBody>
      </p:sp>
      <p:pic>
        <p:nvPicPr>
          <p:cNvPr id="211" name="" descr=""/>
          <p:cNvPicPr/>
          <p:nvPr/>
        </p:nvPicPr>
        <p:blipFill>
          <a:blip r:embed="rId1"/>
          <a:stretch/>
        </p:blipFill>
        <p:spPr>
          <a:xfrm>
            <a:off x="539640" y="3141720"/>
            <a:ext cx="7952040" cy="109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unto de entrada a la Mina es un aspecto relevante, afecta los siguientes puntos económicos y operacional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 El levante vertical del material que sale de la mina. Costos en transporte son directamente proporcionales al levante verti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 El tiempo de ciclo que realiza el camión hasta la chancadora, los botaderos de estéril, y las pilas de lixiviado.</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 La secuencia de extracción tanto para el mineral como para la estéri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d) La ubicación de los límites finales del pit, incluyendo 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 La reserva mineral del pit. Se requiere de una mayor extracción de estéril para crear el camino de transporte. Parte del mineral se perderá en el proces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ámetros de Diseñ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nto de entrada a la min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endiente del camin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sión de switchback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adio mínimo de curva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6" name="" descr=""/>
          <p:cNvPicPr/>
          <p:nvPr/>
        </p:nvPicPr>
        <p:blipFill>
          <a:blip r:embed="rId1"/>
          <a:stretch/>
        </p:blipFill>
        <p:spPr>
          <a:xfrm>
            <a:off x="5292720" y="2060640"/>
            <a:ext cx="3483000" cy="1460520"/>
          </a:xfrm>
          <a:prstGeom prst="rect">
            <a:avLst/>
          </a:prstGeom>
          <a:ln w="0">
            <a:noFill/>
          </a:ln>
        </p:spPr>
      </p:pic>
      <p:pic>
        <p:nvPicPr>
          <p:cNvPr id="217" name="" descr=""/>
          <p:cNvPicPr/>
          <p:nvPr/>
        </p:nvPicPr>
        <p:blipFill>
          <a:blip r:embed="rId2"/>
          <a:stretch/>
        </p:blipFill>
        <p:spPr>
          <a:xfrm>
            <a:off x="5292720" y="3645000"/>
            <a:ext cx="3409920" cy="23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pic>
        <p:nvPicPr>
          <p:cNvPr id="219" name="" descr=""/>
          <p:cNvPicPr/>
          <p:nvPr/>
        </p:nvPicPr>
        <p:blipFill>
          <a:blip r:embed="rId1"/>
          <a:stretch/>
        </p:blipFill>
        <p:spPr>
          <a:xfrm>
            <a:off x="324000" y="1484280"/>
            <a:ext cx="4679640" cy="2684520"/>
          </a:xfrm>
          <a:prstGeom prst="rect">
            <a:avLst/>
          </a:prstGeom>
          <a:ln w="0">
            <a:noFill/>
          </a:ln>
        </p:spPr>
      </p:pic>
      <p:pic>
        <p:nvPicPr>
          <p:cNvPr id="220" name="" descr=""/>
          <p:cNvPicPr/>
          <p:nvPr/>
        </p:nvPicPr>
        <p:blipFill>
          <a:blip r:embed="rId2"/>
          <a:stretch/>
        </p:blipFill>
        <p:spPr>
          <a:xfrm>
            <a:off x="4356000" y="3944880"/>
            <a:ext cx="4491000" cy="230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fontScale="87000"/>
          </a:bodyPr>
          <a:p>
            <a:pPr marL="298440" indent="-298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diente del Suelo</a:t>
            </a: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muchas operaciones, el suelo de una mina a rajo abierto, se declina para facilitar el drenaje en su superficie</a:t>
            </a:r>
            <a:endParaRPr b="0" lang="en-US" sz="18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recipitaciones son mayores </a:t>
            </a:r>
            <a:endParaRPr b="0" lang="en-US" sz="16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 por la afluencia de aguas superficiales que se vierten en corrientes, como resultado del derretimiento de la nieve. </a:t>
            </a:r>
            <a:endParaRPr b="0" lang="en-US" sz="16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ve del 1% al 2% hasta lograr una velocidad de drenaje suficiente como para evitar cualquier obstáculo o hundimiento en el suelo de la mina. </a:t>
            </a:r>
            <a:endParaRPr b="0" lang="en-US" sz="18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endiente del suelo generará considerables diferencias de altura entre un extremo del banco hasta el extremo del otro banco.</a:t>
            </a:r>
            <a:endParaRPr b="0" lang="en-US" sz="1800" spc="-1" strike="noStrike">
              <a:solidFill>
                <a:srgbClr val="000000"/>
              </a:solidFill>
              <a:latin typeface="Arial"/>
            </a:endParaRPr>
          </a:p>
          <a:p>
            <a:pPr lvl="1" marL="602280" indent="-302400">
              <a:lnSpc>
                <a:spcPct val="10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 lo tanto, se recomienda generalmente identificar los bancos de trabajo en los planos de minas no por su altura, como se acostumbra hacer, sino que por un nombre de banc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so de Whittle y análisis de resultado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l tamaño de explota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equipos de produc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lanificación minera a cielo abierto, generación de programas de producción y teoría de secuencia de ley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inversiones principal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s bermas sirven como áreas de captación para el material de pérdida que se filtra por las paredes de la min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valos dependen del tamaño del equipo que se emplea para la excavación y el talud de la cara del banco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ud inferior a 45 grados</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material tiende a deslizarse más que a caer, condición en la cual, resulta común dejar una berma por cada 2 a 3 bancos. </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jo condiciones normales, en que el talud es de 75º a 80º, manteniendo una </a:t>
            </a:r>
            <a:endParaRPr b="0" lang="en-US" sz="19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cuada tronadura de control</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ente operación de limpieza a medida que sobresale la cara de cada banco</a:t>
            </a:r>
            <a:endParaRPr b="0" lang="en-US" sz="1600" spc="-1" strike="noStrike">
              <a:solidFill>
                <a:srgbClr val="000000"/>
              </a:solidFill>
              <a:latin typeface="Arial"/>
            </a:endParaRPr>
          </a:p>
          <a:p>
            <a:pPr lvl="2" marL="987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común que haya una berma por cada 1 a 2 levant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226" name="" descr=""/>
          <p:cNvPicPr/>
          <p:nvPr/>
        </p:nvPicPr>
        <p:blipFill>
          <a:blip r:embed="rId1"/>
          <a:stretch/>
        </p:blipFill>
        <p:spPr>
          <a:xfrm>
            <a:off x="4572000" y="2852640"/>
            <a:ext cx="4172040" cy="2833920"/>
          </a:xfrm>
          <a:prstGeom prst="rect">
            <a:avLst/>
          </a:prstGeom>
          <a:ln w="0">
            <a:noFill/>
          </a:ln>
        </p:spPr>
      </p:pic>
      <p:pic>
        <p:nvPicPr>
          <p:cNvPr id="227" name="" descr=""/>
          <p:cNvPicPr/>
          <p:nvPr/>
        </p:nvPicPr>
        <p:blipFill>
          <a:blip r:embed="rId2"/>
          <a:stretch/>
        </p:blipFill>
        <p:spPr>
          <a:xfrm>
            <a:off x="539640" y="1916280"/>
            <a:ext cx="3105360" cy="410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9 – Control 1 y Conceptos de diseñ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quip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 de extrac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sideraciones de diseño</a:t>
            </a:r>
            <a:endParaRPr b="0" lang="en-US" sz="1300" spc="-1" strike="noStrike">
              <a:solidFill>
                <a:srgbClr val="000000"/>
              </a:solidFill>
              <a:latin typeface="Arial"/>
            </a:endParaRPr>
          </a:p>
          <a:p>
            <a:pPr lvl="2" marL="987480" indent="-293760">
              <a:lnSpc>
                <a:spcPct val="80000"/>
              </a:lnSpc>
              <a:spcBef>
                <a:spcPts val="32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ura de bancos, caminos, bermas, ángulos de pendientes del pit, etc.</a:t>
            </a:r>
            <a:endParaRPr b="0" lang="en-US" sz="1300" spc="-1" strike="noStrike">
              <a:solidFill>
                <a:srgbClr val="000000"/>
              </a:solidFill>
              <a:latin typeface="Arial"/>
            </a:endParaRPr>
          </a:p>
          <a:p>
            <a:pPr lvl="2" marL="98748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0 - Diseño y planifica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pit fin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étodos de razones estéril miner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cuencias de fases, etc.</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1 - Whittle</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l progra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resultados que entrega y observaciones sobre el programa</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2 - Evaluación de Flota de Camiones y Pal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es de transp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Nociones de simula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mpos de ciclo</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mpatibilidad de equipos, estimación de productividad</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3 - Selección de equipos y Estimación de la Produc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ano de obr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stimación de rendimien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actor de compati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sponibilidad y Proba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jercicio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4 – Control2 y Planificación de Minas de Largo Plaz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de bloqu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terminación de fas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 stock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lanes de producción</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5 - Planificación Estratégica de Min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financier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 variabl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sa de producción opti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maño de planta y leyes de corte optima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recios e interese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rámetros físicos de diseño, tales com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ude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mpas y Camino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lanificación del programa de extracción de mineral y estéril</a:t>
            </a:r>
            <a:endParaRPr b="0" lang="en-US" sz="2000" spc="-1" strike="noStrike">
              <a:solidFill>
                <a:srgbClr val="000000"/>
              </a:solidFill>
              <a:latin typeface="Arial"/>
            </a:endParaRPr>
          </a:p>
          <a:p>
            <a:pPr lvl="1" marL="692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tituyen una labor ingenieril desafiante y de gran importancia económic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siempre muchas alternativas para crear una mina a rajo abiert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una de éstas resultará en un plan de extracción y flujo de caja distintos.</a:t>
            </a:r>
            <a:endParaRPr b="0" lang="en-US" sz="20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Diagrama de Flujo del Proceso</a:t>
            </a:r>
            <a:endParaRPr b="1" lang="en-US" sz="2400" spc="-1" strike="noStrike">
              <a:solidFill>
                <a:srgbClr val="330066"/>
              </a:solidFill>
              <a:latin typeface="Arial"/>
            </a:endParaRPr>
          </a:p>
        </p:txBody>
      </p:sp>
      <p:pic>
        <p:nvPicPr>
          <p:cNvPr id="162" name="" descr=""/>
          <p:cNvPicPr/>
          <p:nvPr/>
        </p:nvPicPr>
        <p:blipFill>
          <a:blip r:embed="rId1"/>
          <a:stretch/>
        </p:blipFill>
        <p:spPr>
          <a:xfrm>
            <a:off x="2538360" y="1800360"/>
            <a:ext cx="3978360" cy="44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9360">
            <a:solidFill>
              <a:srgbClr val="cccc00"/>
            </a:solidFill>
            <a:miter/>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y el tamaño de las instalaciones son extremadamente importantes para el proceso de diseño final subsiguie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tamaño de la planta procesadora de la chancadora, determinarán la capacidad de producción máxima de la min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capacidad de producción, juega un rol primordial en la determinación del flujo de caj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de afectar toda la estrategia económica de la propiedad minera. </a:t>
            </a:r>
            <a:endParaRPr b="0" lang="en-US" sz="17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de la chancadora y los botaderos, tendrán un mayor efecto en los requerimientos de los sistemas de transporte y los costos operacional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66" name="PlaceHolder 2"/>
          <p:cNvSpPr>
            <a:spLocks noGrp="1"/>
          </p:cNvSpPr>
          <p:nvPr>
            <p:ph/>
          </p:nvPr>
        </p:nvSpPr>
        <p:spPr>
          <a:xfrm>
            <a:off x="324000" y="1719360"/>
            <a:ext cx="411480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Mecánicas o de Cabl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éctricas</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bleado eléctrico</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estaciones</a:t>
            </a:r>
            <a:endParaRPr b="0" lang="en-US" sz="1900" spc="-1" strike="noStrike">
              <a:solidFill>
                <a:srgbClr val="000000"/>
              </a:solidFill>
              <a:latin typeface="Arial"/>
            </a:endParaRPr>
          </a:p>
        </p:txBody>
      </p:sp>
      <p:sp>
        <p:nvSpPr>
          <p:cNvPr id="167" name=""/>
          <p:cNvSpPr/>
          <p:nvPr/>
        </p:nvSpPr>
        <p:spPr>
          <a:xfrm>
            <a:off x="4633920" y="1700280"/>
            <a:ext cx="4114800" cy="441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Hidráulicas</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l</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stos operacionales y de mantenimiento mayores.</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donde la energía no se encuentra disponible a un costo razonable</a:t>
            </a: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68" name="" descr=""/>
          <p:cNvPicPr/>
          <p:nvPr/>
        </p:nvPicPr>
        <p:blipFill>
          <a:blip r:embed="rId1"/>
          <a:stretch/>
        </p:blipFill>
        <p:spPr>
          <a:xfrm>
            <a:off x="250920" y="4653000"/>
            <a:ext cx="2474640" cy="1854000"/>
          </a:xfrm>
          <a:prstGeom prst="rect">
            <a:avLst/>
          </a:prstGeom>
          <a:ln w="0">
            <a:noFill/>
          </a:ln>
        </p:spPr>
      </p:pic>
      <p:pic>
        <p:nvPicPr>
          <p:cNvPr id="169" name="" descr=""/>
          <p:cNvPicPr/>
          <p:nvPr/>
        </p:nvPicPr>
        <p:blipFill>
          <a:blip r:embed="rId2"/>
          <a:stretch/>
        </p:blipFill>
        <p:spPr>
          <a:xfrm>
            <a:off x="2916360" y="4797360"/>
            <a:ext cx="2114280" cy="14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6:58:01Z</dcterms:created>
  <dc:creator>PPV</dc:creator>
  <dc:description/>
  <dc:language>en-US</dc:language>
  <cp:lastModifiedBy>PPV</cp:lastModifiedBy>
  <dcterms:modified xsi:type="dcterms:W3CDTF">2007-09-24T22:11:45Z</dcterms:modified>
  <cp:revision>5</cp:revision>
  <dc:subject/>
  <dc:title>MI58A   Diseño Minas a Cielo Abierto</dc:title>
</cp:coreProperties>
</file>