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7E10-AAD6-41DF-8CE8-5BE16C77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C941-699B-4861-A428-5B7A3A6D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CB87-AF3C-4BD1-912E-D93482CD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0CCE-2C6F-472D-AC6A-70118898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37BD-5ED9-4674-80BA-053CFFB22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6A46-71A1-482C-AA44-335EFB27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55F9-479B-4A52-86E7-BD2DDAC6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F05C-8652-4228-8698-698B2D34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CC93-B4A1-4758-893C-9E1559A4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CC78-1780-494D-9643-33EA649E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6236-4C10-4BCE-8767-0B92BBD5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FF57-529C-4629-9DCF-0CEE5203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266C-DDD1-4841-AE99-E2F29E46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63A4-2D55-4432-A5ED-D7668888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9FC5-963C-441F-A6F5-DE6C7A06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F9A7-552F-4038-BE00-B5CA1972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2168-CEC5-4F3D-A486-291D2D92E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59BB-68FF-41C1-B911-4FCB1638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1D12-D9BC-4CD7-8D9B-8352BC0A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E157-33F3-4DD1-9352-E54ADDEF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A1A8-5285-4DB6-A062-BE56865F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2C65-F63D-431C-90D2-CF111DAE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84F6-791E-4F88-9F76-B736435B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3C58-699E-44BC-A9D3-5781CC62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CB6D-7D69-453A-B088-6C5BCA7CA51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0BB8-649B-4272-A9B9-0413855AB62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376280"/>
            <a:ext cx="66294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330033"/>
                </a:solidFill>
                <a:latin typeface="Times New Roman"/>
              </a:rPr>
              <a:t>Dimensionamiento de Flota de Equipos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58A: Diseño de Minas a Cielo Ab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troducció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mensionamiento de Fl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Gran importancia por su incidencia en los cos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cisión en base a información del fabricante y benchmark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busca optimizar el manejo de recursos involucr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arámetros Clav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vergadura del Proyecto (vida útil, reserv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grama de producción (plan min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ámetros de diseño (malla de perforación, perfiles de transporte, altura de bancos, anchos operacion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cnología disponible (equipos y maquinari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tores operacionales (dias de trabajo, sistema de turnos, indices operacion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s estim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Indices Operacionales (Asarco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mpo Cronoló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ras Inhábiles (H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ras Hábiles (H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Mantención (HM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Reserva (H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Operación (H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Operacionales Efectivas (HE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de Perdida Operacional (HP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dicadores Mecánic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ponibilidad 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DF = (HOP+HRE)/H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dice de Uti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UT = HOP/(HOP+HR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ctor Oper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FO = HEF/HO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ndimiento Efe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2300" spc="-1" strike="noStrike" baseline="-25000">
                <a:solidFill>
                  <a:srgbClr val="000000"/>
                </a:solidFill>
                <a:latin typeface="Arial"/>
              </a:rPr>
              <a:t>ef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s-ES_tradnl" sz="2300" spc="-1" strike="noStrike" baseline="-25000">
                <a:solidFill>
                  <a:srgbClr val="000000"/>
                </a:solidFill>
                <a:latin typeface="Arial"/>
              </a:rPr>
              <a:t>teo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*UT*DF*F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Dimensionamiento de Flota</a:t>
            </a:r>
            <a:br>
              <a:rPr sz="3800"/>
            </a:br>
            <a:r>
              <a:rPr b="0" lang="es-ES_tradnl" sz="3400" spc="-1" strike="noStrike">
                <a:solidFill>
                  <a:srgbClr val="330033"/>
                </a:solidFill>
                <a:latin typeface="Times New Roman"/>
              </a:rPr>
              <a:t>Perforación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nelaje por Tiro (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= B*E*H*de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nelaje por Metro Barrenado (ton/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Arial"/>
              </a:rPr>
              <a:t>mb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= 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/(H+P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ros Barrenados Requeridos por día (mb/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BD = TPD / 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Arial"/>
              </a:rPr>
              <a:t>m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ndimiento Equipo de Perforación (mb/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 = VPteo*DF*UT*FO*24*f(roc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úmero de Equipos Neces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N = MBD/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Dimensionamiento de Flota</a:t>
            </a:r>
            <a:br>
              <a:rPr sz="4200"/>
            </a:br>
            <a:r>
              <a:rPr b="0" lang="es-ES_tradnl" sz="3400" spc="-1" strike="noStrike">
                <a:solidFill>
                  <a:srgbClr val="330033"/>
                </a:solidFill>
                <a:latin typeface="Times New Roman"/>
              </a:rPr>
              <a:t>Carguío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936800"/>
            <a:ext cx="77724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nelaje por Palada (ton/pal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p = Vbalde*Fllenado*dens /(1 + %esponjamiento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ndimiento Equipo de Carguío (ton/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 = Cp*DF*UT*FO*24*f(roca)/TCcarguí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úmero de Equipos de Cargu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N = TPD/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Dimensionamiento de Flota</a:t>
            </a:r>
            <a:br>
              <a:rPr sz="4200"/>
            </a:br>
            <a:r>
              <a:rPr b="0" lang="es-ES_tradnl" sz="3400" spc="-1" strike="noStrike">
                <a:solidFill>
                  <a:srgbClr val="330033"/>
                </a:solidFill>
                <a:latin typeface="Times New Roman"/>
              </a:rPr>
              <a:t>Transporte (Camión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mpo de Ciclo de Transporte (ho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TCtrans = Tdesc + Tvv + Tmanc + TCcarguio + Tvc +Tman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mpo de Viaje (ho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Tviaje = (L/V)cargado&amp;pendiente + (L/V)cargado&amp;horizontal + (L/V)descargado&amp;horizontal +(L/V)descargado&amp;pendie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ndimiento Equipo de Transporte (ton/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 = Npaladas*Cp*FLL*DF*UT*FO*24 / TCtra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LL = Npaladas*Cp / Ccam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úmero de Cam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N = TPD / 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nsideraciones Fina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quilibrio entre capacidad de carguío y capacidad de transpo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fecto Diseño M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erfiles de Transporte (Rendimient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Fases activas por período (Flexibilidad Operacional Requerid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tros métodos de dimensionamiento (modelación matemática-simulación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21:44:46Z</dcterms:created>
  <dc:creator>karina</dc:creator>
  <dc:description/>
  <dc:language>en-US</dc:language>
  <cp:lastModifiedBy>PPV</cp:lastModifiedBy>
  <dcterms:modified xsi:type="dcterms:W3CDTF">2007-08-20T22:03:58Z</dcterms:modified>
  <cp:revision>20</cp:revision>
  <dc:subject/>
  <dc:title>Dimensionamiento de Flota de Equipos</dc:title>
</cp:coreProperties>
</file>