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D60D-6AF0-4B22-8A5A-30D59F6A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E30A-35F2-43C1-87EC-BDB8E6F10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B48C-6AE2-4C4C-A6FD-7F5B5FE0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29EC-5D48-4C85-A821-5807BC0A5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7343-A135-42D3-AD82-4A8EDF5E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1C3AD-1F5E-4356-97B7-278B704B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D30F0-3EFD-4895-939D-D6660F7D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7754E-3D0A-4C09-85AA-FAEA7FD10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3FC7C-2D20-46C4-BDAE-7BF9E77A6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3DEB7-3FB5-47C2-A51D-E0116BA2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B5562-F723-4C17-A320-27F31910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7FA7F-3A96-4012-B749-E3E0293BB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FCB8-A6A5-4757-BD10-769BB5D5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A023-70FE-4A5B-8163-16DDE13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3C8F2-38DC-4E1F-B4F8-5DBA5AE0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AA80-A9E9-4393-B482-A82434D5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CBF9-89FC-4D4E-91EB-D166896CE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BA7D-F4F4-4927-9E93-8C133CBD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7F18-885D-45CF-817E-E08847C9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366C-B3A0-40FB-8357-85196A526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BBDF-B111-4EB3-AA62-CD9101D2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0598-A8E8-4C1A-BB49-DE62C823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772C-82A7-48BF-AB37-88E694E87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587-DF62-4B2F-918A-D0F21825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71C48-4F62-4239-BCC2-D525AA360888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0B44-B45E-4106-B4F7-558D5361B036}" type="slidenum">
              <a:rPr b="0" lang="es-E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376280"/>
            <a:ext cx="6629400" cy="17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330033"/>
                </a:solidFill>
                <a:latin typeface="Times New Roman"/>
              </a:rPr>
              <a:t>Dimensionamiento de Flota de Equipos</a:t>
            </a:r>
            <a:endParaRPr b="0" lang="en-US" sz="5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58A: Diseño de Minas a Cielo Ab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troducción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mensionamiento de F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Gran importancia por su incidencia en los cost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Decisión en base a información del fabricante y benchmarking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Se busca optimizar el manejo de recursos involucrad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arámetros Clav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vergadura del Proyecto (vida útil, reserv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grama de producción (plan mine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ámetros de diseño (malla de perforación, perfiles de transporte, altura de bancos, ancho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 disponible (equipos y maquinari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tores operacionales (dias de trabajo, sistema de turnos, indices operaciona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stos estim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Indices Operacionales (Asarco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empo Cron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Inhábiles (H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ras Hábiles (HH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Mantención (HM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Reserva (H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ón (HO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Operacionales Efectivas (H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ras de Perdida Operacional (HP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Indicadores Mecánico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sponibilidad Fís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DF = (HOP+HRE)/H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dice de Uti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UT = HOP/(HOP+HRE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ctor Oper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O = HEF/HO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ndimiento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0" lang="es-ES_tradnl" sz="2300" spc="-1" strike="noStrike" baseline="-25000">
                <a:solidFill>
                  <a:srgbClr val="000000"/>
                </a:solidFill>
                <a:latin typeface="Arial"/>
              </a:rPr>
              <a:t>teo</a:t>
            </a: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*UT*DF*FO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38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Perforación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Tiro (t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 = B*E*H*de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Metro Barrenado (ton/m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=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t </a:t>
            </a: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/(H+P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etros Barrenados Requeridos por día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MBD = TPD / T</a:t>
            </a:r>
            <a:r>
              <a:rPr b="0" lang="es-ES_tradnl" sz="2100" spc="-1" strike="noStrike" baseline="-25000">
                <a:solidFill>
                  <a:srgbClr val="000000"/>
                </a:solidFill>
                <a:latin typeface="Arial"/>
              </a:rPr>
              <a:t>m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Perforación (mb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VPteo*DF*UT*FO*24*f(roca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Neces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MB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Carguío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936800"/>
            <a:ext cx="7772400" cy="36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nelaje por Palada (ton/pal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Cp = Vbalde*Fllenado*dens /(1 + %esponjamiento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Carguío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Cp*DF*UT*FO*24*f(roca)/TCcarguí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Equipos de Carguí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/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330033"/>
                </a:solidFill>
                <a:latin typeface="Times New Roman"/>
              </a:rPr>
              <a:t>Dimensionamiento de Flota</a:t>
            </a:r>
            <a:br>
              <a:rPr sz="4200"/>
            </a:br>
            <a:r>
              <a:rPr b="0" lang="es-ES_tradnl" sz="3400" spc="-1" strike="noStrike">
                <a:solidFill>
                  <a:srgbClr val="330033"/>
                </a:solidFill>
                <a:latin typeface="Times New Roman"/>
              </a:rPr>
              <a:t>Transporte (Camión)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Ciclo de Transport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Ctrans = Tdesc + Tvv + Tmanc + TCcarguio + Tvc +Tman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iempo de Viaje (hor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Tviaje = (L/V)cargado&amp;pendiente + (L/V)cargado&amp;horizontal + (L/V)descargado&amp;horizontal +(L/V)descargado&amp;pendient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ndimiento Equipo de Transporte (ton/dí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R = Npaladas*Cp*FLL*DF*UT*FO*24 / TCtra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FLL = Npaladas*Cp / Ccam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úmero de Cam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Arial"/>
              </a:rPr>
              <a:t>N = TPD / R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nsideraciones Fina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quilibrio entre capacidad de carguío y capacidad de transpor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fecto Diseño Min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Perfiles de Transporte (Rendimiento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Arial"/>
              </a:rPr>
              <a:t>Fases activas por período (Flexibilidad Operacional Requerid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os métodos de dimensionamiento (modelación matemática-simulación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8T21:44:46Z</dcterms:created>
  <dc:creator>karina</dc:creator>
  <dc:description/>
  <dc:language>en-US</dc:language>
  <cp:lastModifiedBy>PPV</cp:lastModifiedBy>
  <dcterms:modified xsi:type="dcterms:W3CDTF">2007-08-20T22:03:58Z</dcterms:modified>
  <cp:revision>20</cp:revision>
  <dc:subject/>
  <dc:title>Dimensionamiento de Flota de Equipos</dc:title>
</cp:coreProperties>
</file>