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FCB-F016-4A33-A955-4E02B978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40C7-D052-4F16-83F6-65993314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1031-4A20-43DF-8B66-25CDCA2E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C2B2-05F7-4D6F-B5FB-5E2B3FB2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5CA9-BBA1-4554-89CB-7C245AF5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4C37-DEA1-4AC7-92A3-9B5E89D3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6682-4A7B-421E-B7D7-4F1DFCB7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41DF-124F-47F2-965F-D062C572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5E84-A749-44FF-9FFC-BBA4640E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A6E6-56AE-4EE6-9767-7F7CC93C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919F-1497-4024-AFFB-7883B3C3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E4EA-95B8-48D4-84AA-252DDBF7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487B-F7D9-4A5F-9AC3-BA8469F2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AD2A-44BB-4AF6-AEBA-413AC878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DAC4-BF00-44EB-8C60-9CE38548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4000-9F73-490A-B82B-1F0CAF6F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4177-030C-4610-A3FF-7DC1E677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121D-409C-4AD6-9CC6-B8C9A14D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B721-E7AF-4F19-BDCF-F6E01A6D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54F5-CE9C-4E2A-B795-BCCD499B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1D3-3BE6-41E1-9624-155CB4A2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436E-FE74-4350-BF2B-287D74FF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B0FE-078B-4610-BA36-E37D7F54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6D6F-C38E-46D6-AAAC-851C8959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0338-79BA-421A-9F05-CCAC4451B7E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44F6-0357-4EF7-AEF9-F87A94B45259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376280"/>
            <a:ext cx="66294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330033"/>
                </a:solidFill>
                <a:latin typeface="Times New Roman"/>
              </a:rPr>
              <a:t>Dimensionamiento de Flota de Equipos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58A: Diseño de Minas a Cielo Ab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troducció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mensionamiento de Fl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Gran importancia por su incidencia en los cos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cisión en base a información del fabricante y benchmark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busca optimizar el manejo de recursos involucr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arámetros Clav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vergadura del Proyecto (vida útil, reserv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grama de producción (plan min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ámetros de diseño (malla de perforación, perfiles de transporte, altura de bancos, anchos operacion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cnología disponible (equipos y maquinari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tores operacionales (dias de trabajo, sistema de turnos, indices operacion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s estim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Indices Operacionales (Asarco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mpo Cronoló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ras Inhábiles (H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ras Hábiles (H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Mantención (HM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Reserva (H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Operación (H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Operacionales Efectivas (HE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de Perdida Operacional (HP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dicadores Mecánic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ponibilidad 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DF = (HOP+HRE)/H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dice de Uti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UT = HOP/(HOP+HR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ctor Oper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FO = HEF/HO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ndimiento Efe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2300" spc="-1" strike="noStrike" baseline="-25000">
                <a:solidFill>
                  <a:srgbClr val="000000"/>
                </a:solidFill>
                <a:latin typeface="Arial"/>
              </a:rPr>
              <a:t>ef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s-ES_tradnl" sz="2300" spc="-1" strike="noStrike" baseline="-25000">
                <a:solidFill>
                  <a:srgbClr val="000000"/>
                </a:solidFill>
                <a:latin typeface="Arial"/>
              </a:rPr>
              <a:t>teo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*UT*DF*F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Dimensionamiento de Flota</a:t>
            </a:r>
            <a:br>
              <a:rPr sz="3800"/>
            </a:br>
            <a:r>
              <a:rPr b="0" lang="es-ES_tradnl" sz="3400" spc="-1" strike="noStrike">
                <a:solidFill>
                  <a:srgbClr val="330033"/>
                </a:solidFill>
                <a:latin typeface="Times New Roman"/>
              </a:rPr>
              <a:t>Perforación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nelaje por Tiro (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= B*E*H*de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nelaje por Metro Barrenado (ton/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Arial"/>
              </a:rPr>
              <a:t>mb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= 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/(H+P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ros Barrenados Requeridos por día (mb/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BD = TPD / 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Arial"/>
              </a:rPr>
              <a:t>m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ndimiento Equipo de Perforación (mb/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 = VPteo*DF*UT*FO*24*f(roc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úmero de Equipos Neces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N = MBD/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Dimensionamiento de Flota</a:t>
            </a:r>
            <a:br>
              <a:rPr sz="4200"/>
            </a:br>
            <a:r>
              <a:rPr b="0" lang="es-ES_tradnl" sz="3400" spc="-1" strike="noStrike">
                <a:solidFill>
                  <a:srgbClr val="330033"/>
                </a:solidFill>
                <a:latin typeface="Times New Roman"/>
              </a:rPr>
              <a:t>Carguío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936800"/>
            <a:ext cx="77724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nelaje por Palada (ton/pal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p = Vbalde*Fllenado*dens /(1 + %esponjamiento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ndimiento Equipo de Carguío (ton/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 = Cp*DF*UT*FO*24*f(roca)/TCcarguí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úmero de Equipos de Cargu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N = TPD/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Dimensionamiento de Flota</a:t>
            </a:r>
            <a:br>
              <a:rPr sz="4200"/>
            </a:br>
            <a:r>
              <a:rPr b="0" lang="es-ES_tradnl" sz="3400" spc="-1" strike="noStrike">
                <a:solidFill>
                  <a:srgbClr val="330033"/>
                </a:solidFill>
                <a:latin typeface="Times New Roman"/>
              </a:rPr>
              <a:t>Transporte (Camión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mpo de Ciclo de Transporte (ho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TCtrans = Tdesc + Tvv + Tmanc + TCcarguio + Tvc +Tman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mpo de Viaje (ho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Tviaje = (L/V)cargado&amp;pendiente + (L/V)cargado&amp;horizontal + (L/V)descargado&amp;horizontal +(L/V)descargado&amp;pendie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ndimiento Equipo de Transporte (ton/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 = Npaladas*Cp*FLL*DF*UT*FO*24 / TCtra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LL = Npaladas*Cp / Ccam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úmero de Cam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N = TPD / 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nsideraciones Fina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quilibrio entre capacidad de carguío y capacidad de transpo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fecto Diseño M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erfiles de Transporte (Rendimient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Fases activas por período (Flexibilidad Operacional Requerid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tros métodos de dimensionamiento (modelación matemática-simulación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21:44:46Z</dcterms:created>
  <dc:creator>karina</dc:creator>
  <dc:description/>
  <dc:language>en-US</dc:language>
  <cp:lastModifiedBy>PPV</cp:lastModifiedBy>
  <dcterms:modified xsi:type="dcterms:W3CDTF">2007-08-20T22:03:58Z</dcterms:modified>
  <cp:revision>20</cp:revision>
  <dc:subject/>
  <dc:title>Dimensionamiento de Flota de Equipos</dc:title>
</cp:coreProperties>
</file>