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34C-E27F-467D-AA89-3D17D3B6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06E-113C-4EA3-932B-9898E598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176-82A0-4787-B800-C4531E42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C82-1157-4DE4-A875-A1C8F5DD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615-0D3E-4212-BCBA-32AEEA2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55F-34DA-4CBD-9761-5625C95C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4C7-7BBE-4EE1-985B-3A12F89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E9E-3E15-4A1C-AD2C-836AC4A4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345-DE97-4BB7-930B-863EC00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11F-F246-437A-A513-2698F64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7EE-8C7F-42F5-B855-EB10BD2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1A2-2186-40E3-91EE-4154D9FE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522-D7D7-4235-AAD5-3614E072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43080" y="328680"/>
            <a:ext cx="4857840" cy="620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2120" y="1152360"/>
            <a:ext cx="5819760" cy="45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286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152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228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22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mite definir multiples plo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4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228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152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Alberto Ramirez</cp:lastModifiedBy>
  <dcterms:modified xsi:type="dcterms:W3CDTF">2007-08-08T17:35:20Z</dcterms:modified>
  <cp:revision>1</cp:revision>
  <dc:subject/>
  <dc:title>Slide 1</dc:title>
</cp:coreProperties>
</file>