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53D-9984-4287-AE8A-6CC0501B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A85-5CEB-4EF5-8D24-B04AC9C3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D92-120E-4DE3-B708-6C8CA795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6E4-20F4-4E49-BE34-77B7B81E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8676-D155-4B93-B680-D98DB346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8312-C380-495E-9296-6DDAFAF8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F5A9-9187-427D-941D-0CF2D729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EA02-5E9D-44B3-8498-0A0F595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A417-D988-40B5-AC2D-F8E578A6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F6CF-3825-433E-99AE-8F82C4EA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B377-53DC-4113-A901-45710468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8D1-7841-47D9-B39C-CF0BA154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7E0C-BCB6-4249-BB88-C1B1162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3AD0-1DEA-406E-BA89-FD59ADB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2BAB-40EE-434E-AB14-F0E6001B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B422-6D5C-4479-B935-D0230EED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0A05-7718-49AA-B8D9-3DD257BB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7E8-0F92-4B8D-876A-E31D058A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F18-A60B-4842-AB0C-EF3FF07D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CB9-D929-425A-B89D-6E0EABCE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9DC-F556-405A-BC7B-F3C7C038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28C-1795-4C28-8F7A-E77F8850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F2E-5B50-4DE2-9550-A7E2B916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62F-BCF2-492E-9689-061CF4D6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C4C6-B4A5-4BA4-968C-61A2720D4C0B}" type="slidenum">
              <a:rPr b="0" lang="es-E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4957-6661-478B-A3AF-14CE5A203E78}" type="slidenum">
              <a:rPr b="0" lang="es-E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strucciones Básicas para Plotear de Plantas y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Estas son las instrucciones básicas para poder plotear plantas y perfiles en VULCA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Las envió Sebastián Zamudio esta mañan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Instrucciones mas detalladas y con el significado de cada termino y campo en el programa las pueden encontrar en la ayuda de VULCA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562880" cy="4776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685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finir el modelo de bloques y la variable y esquema a utiliz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096320" cy="4481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685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cionar que bloques pueden ser usados (en este caso cu &gt; 0.2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nalmente en File &gt; Plot &gt; Plot Existing Files, encuentran las plantas en formato *.dhq. Al seleccionar una, entran a la utilidad de ploteo, donde ya pueden imprim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1722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43080" y="1676520"/>
            <a:ext cx="3801960" cy="485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8524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sa el menú File – Plot – Batch Plott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62120" y="2076480"/>
            <a:ext cx="5819760" cy="455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8380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leccionar “Load an existing spec file”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81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90720" y="838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a definir el tamaño del pap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685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finir la planta y la extensión, también se puede definir la secció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467840" cy="4716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3000" y="762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92929"/>
                </a:solidFill>
                <a:latin typeface="Arial"/>
              </a:rPr>
              <a:t>Permite definir múltiples plote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391160" cy="466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838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rega las grill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400880" cy="4674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762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spaciamiento de las grill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24560" cy="462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762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92929"/>
                </a:solidFill>
                <a:latin typeface="Arial"/>
              </a:rPr>
              <a:t>Definir la topo para que aparezca en el plote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7:35:02Z</dcterms:created>
  <dc:creator>Alberto Ramirez</dc:creator>
  <dc:description/>
  <dc:language>en-US</dc:language>
  <cp:lastModifiedBy>Ing Minas</cp:lastModifiedBy>
  <dcterms:modified xsi:type="dcterms:W3CDTF">2007-08-09T12:28:24Z</dcterms:modified>
  <cp:revision>2</cp:revision>
  <dc:subject/>
  <dc:title>Slide 1</dc:title>
</cp:coreProperties>
</file>