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79F6-530E-4839-8615-3383DB85A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58DF-0F3A-4C1B-B4DB-014DBB01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024D-A935-4508-AB09-CB3336758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3A0D-8100-4B9C-B565-32CCE5E57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68EB-7132-4FB7-814F-7B366DA96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8C61-962A-4A41-A325-8EE35946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001D-3466-437A-9F95-E0EB6B36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5705-7678-4003-B7CC-71DE8B94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44F7-3F96-4953-A9CB-AD3A92DB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CB32-5B0A-4E66-9DB8-55681338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568F-04C4-4FE5-A26D-9EE2883E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6B5C-F17D-436B-9E98-9F834595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5419-F7C4-43C5-885D-0C459F9F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BE9F-1837-44F6-B406-D6DBD8D1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4D57-1F4F-4C47-855F-B2F3CA9D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1303-A7B0-4D38-BB14-CB64E0CEB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9C0B-4327-4B04-850F-D795CEF93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D7C1-8749-4EFC-9A11-CA14A214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7DF0-93F3-4E6F-A815-B650043C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518F-6203-4C77-AE91-380FC4B8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6587-5631-4FD6-92B3-781AADDE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3A08-6A8F-4717-A03B-4C37523B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3550-562E-47DF-B348-8C37B7E7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979B-15C3-48D7-A36F-B3EABF89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D427-20CC-4534-A9D6-C7FFCFAD5CAB}" type="slidenum">
              <a:rPr b="0" lang="es-E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44EE-FA96-417E-A289-63113624B2B9}" type="slidenum">
              <a:rPr b="0" lang="es-E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nstrucciones Básicas para Plotear de Plantas y Per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Estas son las instrucciones básicas para poder plotear plantas y perfiles en VULCAN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Las envió Sebastián Zamudio esta mañana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Instrucciones mas detalladas y con el significado de cada termino y campo en el programa las pueden encontrar en la ayuda de VULCAN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562880" cy="4776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143000" y="6858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Definir el modelo de bloques y la variable y esquema a utiliza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096320" cy="4481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219320" y="6858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ondicionar que bloques pueden ser usados (en este caso cu &gt; 0.2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Finalmente en File &gt; Plot &gt; Plot Existing Files, encuentran las plantas en formato *.dhq. Al seleccionar una, entran a la utilidad de ploteo, donde ya pueden imprimi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172200" cy="44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143080" y="1676520"/>
            <a:ext cx="3801960" cy="4852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371600" y="85248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Usa el menú File – Plot – Batch Plotting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62120" y="2076480"/>
            <a:ext cx="5819760" cy="4552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38080" y="8380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eleccionar “Load an existing spec file”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620120" cy="481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90720" y="8380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ara definir el tamaño del pap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4572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66680" y="6858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Definir la planta y la extensión, también se puede definir la secció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467840" cy="4716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143000" y="7621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92929"/>
                </a:solidFill>
                <a:latin typeface="Arial"/>
              </a:rPr>
              <a:t>Permite definir múltiples ploteo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391160" cy="4668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066680" y="8380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grega las grilla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400880" cy="4674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7621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spaciamiento de las grilla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324560" cy="4626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219320" y="7621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92929"/>
                </a:solidFill>
                <a:latin typeface="Arial"/>
              </a:rPr>
              <a:t>Definir la topo para que aparezca en el plote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17:35:02Z</dcterms:created>
  <dc:creator>Alberto Ramirez</dc:creator>
  <dc:description/>
  <dc:language>en-US</dc:language>
  <cp:lastModifiedBy>Ing Minas</cp:lastModifiedBy>
  <dcterms:modified xsi:type="dcterms:W3CDTF">2007-08-09T12:28:24Z</dcterms:modified>
  <cp:revision>2</cp:revision>
  <dc:subject/>
  <dc:title>Slide 1</dc:title>
</cp:coreProperties>
</file>