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58A-74F8-447B-8ADE-721DD1B9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E80-15C5-4974-B315-D80BEFA5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4BD-F9F4-4AE1-8629-595ABD7B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55C-6F24-4761-9635-5BDA8C11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16EA-86EC-4583-A37B-EA12E522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F0BC-E477-44B6-B0A6-CCF4DB4B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E147-251D-4B99-B8D9-D96843F7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0854-1255-4798-8530-0CAB557F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6010-22FE-4843-B708-31FB9142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391B-648B-4CA5-A495-868819FC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3DDE-DDC6-43E1-93B4-64C55165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FE3-BDE3-40E8-A5DA-228EEF02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FE65-106F-44EF-BE85-4F45DC99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C4A1-6936-416F-90A0-5566776D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8581-B7C7-48BC-8418-6C4D7A7E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975B-93BA-4EB1-AA0B-9060B12D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D9EC-CCDC-4960-BC25-516F3AF0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B32-81AA-45BE-991D-46C454FE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9C7-A663-403C-97CB-2F733105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15E-5904-48B5-8EFC-80E8476B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397-2E91-4AE6-B2A8-C98C2A5D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70C-3312-4C0E-A7D4-2C8C9F32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232-EE2F-4DDC-B3A1-7CDC4DEB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E45-FDFB-42F2-A417-6341C86D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4C18-32E3-44C6-9875-EE662BDF0FEE}" type="slidenum">
              <a:rPr b="0" lang="es-E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9202-4474-414C-B473-36723891B0B5}" type="slidenum">
              <a:rPr b="0" lang="es-E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strucciones Básicas para Plotear de Plantas y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Estas son las instrucciones básicas para poder plotear plantas y perfiles en VULCA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Las envió Sebastián Zamudio esta mañan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Instrucciones mas detalladas y con el significado de cada termino y campo en el programa las pueden encontrar en la ayuda de VULCA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562880" cy="4776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43000" y="685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finir el modelo de bloques y la variable y esquema a utiliz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096320" cy="4481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685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cionar que bloques pueden ser usados (en este caso cu &gt; 0.2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nalmente en File &gt; Plot &gt; Plot Existing Files, encuentran las plantas en formato *.dhq. Al seleccionar una, entran a la utilidad de ploteo, donde ya pueden imprim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1722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43080" y="1676520"/>
            <a:ext cx="3801960" cy="4852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71600" y="8524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sa el menú File – Plot – Batch Plott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62120" y="2076480"/>
            <a:ext cx="5819760" cy="455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8380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leccionar “Load an existing spec file”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81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90720" y="8380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ra definir el tamaño del pap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685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finir la planta y la extensión, también se puede definir la secció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467840" cy="4716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43000" y="762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92929"/>
                </a:solidFill>
                <a:latin typeface="Arial"/>
              </a:rPr>
              <a:t>Permite definir múltiples plote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391160" cy="466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66680" y="838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rega las grill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400880" cy="4674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762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spaciamiento de las grill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24560" cy="462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9320" y="7621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92929"/>
                </a:solidFill>
                <a:latin typeface="Arial"/>
              </a:rPr>
              <a:t>Definir la topo para que aparezca en el plote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7:35:02Z</dcterms:created>
  <dc:creator>Alberto Ramirez</dc:creator>
  <dc:description/>
  <dc:language>en-US</dc:language>
  <cp:lastModifiedBy>Ing Minas</cp:lastModifiedBy>
  <dcterms:modified xsi:type="dcterms:W3CDTF">2007-08-09T12:28:24Z</dcterms:modified>
  <cp:revision>2</cp:revision>
  <dc:subject/>
  <dc:title>Slide 1</dc:title>
</cp:coreProperties>
</file>