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418-61A3-40B9-BBF2-3B64775C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1B4-B918-4FED-87A4-F63D3254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A8A-F1F2-4D00-9E7B-30610937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788-58C9-456F-8CFB-83E82736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C21-17DB-4065-A28A-0BC36C20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AFF-A517-4837-98B8-77E397C0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970-E528-4B7F-8D1B-8AD508F3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1DB-A547-48EF-AC8D-F37A7B10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843-D84D-468E-AEC8-DCD0244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23C-0F5C-4BA2-9570-D958E91A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6BE-330A-4C8E-BEEA-974AA9EE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308-7502-4FAC-BCF9-864302A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42A1-2868-46DE-B9C2-8294AEA78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43080" y="328680"/>
            <a:ext cx="4857840" cy="620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 el menú File – Plot – Batch Plo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0" y="228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cionar que bloques pueden ser usados (en este caso cu &gt; 0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62120" y="1152360"/>
            <a:ext cx="5819760" cy="455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286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“Load an existing spec f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152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definir el tamaño del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5120" y="228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la planta y la extensión, también se puede definir la 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8280" y="22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mite definir multiples plot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304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ga las g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512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ciamiento de las g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2286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la topo para que aparezca en el plot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7840" y="824040"/>
            <a:ext cx="8248320" cy="520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1080" y="152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el modelo de bloques y la variable y esquema a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7:35:02Z</dcterms:created>
  <dc:creator>Alberto Ramirez</dc:creator>
  <dc:description/>
  <dc:language>en-US</dc:language>
  <cp:lastModifiedBy>Alberto Ramirez</cp:lastModifiedBy>
  <dcterms:modified xsi:type="dcterms:W3CDTF">2007-08-08T17:35:20Z</dcterms:modified>
  <cp:revision>1</cp:revision>
  <dc:subject/>
  <dc:title>Slide 1</dc:title>
</cp:coreProperties>
</file>