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C66-4656-46C1-BDC7-18D29A40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08E-5A5D-44FD-89D6-FE491F78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AD3-47AF-447D-9D0C-764C84D9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2C9-D70E-4ABA-9D74-13CBA19D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0B6-4511-4215-B131-3FF2BD28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63F-FEB4-4941-8894-EE1857A2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0A7-86AC-4A4E-8DF1-FB8B5528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E2F-82FB-4880-9C93-BDC1EA1E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E62-3B35-4AA0-BCE1-411376C7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799-E343-430D-966E-012E5746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D7E-2D19-4DDA-A744-6CC9730B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419-4865-4AE0-AED2-72C4E7B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5249-D075-4138-B236-B44521E3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43080" y="328680"/>
            <a:ext cx="4857840" cy="620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335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 el menú File – Plot – Batch Plo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0" y="228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cionar que bloques pueden ser usados (en este caso cu &gt; 0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62120" y="1152360"/>
            <a:ext cx="5819760" cy="455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2286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“Load an existing spec fi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152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definir el tamaño del 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5120" y="2286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la planta y la extensión, también se puede definir la 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38280" y="22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mite definir multiples plot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28800" y="304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ga las g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512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ciamiento de las g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2286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la topo para que aparezca en el plot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1080" y="152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el modelo de bloques y la variable y esquema a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7:35:02Z</dcterms:created>
  <dc:creator>Alberto Ramirez</dc:creator>
  <dc:description/>
  <dc:language>en-US</dc:language>
  <cp:lastModifiedBy>Alberto Ramirez</cp:lastModifiedBy>
  <dcterms:modified xsi:type="dcterms:W3CDTF">2007-08-08T17:35:20Z</dcterms:modified>
  <cp:revision>1</cp:revision>
  <dc:subject/>
  <dc:title>Slide 1</dc:title>
</cp:coreProperties>
</file>