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E578-60A6-4273-9A84-59184004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9B5D-AC4A-461D-91FA-9265CAC9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9660-05C0-44DB-AD07-FD21CAC1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6028-3D62-4354-9733-F80DBE7D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57DB-13FE-42C4-B462-8C079FCE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54DC-00E4-4388-8784-DA1B0729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DB2A-F5BD-4F7C-95D4-081F5A21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E713-E642-49BE-92A6-AF8D24E0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9B26-FFDE-4F3B-9241-8C2DD1DE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D8A2-EDF3-498D-A2E0-B802B96D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6F57-B1A9-4A23-801D-5B1BC07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58DD-D936-4E94-B07E-70EEE936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095E-04BA-4A00-862A-A2643CD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9BA6-DC45-4652-BB22-3A00FA64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B3BC-8F2C-4F50-8260-B8BE770B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8F1F-E07E-4F0F-87D7-F7443AE3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B1D9-3758-4938-BD99-2DE7206C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87AA-96D6-4A90-8496-222704E3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CBD5-2FAD-4FEF-88F1-F391BCA5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0E7B-29FB-4440-8502-C305823A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F409-D7F9-4436-9F19-D6C3ED07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A45B-614F-42A1-94E1-C428C2FA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D06B8-2035-4F99-B684-C982BAB7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8115-6318-4C78-B505-710D511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66D5-161E-4532-ADA1-FA8D4A00D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09F9-FF29-4F46-96EC-29FD8FA40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as en minería subterrán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724280"/>
            <a:ext cx="60199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f.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308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2592360" cy="1784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95280" y="4653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umáticas sobre oru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572000" y="2708280"/>
            <a:ext cx="2881440" cy="2874600"/>
            <a:chOff x="4572000" y="2708280"/>
            <a:chExt cx="2881440" cy="2874600"/>
          </a:xfrm>
        </p:grpSpPr>
        <p:pic>
          <p:nvPicPr>
            <p:cNvPr id="383" name="" descr=""/>
            <p:cNvPicPr/>
            <p:nvPr/>
          </p:nvPicPr>
          <p:blipFill>
            <a:blip r:embed="rId3"/>
            <a:stretch/>
          </p:blipFill>
          <p:spPr>
            <a:xfrm>
              <a:off x="4572000" y="2708280"/>
              <a:ext cx="288144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859280" y="4940280"/>
              <a:ext cx="21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 sobre rue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826920" y="1557360"/>
            <a:ext cx="66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orporan un pequeño balde para transporte desde la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jora el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87640" y="306864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2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4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onsumo de aire 15 m3/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15280" y="2852640"/>
            <a:ext cx="1728720" cy="21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125-5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- 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0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car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36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623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ISTEMAS DE CARGU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 montadas sobre rie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Descripción del siste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Calculo de rendimient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mecánicas autocargado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montadas sobre orug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auto-cargador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2 Título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n evolucionado desde 1930 y tuvieron su mayor desarrollo en los 70´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ácticamente obsoletas sin embargo conviene conocer el concepto detrás de su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objetivo es el de cargar el mineral y transportarlo distancias co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velocidad de desplazamiento es 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perador opera a un lado de la 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EimcoB21"/>
          <p:cNvPicPr/>
          <p:nvPr/>
        </p:nvPicPr>
        <p:blipFill>
          <a:blip r:embed="rId2"/>
          <a:stretch/>
        </p:blipFill>
        <p:spPr>
          <a:xfrm>
            <a:off x="900000" y="1628640"/>
            <a:ext cx="2343240" cy="174168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5"/>
          <p:cNvGrpSpPr/>
          <p:nvPr/>
        </p:nvGrpSpPr>
        <p:grpSpPr>
          <a:xfrm>
            <a:off x="1403280" y="3933720"/>
            <a:ext cx="6215040" cy="1924200"/>
            <a:chOff x="1403280" y="3933720"/>
            <a:chExt cx="6215040" cy="1924200"/>
          </a:xfrm>
        </p:grpSpPr>
        <p:grpSp>
          <p:nvGrpSpPr>
            <p:cNvPr id="116" name="Group 6"/>
            <p:cNvGrpSpPr/>
            <p:nvPr/>
          </p:nvGrpSpPr>
          <p:grpSpPr>
            <a:xfrm>
              <a:off x="1403280" y="3933720"/>
              <a:ext cx="6215040" cy="1924200"/>
              <a:chOff x="1403280" y="3933720"/>
              <a:chExt cx="6215040" cy="1924200"/>
            </a:xfrm>
          </p:grpSpPr>
          <p:grpSp>
            <p:nvGrpSpPr>
              <p:cNvPr id="117" name="Group 7"/>
              <p:cNvGrpSpPr/>
              <p:nvPr/>
            </p:nvGrpSpPr>
            <p:grpSpPr>
              <a:xfrm>
                <a:off x="5061240" y="3933720"/>
                <a:ext cx="2327400" cy="1911240"/>
                <a:chOff x="5061240" y="3933720"/>
                <a:chExt cx="2327400" cy="1911240"/>
              </a:xfrm>
            </p:grpSpPr>
            <p:grpSp>
              <p:nvGrpSpPr>
                <p:cNvPr id="118" name="Group 8"/>
                <p:cNvGrpSpPr/>
                <p:nvPr/>
              </p:nvGrpSpPr>
              <p:grpSpPr>
                <a:xfrm>
                  <a:off x="5061240" y="3933720"/>
                  <a:ext cx="2159280" cy="1542240"/>
                  <a:chOff x="5061240" y="3933720"/>
                  <a:chExt cx="2159280" cy="1542240"/>
                </a:xfrm>
              </p:grpSpPr>
              <p:grpSp>
                <p:nvGrpSpPr>
                  <p:cNvPr id="119" name="Group 9"/>
                  <p:cNvGrpSpPr/>
                  <p:nvPr/>
                </p:nvGrpSpPr>
                <p:grpSpPr>
                  <a:xfrm>
                    <a:off x="5526360" y="4507560"/>
                    <a:ext cx="1418040" cy="965160"/>
                    <a:chOff x="5526360" y="4507560"/>
                    <a:chExt cx="1418040" cy="965160"/>
                  </a:xfrm>
                </p:grpSpPr>
                <p:sp>
                  <p:nvSpPr>
                    <p:cNvPr id="120" name="Freeform 10"/>
                    <p:cNvSpPr/>
                    <p:nvPr/>
                  </p:nvSpPr>
                  <p:spPr>
                    <a:xfrm>
                      <a:off x="5526360" y="4507560"/>
                      <a:ext cx="1418040" cy="965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Oval 11"/>
                    <p:cNvSpPr/>
                    <p:nvPr/>
                  </p:nvSpPr>
                  <p:spPr>
                    <a:xfrm>
                      <a:off x="6048720" y="5175720"/>
                      <a:ext cx="22392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Oval 12"/>
                    <p:cNvSpPr/>
                    <p:nvPr/>
                  </p:nvSpPr>
                  <p:spPr>
                    <a:xfrm>
                      <a:off x="6571440" y="5175720"/>
                      <a:ext cx="22356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Arc 13"/>
                    <p:cNvSpPr/>
                    <p:nvPr/>
                  </p:nvSpPr>
                  <p:spPr>
                    <a:xfrm>
                      <a:off x="5868000" y="4645080"/>
                      <a:ext cx="181440" cy="2224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Freeform 14"/>
                    <p:cNvSpPr/>
                    <p:nvPr/>
                  </p:nvSpPr>
                  <p:spPr>
                    <a:xfrm>
                      <a:off x="5793120" y="4655880"/>
                      <a:ext cx="14904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" name="Arc 15"/>
                  <p:cNvSpPr/>
                  <p:nvPr/>
                </p:nvSpPr>
                <p:spPr>
                  <a:xfrm flipV="1" rot="5400000">
                    <a:off x="4825800" y="4746960"/>
                    <a:ext cx="964080" cy="493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16"/>
                  <p:cNvSpPr/>
                  <p:nvPr/>
                </p:nvSpPr>
                <p:spPr>
                  <a:xfrm>
                    <a:off x="5164560" y="3933720"/>
                    <a:ext cx="2055960" cy="570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Line 17"/>
                <p:cNvSpPr/>
                <p:nvPr/>
              </p:nvSpPr>
              <p:spPr>
                <a:xfrm>
                  <a:off x="5521680" y="5473800"/>
                  <a:ext cx="72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8"/>
                <p:cNvSpPr/>
                <p:nvPr/>
              </p:nvSpPr>
              <p:spPr>
                <a:xfrm>
                  <a:off x="6945120" y="4583160"/>
                  <a:ext cx="0" cy="126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9"/>
                <p:cNvSpPr/>
                <p:nvPr/>
              </p:nvSpPr>
              <p:spPr>
                <a:xfrm>
                  <a:off x="6679080" y="5373720"/>
                  <a:ext cx="671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0"/>
                <p:cNvSpPr/>
                <p:nvPr/>
              </p:nvSpPr>
              <p:spPr>
                <a:xfrm>
                  <a:off x="6553800" y="3933720"/>
                  <a:ext cx="82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1"/>
                <p:cNvSpPr/>
                <p:nvPr/>
              </p:nvSpPr>
              <p:spPr>
                <a:xfrm>
                  <a:off x="7151040" y="4601880"/>
                  <a:ext cx="720" cy="44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2"/>
                <p:cNvSpPr/>
                <p:nvPr/>
              </p:nvSpPr>
              <p:spPr>
                <a:xfrm>
                  <a:off x="7151040" y="4586040"/>
                  <a:ext cx="149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3"/>
                <p:cNvSpPr/>
                <p:nvPr/>
              </p:nvSpPr>
              <p:spPr>
                <a:xfrm>
                  <a:off x="5528160" y="5715000"/>
                  <a:ext cx="1417320" cy="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4"/>
                <p:cNvSpPr/>
                <p:nvPr/>
              </p:nvSpPr>
              <p:spPr>
                <a:xfrm>
                  <a:off x="6940080" y="4973040"/>
                  <a:ext cx="2239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5"/>
                <p:cNvSpPr/>
                <p:nvPr/>
              </p:nvSpPr>
              <p:spPr>
                <a:xfrm>
                  <a:off x="7362720" y="3946320"/>
                  <a:ext cx="0" cy="14101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6"/>
                <p:cNvSpPr/>
                <p:nvPr/>
              </p:nvSpPr>
              <p:spPr>
                <a:xfrm>
                  <a:off x="7281720" y="4614120"/>
                  <a:ext cx="0" cy="7423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7"/>
                <p:cNvSpPr/>
                <p:nvPr/>
              </p:nvSpPr>
              <p:spPr>
                <a:xfrm>
                  <a:off x="6106320" y="5491800"/>
                  <a:ext cx="37296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8"/>
                <p:cNvSpPr/>
                <p:nvPr/>
              </p:nvSpPr>
              <p:spPr>
                <a:xfrm>
                  <a:off x="6863400" y="4696200"/>
                  <a:ext cx="372960" cy="29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29"/>
                <p:cNvSpPr/>
                <p:nvPr/>
              </p:nvSpPr>
              <p:spPr>
                <a:xfrm>
                  <a:off x="7015680" y="49874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30"/>
              <p:cNvSpPr/>
              <p:nvPr/>
            </p:nvSpPr>
            <p:spPr>
              <a:xfrm>
                <a:off x="7245360" y="4588920"/>
                <a:ext cx="3729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31"/>
              <p:cNvGrpSpPr/>
              <p:nvPr/>
            </p:nvGrpSpPr>
            <p:grpSpPr>
              <a:xfrm>
                <a:off x="2746440" y="4675680"/>
                <a:ext cx="2239560" cy="1182240"/>
                <a:chOff x="2746440" y="4675680"/>
                <a:chExt cx="2239560" cy="1182240"/>
              </a:xfrm>
            </p:grpSpPr>
            <p:grpSp>
              <p:nvGrpSpPr>
                <p:cNvPr id="142" name="Group 32"/>
                <p:cNvGrpSpPr/>
                <p:nvPr/>
              </p:nvGrpSpPr>
              <p:grpSpPr>
                <a:xfrm>
                  <a:off x="3045240" y="4675680"/>
                  <a:ext cx="1527480" cy="873720"/>
                  <a:chOff x="3045240" y="4675680"/>
                  <a:chExt cx="1527480" cy="873720"/>
                </a:xfrm>
              </p:grpSpPr>
              <p:grpSp>
                <p:nvGrpSpPr>
                  <p:cNvPr id="143" name="Group 33"/>
                  <p:cNvGrpSpPr/>
                  <p:nvPr/>
                </p:nvGrpSpPr>
                <p:grpSpPr>
                  <a:xfrm>
                    <a:off x="3154320" y="4675680"/>
                    <a:ext cx="1418400" cy="873720"/>
                    <a:chOff x="3154320" y="4675680"/>
                    <a:chExt cx="1418400" cy="873720"/>
                  </a:xfrm>
                </p:grpSpPr>
                <p:sp>
                  <p:nvSpPr>
                    <p:cNvPr id="144" name="Freeform 34"/>
                    <p:cNvSpPr/>
                    <p:nvPr/>
                  </p:nvSpPr>
                  <p:spPr>
                    <a:xfrm>
                      <a:off x="3154320" y="4675680"/>
                      <a:ext cx="141840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Freeform 35"/>
                    <p:cNvSpPr/>
                    <p:nvPr/>
                  </p:nvSpPr>
                  <p:spPr>
                    <a:xfrm>
                      <a:off x="3154320" y="4972320"/>
                      <a:ext cx="1418400" cy="5770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Group 36"/>
                  <p:cNvGrpSpPr/>
                  <p:nvPr/>
                </p:nvGrpSpPr>
                <p:grpSpPr>
                  <a:xfrm>
                    <a:off x="3045240" y="4897800"/>
                    <a:ext cx="109080" cy="290880"/>
                    <a:chOff x="3045240" y="4897800"/>
                    <a:chExt cx="109080" cy="290880"/>
                  </a:xfrm>
                </p:grpSpPr>
                <p:sp>
                  <p:nvSpPr>
                    <p:cNvPr id="147" name="Freeform 37"/>
                    <p:cNvSpPr/>
                    <p:nvPr/>
                  </p:nvSpPr>
                  <p:spPr>
                    <a:xfrm>
                      <a:off x="3045240" y="503928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Freeform 38"/>
                    <p:cNvSpPr/>
                    <p:nvPr/>
                  </p:nvSpPr>
                  <p:spPr>
                    <a:xfrm flipV="1">
                      <a:off x="3045240" y="489744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9" name="Text Box 39"/>
                <p:cNvSpPr/>
                <p:nvPr/>
              </p:nvSpPr>
              <p:spPr>
                <a:xfrm>
                  <a:off x="4613040" y="51948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0"/>
                <p:cNvSpPr/>
                <p:nvPr/>
              </p:nvSpPr>
              <p:spPr>
                <a:xfrm rot="19215000">
                  <a:off x="3180960" y="5259600"/>
                  <a:ext cx="483120" cy="501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41"/>
                <p:cNvSpPr/>
                <p:nvPr/>
              </p:nvSpPr>
              <p:spPr>
                <a:xfrm flipH="1">
                  <a:off x="2746440" y="578880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42"/>
                <p:cNvSpPr/>
                <p:nvPr/>
              </p:nvSpPr>
              <p:spPr>
                <a:xfrm flipH="1">
                  <a:off x="2746440" y="503532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3"/>
                <p:cNvSpPr/>
                <p:nvPr/>
              </p:nvSpPr>
              <p:spPr>
                <a:xfrm flipH="1">
                  <a:off x="3927960" y="555336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44"/>
                <p:cNvSpPr/>
                <p:nvPr/>
              </p:nvSpPr>
              <p:spPr>
                <a:xfrm flipH="1">
                  <a:off x="4463280" y="504540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45"/>
                <p:cNvSpPr/>
                <p:nvPr/>
              </p:nvSpPr>
              <p:spPr>
                <a:xfrm>
                  <a:off x="4911840" y="5033880"/>
                  <a:ext cx="0" cy="5194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46"/>
                <p:cNvSpPr/>
                <p:nvPr/>
              </p:nvSpPr>
              <p:spPr>
                <a:xfrm>
                  <a:off x="2820960" y="5046840"/>
                  <a:ext cx="0" cy="741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47"/>
                <p:cNvSpPr/>
                <p:nvPr/>
              </p:nvSpPr>
              <p:spPr>
                <a:xfrm>
                  <a:off x="2746800" y="53438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8"/>
              <p:cNvGrpSpPr/>
              <p:nvPr/>
            </p:nvGrpSpPr>
            <p:grpSpPr>
              <a:xfrm>
                <a:off x="1403280" y="4339800"/>
                <a:ext cx="1319040" cy="1437480"/>
                <a:chOff x="1403280" y="4339800"/>
                <a:chExt cx="1319040" cy="1437480"/>
              </a:xfrm>
            </p:grpSpPr>
            <p:sp>
              <p:nvSpPr>
                <p:cNvPr id="159" name="Freeform 49"/>
                <p:cNvSpPr/>
                <p:nvPr/>
              </p:nvSpPr>
              <p:spPr>
                <a:xfrm>
                  <a:off x="1813320" y="4750200"/>
                  <a:ext cx="895320" cy="10270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0"/>
                <p:cNvSpPr/>
                <p:nvPr/>
              </p:nvSpPr>
              <p:spPr>
                <a:xfrm flipV="1">
                  <a:off x="1808280" y="4527000"/>
                  <a:ext cx="0" cy="5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1"/>
                <p:cNvSpPr/>
                <p:nvPr/>
              </p:nvSpPr>
              <p:spPr>
                <a:xfrm flipV="1">
                  <a:off x="2717280" y="452700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2"/>
                <p:cNvSpPr/>
                <p:nvPr/>
              </p:nvSpPr>
              <p:spPr>
                <a:xfrm flipV="1">
                  <a:off x="2176560" y="467568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3"/>
                <p:cNvSpPr/>
                <p:nvPr/>
              </p:nvSpPr>
              <p:spPr>
                <a:xfrm flipH="1">
                  <a:off x="1589400" y="571032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4"/>
                <p:cNvSpPr/>
                <p:nvPr/>
              </p:nvSpPr>
              <p:spPr>
                <a:xfrm flipH="1">
                  <a:off x="1589400" y="475020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5"/>
                <p:cNvSpPr/>
                <p:nvPr/>
              </p:nvSpPr>
              <p:spPr>
                <a:xfrm>
                  <a:off x="1813320" y="4675680"/>
                  <a:ext cx="3729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56"/>
                <p:cNvSpPr/>
                <p:nvPr/>
              </p:nvSpPr>
              <p:spPr>
                <a:xfrm>
                  <a:off x="1813320" y="4542840"/>
                  <a:ext cx="892080" cy="288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57"/>
                <p:cNvSpPr/>
                <p:nvPr/>
              </p:nvSpPr>
              <p:spPr>
                <a:xfrm>
                  <a:off x="1645920" y="4755960"/>
                  <a:ext cx="720" cy="94716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8"/>
                <p:cNvSpPr/>
                <p:nvPr/>
              </p:nvSpPr>
              <p:spPr>
                <a:xfrm>
                  <a:off x="2062080" y="4339800"/>
                  <a:ext cx="3736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59"/>
                <p:cNvSpPr/>
                <p:nvPr/>
              </p:nvSpPr>
              <p:spPr>
                <a:xfrm>
                  <a:off x="1813320" y="448416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0"/>
                <p:cNvSpPr/>
                <p:nvPr/>
              </p:nvSpPr>
              <p:spPr>
                <a:xfrm>
                  <a:off x="1403280" y="51210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Freeform 61"/>
            <p:cNvSpPr/>
            <p:nvPr/>
          </p:nvSpPr>
          <p:spPr>
            <a:xfrm rot="10800000">
              <a:off x="6814440" y="4127760"/>
              <a:ext cx="376200" cy="506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651640" y="57340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1 – 2,7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580536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3 – 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484280"/>
            <a:ext cx="3744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pala = 0,14-0,6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del carro = 1,3 – 4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dimiento = 0,6 – 2 m3/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565360"/>
            <a:ext cx="19447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alerías:  2,2 x 1,8-2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,1 x 2,2-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29 x 3,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s: 0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4941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15-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414972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 – 2, 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0766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 – 1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5084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3 –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ías fér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00000" y="2060280"/>
            <a:ext cx="3200040" cy="984600"/>
            <a:chOff x="900000" y="2060280"/>
            <a:chExt cx="3200040" cy="984600"/>
          </a:xfrm>
        </p:grpSpPr>
        <p:grpSp>
          <p:nvGrpSpPr>
            <p:cNvPr id="182" name=""/>
            <p:cNvGrpSpPr/>
            <p:nvPr/>
          </p:nvGrpSpPr>
          <p:grpSpPr>
            <a:xfrm>
              <a:off x="900000" y="2060280"/>
              <a:ext cx="1027440" cy="984600"/>
              <a:chOff x="900000" y="2060280"/>
              <a:chExt cx="1027440" cy="9846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900000" y="2060280"/>
                <a:ext cx="901440" cy="856440"/>
                <a:chOff x="900000" y="2060280"/>
                <a:chExt cx="901440" cy="856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5760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13050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000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7564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1486080" y="2060280"/>
                  <a:ext cx="90000" cy="856440"/>
                  <a:chOff x="1486080" y="2060280"/>
                  <a:chExt cx="90000" cy="8564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14860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0800000">
                    <a:off x="14860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15310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1421280" y="2743560"/>
                <a:ext cx="506160" cy="301320"/>
                <a:chOff x="1421280" y="2743560"/>
                <a:chExt cx="506160" cy="30132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156996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42128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171792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52316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1645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1981800" y="2060280"/>
              <a:ext cx="901440" cy="984600"/>
              <a:chOff x="1981800" y="2060280"/>
              <a:chExt cx="901440" cy="9846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981800" y="2060280"/>
                <a:ext cx="901440" cy="856440"/>
                <a:chOff x="1981800" y="2060280"/>
                <a:chExt cx="901440" cy="856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6578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23868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9818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8382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567880" y="2060280"/>
                  <a:ext cx="90000" cy="856440"/>
                  <a:chOff x="2567880" y="2060280"/>
                  <a:chExt cx="90000" cy="8564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25678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0800000">
                    <a:off x="25678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6128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2210040" y="2743560"/>
                <a:ext cx="506160" cy="301320"/>
                <a:chOff x="2210040" y="2743560"/>
                <a:chExt cx="506160" cy="301320"/>
              </a:xfrm>
            </p:grpSpPr>
            <p:sp>
              <p:nvSpPr>
                <p:cNvPr id="209" name=""/>
                <p:cNvSpPr/>
                <p:nvPr/>
              </p:nvSpPr>
              <p:spPr>
                <a:xfrm flipV="1">
                  <a:off x="235872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221004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250668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11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243468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3063600" y="2060280"/>
              <a:ext cx="1036440" cy="984600"/>
              <a:chOff x="3063600" y="2060280"/>
              <a:chExt cx="1036440" cy="984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063600" y="2060280"/>
                <a:ext cx="901440" cy="856440"/>
                <a:chOff x="3063600" y="2060280"/>
                <a:chExt cx="901440" cy="8564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7396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4686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636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200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3649680" y="2060280"/>
                  <a:ext cx="90000" cy="856440"/>
                  <a:chOff x="3649680" y="2060280"/>
                  <a:chExt cx="90000" cy="8564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36496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0800000">
                    <a:off x="36496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36946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3592440" y="2743560"/>
                <a:ext cx="507600" cy="301320"/>
                <a:chOff x="3592440" y="2743560"/>
                <a:chExt cx="507600" cy="30132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374148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359244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388980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69468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381672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292560" y="2743560"/>
                <a:ext cx="507600" cy="301320"/>
                <a:chOff x="3292560" y="2743560"/>
                <a:chExt cx="507600" cy="301320"/>
              </a:xfrm>
            </p:grpSpPr>
            <p:sp>
              <p:nvSpPr>
                <p:cNvPr id="231" name=""/>
                <p:cNvSpPr/>
                <p:nvPr/>
              </p:nvSpPr>
              <p:spPr>
                <a:xfrm flipV="1">
                  <a:off x="344160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29256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358992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9480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351684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6" name=""/>
          <p:cNvGrpSpPr/>
          <p:nvPr/>
        </p:nvGrpSpPr>
        <p:grpSpPr>
          <a:xfrm>
            <a:off x="611280" y="4437000"/>
            <a:ext cx="5840280" cy="731520"/>
            <a:chOff x="611280" y="4437000"/>
            <a:chExt cx="5840280" cy="731520"/>
          </a:xfrm>
        </p:grpSpPr>
        <p:grpSp>
          <p:nvGrpSpPr>
            <p:cNvPr id="237" name=""/>
            <p:cNvGrpSpPr/>
            <p:nvPr/>
          </p:nvGrpSpPr>
          <p:grpSpPr>
            <a:xfrm>
              <a:off x="611280" y="4453560"/>
              <a:ext cx="2583000" cy="714960"/>
              <a:chOff x="611280" y="4453560"/>
              <a:chExt cx="2583000" cy="714960"/>
            </a:xfrm>
          </p:grpSpPr>
          <p:sp>
            <p:nvSpPr>
              <p:cNvPr id="238" name=""/>
              <p:cNvSpPr/>
              <p:nvPr/>
            </p:nvSpPr>
            <p:spPr>
              <a:xfrm>
                <a:off x="1373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62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0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8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29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18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496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43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602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520" y="4453560"/>
                <a:ext cx="2393280" cy="8316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1120" y="5130000"/>
                <a:ext cx="2423160" cy="3852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1280" y="4475880"/>
                <a:ext cx="387720" cy="682920"/>
              </a:xfrm>
              <a:custGeom>
                <a:avLst/>
                <a:gdLst/>
                <a:ahLst/>
                <a:rect l="l" t="t" r="r" b="b"/>
                <a:pathLst>
                  <a:path w="611" h="1075">
                    <a:moveTo>
                      <a:pt x="252" y="1054"/>
                    </a:moveTo>
                    <a:cubicBezTo>
                      <a:pt x="314" y="1075"/>
                      <a:pt x="368" y="1053"/>
                      <a:pt x="420" y="1018"/>
                    </a:cubicBezTo>
                    <a:cubicBezTo>
                      <a:pt x="449" y="932"/>
                      <a:pt x="408" y="1036"/>
                      <a:pt x="468" y="946"/>
                    </a:cubicBezTo>
                    <a:cubicBezTo>
                      <a:pt x="505" y="891"/>
                      <a:pt x="447" y="921"/>
                      <a:pt x="516" y="898"/>
                    </a:cubicBezTo>
                    <a:cubicBezTo>
                      <a:pt x="528" y="880"/>
                      <a:pt x="561" y="834"/>
                      <a:pt x="564" y="814"/>
                    </a:cubicBezTo>
                    <a:cubicBezTo>
                      <a:pt x="611" y="530"/>
                      <a:pt x="550" y="723"/>
                      <a:pt x="588" y="610"/>
                    </a:cubicBezTo>
                    <a:cubicBezTo>
                      <a:pt x="584" y="538"/>
                      <a:pt x="583" y="466"/>
                      <a:pt x="576" y="394"/>
                    </a:cubicBezTo>
                    <a:cubicBezTo>
                      <a:pt x="569" y="321"/>
                      <a:pt x="468" y="286"/>
                      <a:pt x="420" y="238"/>
                    </a:cubicBezTo>
                    <a:cubicBezTo>
                      <a:pt x="412" y="214"/>
                      <a:pt x="404" y="190"/>
                      <a:pt x="396" y="166"/>
                    </a:cubicBezTo>
                    <a:cubicBezTo>
                      <a:pt x="380" y="118"/>
                      <a:pt x="396" y="134"/>
                      <a:pt x="348" y="118"/>
                    </a:cubicBezTo>
                    <a:cubicBezTo>
                      <a:pt x="324" y="82"/>
                      <a:pt x="320" y="38"/>
                      <a:pt x="276" y="22"/>
                    </a:cubicBezTo>
                    <a:cubicBezTo>
                      <a:pt x="257" y="15"/>
                      <a:pt x="236" y="14"/>
                      <a:pt x="216" y="10"/>
                    </a:cubicBezTo>
                    <a:cubicBezTo>
                      <a:pt x="184" y="14"/>
                      <a:pt x="144" y="0"/>
                      <a:pt x="120" y="22"/>
                    </a:cubicBezTo>
                    <a:cubicBezTo>
                      <a:pt x="95" y="44"/>
                      <a:pt x="104" y="86"/>
                      <a:pt x="96" y="118"/>
                    </a:cubicBezTo>
                    <a:cubicBezTo>
                      <a:pt x="89" y="146"/>
                      <a:pt x="48" y="190"/>
                      <a:pt x="48" y="190"/>
                    </a:cubicBezTo>
                    <a:cubicBezTo>
                      <a:pt x="3" y="369"/>
                      <a:pt x="58" y="567"/>
                      <a:pt x="0" y="742"/>
                    </a:cubicBezTo>
                    <a:cubicBezTo>
                      <a:pt x="14" y="866"/>
                      <a:pt x="6" y="871"/>
                      <a:pt x="72" y="970"/>
                    </a:cubicBezTo>
                    <a:cubicBezTo>
                      <a:pt x="93" y="1002"/>
                      <a:pt x="121" y="1054"/>
                      <a:pt x="168" y="1054"/>
                    </a:cubicBezTo>
                    <a:cubicBezTo>
                      <a:pt x="196" y="1054"/>
                      <a:pt x="224" y="1054"/>
                      <a:pt x="252" y="1054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1768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17680" y="4953960"/>
                <a:ext cx="1605240" cy="252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5696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5696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374640" y="4437000"/>
              <a:ext cx="3076920" cy="731520"/>
              <a:chOff x="3374640" y="4437000"/>
              <a:chExt cx="3076920" cy="731520"/>
            </a:xfrm>
          </p:grpSpPr>
          <p:sp>
            <p:nvSpPr>
              <p:cNvPr id="255" name=""/>
              <p:cNvSpPr/>
              <p:nvPr/>
            </p:nvSpPr>
            <p:spPr>
              <a:xfrm>
                <a:off x="42570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474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444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60400" y="4437000"/>
                <a:ext cx="2890800" cy="9972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46000" y="5079240"/>
                <a:ext cx="2905560" cy="8928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74640" y="4467240"/>
                <a:ext cx="399960" cy="691200"/>
              </a:xfrm>
              <a:custGeom>
                <a:avLst/>
                <a:gdLst/>
                <a:ahLst/>
                <a:rect l="l" t="t" r="r" b="b"/>
                <a:pathLst>
                  <a:path w="630" h="1088">
                    <a:moveTo>
                      <a:pt x="378" y="1067"/>
                    </a:moveTo>
                    <a:cubicBezTo>
                      <a:pt x="316" y="1088"/>
                      <a:pt x="262" y="1066"/>
                      <a:pt x="210" y="1031"/>
                    </a:cubicBezTo>
                    <a:cubicBezTo>
                      <a:pt x="181" y="945"/>
                      <a:pt x="120" y="1038"/>
                      <a:pt x="60" y="948"/>
                    </a:cubicBezTo>
                    <a:cubicBezTo>
                      <a:pt x="23" y="893"/>
                      <a:pt x="129" y="899"/>
                      <a:pt x="60" y="876"/>
                    </a:cubicBezTo>
                    <a:cubicBezTo>
                      <a:pt x="48" y="858"/>
                      <a:pt x="69" y="847"/>
                      <a:pt x="66" y="827"/>
                    </a:cubicBezTo>
                    <a:cubicBezTo>
                      <a:pt x="19" y="543"/>
                      <a:pt x="80" y="736"/>
                      <a:pt x="42" y="623"/>
                    </a:cubicBezTo>
                    <a:cubicBezTo>
                      <a:pt x="46" y="551"/>
                      <a:pt x="47" y="479"/>
                      <a:pt x="54" y="407"/>
                    </a:cubicBezTo>
                    <a:cubicBezTo>
                      <a:pt x="61" y="334"/>
                      <a:pt x="0" y="240"/>
                      <a:pt x="48" y="192"/>
                    </a:cubicBezTo>
                    <a:cubicBezTo>
                      <a:pt x="56" y="168"/>
                      <a:pt x="76" y="108"/>
                      <a:pt x="84" y="84"/>
                    </a:cubicBezTo>
                    <a:cubicBezTo>
                      <a:pt x="100" y="36"/>
                      <a:pt x="120" y="52"/>
                      <a:pt x="168" y="36"/>
                    </a:cubicBezTo>
                    <a:cubicBezTo>
                      <a:pt x="192" y="0"/>
                      <a:pt x="310" y="51"/>
                      <a:pt x="354" y="35"/>
                    </a:cubicBezTo>
                    <a:cubicBezTo>
                      <a:pt x="373" y="28"/>
                      <a:pt x="394" y="27"/>
                      <a:pt x="414" y="23"/>
                    </a:cubicBezTo>
                    <a:cubicBezTo>
                      <a:pt x="446" y="27"/>
                      <a:pt x="486" y="13"/>
                      <a:pt x="510" y="35"/>
                    </a:cubicBezTo>
                    <a:cubicBezTo>
                      <a:pt x="535" y="57"/>
                      <a:pt x="526" y="99"/>
                      <a:pt x="534" y="131"/>
                    </a:cubicBezTo>
                    <a:cubicBezTo>
                      <a:pt x="541" y="159"/>
                      <a:pt x="582" y="203"/>
                      <a:pt x="582" y="203"/>
                    </a:cubicBezTo>
                    <a:cubicBezTo>
                      <a:pt x="627" y="382"/>
                      <a:pt x="572" y="580"/>
                      <a:pt x="630" y="755"/>
                    </a:cubicBezTo>
                    <a:cubicBezTo>
                      <a:pt x="616" y="879"/>
                      <a:pt x="624" y="884"/>
                      <a:pt x="558" y="983"/>
                    </a:cubicBezTo>
                    <a:cubicBezTo>
                      <a:pt x="537" y="1015"/>
                      <a:pt x="509" y="1067"/>
                      <a:pt x="462" y="1067"/>
                    </a:cubicBezTo>
                    <a:cubicBezTo>
                      <a:pt x="434" y="1067"/>
                      <a:pt x="406" y="1067"/>
                      <a:pt x="378" y="1067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78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679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1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03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34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24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55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4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66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2320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23200" y="4954320"/>
                <a:ext cx="1605240" cy="216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3184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3184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161928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uedas do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7280" y="54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uede ajustar el avance de los desarrollos al alcance de la 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1628640"/>
            <a:ext cx="352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rieles son de 7 m de longitud mientras el avance es de 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ruedas dobles permiten ajustar el alcance de la pala al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476360" y="1484280"/>
            <a:ext cx="2344680" cy="720720"/>
            <a:chOff x="1476360" y="1484280"/>
            <a:chExt cx="2344680" cy="720720"/>
          </a:xfrm>
        </p:grpSpPr>
        <p:grpSp>
          <p:nvGrpSpPr>
            <p:cNvPr id="279" name=""/>
            <p:cNvGrpSpPr/>
            <p:nvPr/>
          </p:nvGrpSpPr>
          <p:grpSpPr>
            <a:xfrm>
              <a:off x="2778120" y="1909440"/>
              <a:ext cx="591840" cy="190080"/>
              <a:chOff x="2778120" y="1909440"/>
              <a:chExt cx="591840" cy="190080"/>
            </a:xfrm>
          </p:grpSpPr>
          <p:sp>
            <p:nvSpPr>
              <p:cNvPr id="280" name=""/>
              <p:cNvSpPr/>
              <p:nvPr/>
            </p:nvSpPr>
            <p:spPr>
              <a:xfrm>
                <a:off x="2778120" y="2091960"/>
                <a:ext cx="59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832120" y="1909440"/>
                <a:ext cx="525240" cy="190080"/>
              </a:xfrm>
              <a:custGeom>
                <a:avLst/>
                <a:gdLst/>
                <a:ahLst/>
                <a:rect l="l" t="t" r="r" b="b"/>
                <a:pathLst>
                  <a:path w="1082" h="300">
                    <a:moveTo>
                      <a:pt x="0" y="4"/>
                    </a:moveTo>
                    <a:lnTo>
                      <a:pt x="1082" y="0"/>
                    </a:lnTo>
                    <a:lnTo>
                      <a:pt x="1082" y="30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476360" y="1484280"/>
              <a:ext cx="2344680" cy="720720"/>
              <a:chOff x="1476360" y="1484280"/>
              <a:chExt cx="2344680" cy="7207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613880" y="1528200"/>
                <a:ext cx="2206800" cy="676080"/>
                <a:chOff x="1613880" y="1528200"/>
                <a:chExt cx="2206800" cy="6760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613880" y="164160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613880" y="182088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1899720" y="1528200"/>
                  <a:ext cx="1243800" cy="496800"/>
                  <a:chOff x="1899720" y="1528200"/>
                  <a:chExt cx="1243800" cy="496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0800000">
                    <a:off x="2513160" y="1528200"/>
                    <a:ext cx="63036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899720" y="1641600"/>
                    <a:ext cx="63072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1840680" y="1708200"/>
                  <a:ext cx="1332360" cy="496080"/>
                  <a:chOff x="1840680" y="1708200"/>
                  <a:chExt cx="1332360" cy="4960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10800000">
                    <a:off x="2484000" y="1708200"/>
                    <a:ext cx="68904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840680" y="1821600"/>
                    <a:ext cx="68688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"/>
              <p:cNvSpPr/>
              <p:nvPr/>
            </p:nvSpPr>
            <p:spPr>
              <a:xfrm>
                <a:off x="1476360" y="1484280"/>
                <a:ext cx="2344680" cy="720720"/>
              </a:xfrm>
              <a:custGeom>
                <a:avLst/>
                <a:gdLst/>
                <a:ahLst/>
                <a:rect l="l" t="t" r="r" b="b"/>
                <a:pathLst>
                  <a:path w="4828" h="1136">
                    <a:moveTo>
                      <a:pt x="4828" y="0"/>
                    </a:moveTo>
                    <a:lnTo>
                      <a:pt x="0" y="0"/>
                    </a:lnTo>
                    <a:lnTo>
                      <a:pt x="0" y="1136"/>
                    </a:lnTo>
                    <a:lnTo>
                      <a:pt x="4828" y="11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4335480" y="1392120"/>
            <a:ext cx="1287360" cy="4923720"/>
            <a:chOff x="4335480" y="1392120"/>
            <a:chExt cx="1287360" cy="4923720"/>
          </a:xfrm>
        </p:grpSpPr>
        <p:sp>
          <p:nvSpPr>
            <p:cNvPr id="294" name=""/>
            <p:cNvSpPr/>
            <p:nvPr/>
          </p:nvSpPr>
          <p:spPr>
            <a:xfrm>
              <a:off x="5445360" y="1531080"/>
              <a:ext cx="3600" cy="2937240"/>
            </a:xfrm>
            <a:custGeom>
              <a:avLst/>
              <a:gdLst/>
              <a:ahLst/>
              <a:rect l="l" t="t" r="r" b="b"/>
              <a:pathLst>
                <a:path w="6" h="4625">
                  <a:moveTo>
                    <a:pt x="6" y="0"/>
                  </a:moveTo>
                  <a:lnTo>
                    <a:pt x="0" y="462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9320" y="1531080"/>
              <a:ext cx="8280" cy="2929680"/>
            </a:xfrm>
            <a:custGeom>
              <a:avLst/>
              <a:gdLst/>
              <a:ahLst/>
              <a:rect l="l" t="t" r="r" b="b"/>
              <a:pathLst>
                <a:path w="13" h="4613">
                  <a:moveTo>
                    <a:pt x="0" y="0"/>
                  </a:moveTo>
                  <a:lnTo>
                    <a:pt x="13" y="46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4552920" y="221940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35480" y="1392120"/>
              <a:ext cx="1287360" cy="3091680"/>
            </a:xfrm>
            <a:custGeom>
              <a:avLst/>
              <a:gdLst/>
              <a:ahLst/>
              <a:rect l="l" t="t" r="r" b="b"/>
              <a:pathLst>
                <a:path w="2028" h="4868">
                  <a:moveTo>
                    <a:pt x="2024" y="4868"/>
                  </a:moveTo>
                  <a:lnTo>
                    <a:pt x="2028" y="0"/>
                  </a:lnTo>
                  <a:lnTo>
                    <a:pt x="1164" y="0"/>
                  </a:lnTo>
                  <a:lnTo>
                    <a:pt x="1164" y="1572"/>
                  </a:lnTo>
                  <a:lnTo>
                    <a:pt x="1104" y="1704"/>
                  </a:lnTo>
                  <a:lnTo>
                    <a:pt x="948" y="1704"/>
                  </a:lnTo>
                  <a:lnTo>
                    <a:pt x="384" y="1140"/>
                  </a:lnTo>
                  <a:lnTo>
                    <a:pt x="0" y="1596"/>
                  </a:lnTo>
                  <a:lnTo>
                    <a:pt x="984" y="2580"/>
                  </a:lnTo>
                  <a:lnTo>
                    <a:pt x="1116" y="2808"/>
                  </a:lnTo>
                  <a:lnTo>
                    <a:pt x="1248" y="3180"/>
                  </a:lnTo>
                  <a:lnTo>
                    <a:pt x="1244" y="48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4438440" y="235656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16200000">
              <a:off x="3375720" y="4110840"/>
              <a:ext cx="3424680" cy="79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87" y="1221"/>
                  </a:moveTo>
                  <a:arcTo wR="10800" hR="10800" stAng="-3749808" swAng="295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87" y="1221"/>
                  </a:moveTo>
                  <a:arcTo wR="10800" hR="10800" stAng="-3749808" swAng="295000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16200000">
              <a:off x="3216600" y="4203360"/>
              <a:ext cx="3424680" cy="79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01" y="1390"/>
                  </a:moveTo>
                  <a:arcTo wR="10800" hR="10800" stAng="-3636375" swAng="28365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01" y="1390"/>
                  </a:moveTo>
                  <a:arcTo wR="10800" hR="10800" stAng="-3636375" swAng="283656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76360" y="2350440"/>
            <a:ext cx="2425680" cy="1461240"/>
            <a:chOff x="1476360" y="2350440"/>
            <a:chExt cx="2425680" cy="1461240"/>
          </a:xfrm>
        </p:grpSpPr>
        <p:grpSp>
          <p:nvGrpSpPr>
            <p:cNvPr id="302" name=""/>
            <p:cNvGrpSpPr/>
            <p:nvPr/>
          </p:nvGrpSpPr>
          <p:grpSpPr>
            <a:xfrm>
              <a:off x="1613880" y="2566440"/>
              <a:ext cx="944280" cy="173880"/>
              <a:chOff x="1613880" y="2566440"/>
              <a:chExt cx="944280" cy="173880"/>
            </a:xfrm>
          </p:grpSpPr>
          <p:sp>
            <p:nvSpPr>
              <p:cNvPr id="303" name=""/>
              <p:cNvSpPr/>
              <p:nvPr/>
            </p:nvSpPr>
            <p:spPr>
              <a:xfrm>
                <a:off x="1613880" y="2566440"/>
                <a:ext cx="943920" cy="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14240" y="2739600"/>
                <a:ext cx="94392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476360" y="2386080"/>
              <a:ext cx="2354400" cy="1425600"/>
            </a:xfrm>
            <a:custGeom>
              <a:avLst/>
              <a:gdLst/>
              <a:ahLst/>
              <a:rect l="l" t="t" r="r" b="b"/>
              <a:pathLst>
                <a:path w="3708" h="2246">
                  <a:moveTo>
                    <a:pt x="3708" y="0"/>
                  </a:moveTo>
                  <a:lnTo>
                    <a:pt x="0" y="0"/>
                  </a:lnTo>
                  <a:lnTo>
                    <a:pt x="0" y="864"/>
                  </a:lnTo>
                  <a:lnTo>
                    <a:pt x="1572" y="864"/>
                  </a:lnTo>
                  <a:lnTo>
                    <a:pt x="1690" y="938"/>
                  </a:lnTo>
                  <a:lnTo>
                    <a:pt x="1750" y="1130"/>
                  </a:lnTo>
                  <a:lnTo>
                    <a:pt x="1750" y="2246"/>
                  </a:lnTo>
                  <a:lnTo>
                    <a:pt x="2398" y="2246"/>
                  </a:lnTo>
                  <a:lnTo>
                    <a:pt x="2398" y="1082"/>
                  </a:lnTo>
                  <a:lnTo>
                    <a:pt x="2458" y="926"/>
                  </a:lnTo>
                  <a:lnTo>
                    <a:pt x="2626" y="830"/>
                  </a:lnTo>
                  <a:lnTo>
                    <a:pt x="3694" y="8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009240" y="2566440"/>
              <a:ext cx="892800" cy="173520"/>
              <a:chOff x="3009240" y="2566440"/>
              <a:chExt cx="892800" cy="173520"/>
            </a:xfrm>
          </p:grpSpPr>
          <p:sp>
            <p:nvSpPr>
              <p:cNvPr id="307" name=""/>
              <p:cNvSpPr/>
              <p:nvPr/>
            </p:nvSpPr>
            <p:spPr>
              <a:xfrm>
                <a:off x="3009240" y="273888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09240" y="256644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471400" y="2350440"/>
              <a:ext cx="624600" cy="624960"/>
              <a:chOff x="2471400" y="2350440"/>
              <a:chExt cx="624600" cy="624960"/>
            </a:xfrm>
          </p:grpSpPr>
          <p:sp>
            <p:nvSpPr>
              <p:cNvPr id="310" name=""/>
              <p:cNvSpPr/>
              <p:nvPr/>
            </p:nvSpPr>
            <p:spPr>
              <a:xfrm rot="18218400">
                <a:off x="2558520" y="2437560"/>
                <a:ext cx="450360" cy="45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583360" y="2424960"/>
                <a:ext cx="394200" cy="471240"/>
                <a:chOff x="2583360" y="2424960"/>
                <a:chExt cx="394200" cy="471240"/>
              </a:xfrm>
            </p:grpSpPr>
            <p:sp>
              <p:nvSpPr>
                <p:cNvPr id="312" name=""/>
                <p:cNvSpPr/>
                <p:nvPr/>
              </p:nvSpPr>
              <p:spPr>
                <a:xfrm rot="18218400">
                  <a:off x="2626920" y="27075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218400">
                  <a:off x="2483280" y="26121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2691720" y="2888640"/>
              <a:ext cx="173520" cy="892440"/>
              <a:chOff x="2691720" y="2888640"/>
              <a:chExt cx="173520" cy="892440"/>
            </a:xfrm>
          </p:grpSpPr>
          <p:sp>
            <p:nvSpPr>
              <p:cNvPr id="315" name=""/>
              <p:cNvSpPr/>
              <p:nvPr/>
            </p:nvSpPr>
            <p:spPr>
              <a:xfrm rot="5400000">
                <a:off x="224604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241848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1295280" y="4008600"/>
            <a:ext cx="3711600" cy="885600"/>
            <a:chOff x="1295280" y="4008600"/>
            <a:chExt cx="3711600" cy="885600"/>
          </a:xfrm>
        </p:grpSpPr>
        <p:grpSp>
          <p:nvGrpSpPr>
            <p:cNvPr id="318" name=""/>
            <p:cNvGrpSpPr/>
            <p:nvPr/>
          </p:nvGrpSpPr>
          <p:grpSpPr>
            <a:xfrm>
              <a:off x="4435200" y="4543200"/>
              <a:ext cx="360360" cy="278280"/>
              <a:chOff x="4435200" y="4543200"/>
              <a:chExt cx="360360" cy="278280"/>
            </a:xfrm>
          </p:grpSpPr>
          <p:sp>
            <p:nvSpPr>
              <p:cNvPr id="319" name=""/>
              <p:cNvSpPr/>
              <p:nvPr/>
            </p:nvSpPr>
            <p:spPr>
              <a:xfrm>
                <a:off x="4476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7496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35200" y="4543200"/>
                <a:ext cx="36036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550880" y="4470480"/>
              <a:ext cx="539640" cy="374400"/>
              <a:chOff x="1550880" y="4470480"/>
              <a:chExt cx="539640" cy="374400"/>
            </a:xfrm>
          </p:grpSpPr>
          <p:sp>
            <p:nvSpPr>
              <p:cNvPr id="323" name=""/>
              <p:cNvSpPr/>
              <p:nvPr/>
            </p:nvSpPr>
            <p:spPr>
              <a:xfrm>
                <a:off x="1550880" y="4470480"/>
                <a:ext cx="539640" cy="374400"/>
              </a:xfrm>
              <a:custGeom>
                <a:avLst/>
                <a:gdLst/>
                <a:ahLst/>
                <a:rect l="l" t="t" r="r" b="b"/>
                <a:pathLst>
                  <a:path w="2698" h="1846">
                    <a:moveTo>
                      <a:pt x="0" y="1846"/>
                    </a:moveTo>
                    <a:lnTo>
                      <a:pt x="710" y="1704"/>
                    </a:lnTo>
                    <a:lnTo>
                      <a:pt x="852" y="1704"/>
                    </a:lnTo>
                    <a:lnTo>
                      <a:pt x="852" y="1562"/>
                    </a:lnTo>
                    <a:lnTo>
                      <a:pt x="2414" y="1562"/>
                    </a:lnTo>
                    <a:lnTo>
                      <a:pt x="2414" y="1278"/>
                    </a:lnTo>
                    <a:lnTo>
                      <a:pt x="2556" y="1278"/>
                    </a:lnTo>
                    <a:lnTo>
                      <a:pt x="2698" y="284"/>
                    </a:lnTo>
                    <a:lnTo>
                      <a:pt x="2698" y="142"/>
                    </a:lnTo>
                    <a:lnTo>
                      <a:pt x="2414" y="142"/>
                    </a:lnTo>
                    <a:lnTo>
                      <a:pt x="2414" y="0"/>
                    </a:lnTo>
                    <a:lnTo>
                      <a:pt x="1136" y="0"/>
                    </a:lnTo>
                    <a:lnTo>
                      <a:pt x="1136" y="142"/>
                    </a:lnTo>
                    <a:lnTo>
                      <a:pt x="994" y="142"/>
                    </a:lnTo>
                    <a:lnTo>
                      <a:pt x="994" y="1278"/>
                    </a:lnTo>
                    <a:lnTo>
                      <a:pt x="710" y="1278"/>
                    </a:lnTo>
                    <a:lnTo>
                      <a:pt x="142" y="852"/>
                    </a:lnTo>
                    <a:lnTo>
                      <a:pt x="142" y="1420"/>
                    </a:lnTo>
                    <a:lnTo>
                      <a:pt x="284" y="1704"/>
                    </a:lnTo>
                    <a:lnTo>
                      <a:pt x="0" y="184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4960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4868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27560" y="4523760"/>
                <a:ext cx="130680" cy="1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808" y="185"/>
                    </a:moveTo>
                    <a:arcTo wR="10800" hR="10800" stAng="-6037812" swAng="42196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808" y="185"/>
                    </a:moveTo>
                    <a:arcTo wR="10800" hR="10800" stAng="-6037812" swAng="4219644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52400" y="4528080"/>
                <a:ext cx="56520" cy="172800"/>
              </a:xfrm>
              <a:custGeom>
                <a:avLst/>
                <a:gdLst/>
                <a:ahLst/>
                <a:rect l="l" t="t" r="r" b="b"/>
                <a:pathLst>
                  <a:path w="284" h="994">
                    <a:moveTo>
                      <a:pt x="142" y="0"/>
                    </a:moveTo>
                    <a:lnTo>
                      <a:pt x="284" y="852"/>
                    </a:lnTo>
                    <a:lnTo>
                      <a:pt x="142" y="994"/>
                    </a:lnTo>
                    <a:lnTo>
                      <a:pt x="0" y="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2887200" y="4543200"/>
              <a:ext cx="360720" cy="278280"/>
              <a:chOff x="2887200" y="4543200"/>
              <a:chExt cx="360720" cy="278280"/>
            </a:xfrm>
          </p:grpSpPr>
          <p:sp>
            <p:nvSpPr>
              <p:cNvPr id="329" name=""/>
              <p:cNvSpPr/>
              <p:nvPr/>
            </p:nvSpPr>
            <p:spPr>
              <a:xfrm>
                <a:off x="2928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27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887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301200" y="4543200"/>
              <a:ext cx="360720" cy="278280"/>
              <a:chOff x="3301200" y="4543200"/>
              <a:chExt cx="360720" cy="278280"/>
            </a:xfrm>
          </p:grpSpPr>
          <p:sp>
            <p:nvSpPr>
              <p:cNvPr id="333" name=""/>
              <p:cNvSpPr/>
              <p:nvPr/>
            </p:nvSpPr>
            <p:spPr>
              <a:xfrm>
                <a:off x="3342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541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301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713760" y="4543200"/>
              <a:ext cx="360720" cy="278280"/>
              <a:chOff x="3713760" y="4543200"/>
              <a:chExt cx="360720" cy="278280"/>
            </a:xfrm>
          </p:grpSpPr>
          <p:sp>
            <p:nvSpPr>
              <p:cNvPr id="337" name=""/>
              <p:cNvSpPr/>
              <p:nvPr/>
            </p:nvSpPr>
            <p:spPr>
              <a:xfrm>
                <a:off x="375480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5388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1376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30160" y="4812840"/>
              <a:ext cx="3276720" cy="8640"/>
            </a:xfrm>
            <a:custGeom>
              <a:avLst/>
              <a:gdLst/>
              <a:ahLst/>
              <a:rect l="l" t="t" r="r" b="b"/>
              <a:pathLst>
                <a:path w="5160" h="14">
                  <a:moveTo>
                    <a:pt x="0" y="14"/>
                  </a:moveTo>
                  <a:lnTo>
                    <a:pt x="5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3440" y="4858560"/>
              <a:ext cx="3162240" cy="1080"/>
            </a:xfrm>
            <a:custGeom>
              <a:avLst/>
              <a:gdLst/>
              <a:ahLst/>
              <a:rect l="l" t="t" r="r" b="b"/>
              <a:pathLst>
                <a:path w="4980" h="2">
                  <a:moveTo>
                    <a:pt x="0" y="2"/>
                  </a:moveTo>
                  <a:lnTo>
                    <a:pt x="4980" y="0"/>
                  </a:lnTo>
                </a:path>
              </a:pathLst>
            </a:custGeom>
            <a:noFill/>
            <a:ln w="381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86320" y="4440960"/>
              <a:ext cx="266400" cy="105120"/>
            </a:xfrm>
            <a:custGeom>
              <a:avLst/>
              <a:gdLst/>
              <a:ahLst/>
              <a:rect l="l" t="t" r="r" b="b"/>
              <a:pathLst>
                <a:path w="420" h="166">
                  <a:moveTo>
                    <a:pt x="0" y="158"/>
                  </a:moveTo>
                  <a:cubicBezTo>
                    <a:pt x="72" y="134"/>
                    <a:pt x="3" y="166"/>
                    <a:pt x="60" y="98"/>
                  </a:cubicBezTo>
                  <a:cubicBezTo>
                    <a:pt x="69" y="87"/>
                    <a:pt x="85" y="83"/>
                    <a:pt x="96" y="74"/>
                  </a:cubicBezTo>
                  <a:cubicBezTo>
                    <a:pt x="109" y="63"/>
                    <a:pt x="117" y="46"/>
                    <a:pt x="132" y="38"/>
                  </a:cubicBezTo>
                  <a:cubicBezTo>
                    <a:pt x="154" y="26"/>
                    <a:pt x="204" y="14"/>
                    <a:pt x="204" y="14"/>
                  </a:cubicBezTo>
                  <a:cubicBezTo>
                    <a:pt x="346" y="38"/>
                    <a:pt x="229" y="0"/>
                    <a:pt x="300" y="62"/>
                  </a:cubicBezTo>
                  <a:cubicBezTo>
                    <a:pt x="322" y="81"/>
                    <a:pt x="372" y="110"/>
                    <a:pt x="372" y="110"/>
                  </a:cubicBezTo>
                  <a:cubicBezTo>
                    <a:pt x="401" y="153"/>
                    <a:pt x="383" y="140"/>
                    <a:pt x="420" y="158"/>
                  </a:cubicBezTo>
                  <a:lnTo>
                    <a:pt x="0" y="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22640" y="437148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57840" y="44323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2132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160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8268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88440" y="428112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48200" y="424260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098000">
              <a:off x="2992680" y="416196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95280" y="4008600"/>
              <a:ext cx="3711600" cy="885600"/>
            </a:xfrm>
            <a:custGeom>
              <a:avLst/>
              <a:gdLst/>
              <a:ahLst/>
              <a:rect l="l" t="t" r="r" b="b"/>
              <a:pathLst>
                <a:path w="5845" h="1396">
                  <a:moveTo>
                    <a:pt x="5845" y="1376"/>
                  </a:moveTo>
                  <a:cubicBezTo>
                    <a:pt x="3760" y="1375"/>
                    <a:pt x="2482" y="1396"/>
                    <a:pt x="397" y="1376"/>
                  </a:cubicBezTo>
                  <a:cubicBezTo>
                    <a:pt x="360" y="1376"/>
                    <a:pt x="355" y="1240"/>
                    <a:pt x="345" y="1224"/>
                  </a:cubicBezTo>
                  <a:cubicBezTo>
                    <a:pt x="314" y="1176"/>
                    <a:pt x="257" y="1123"/>
                    <a:pt x="201" y="1104"/>
                  </a:cubicBezTo>
                  <a:cubicBezTo>
                    <a:pt x="179" y="1070"/>
                    <a:pt x="170" y="1025"/>
                    <a:pt x="141" y="996"/>
                  </a:cubicBezTo>
                  <a:cubicBezTo>
                    <a:pt x="131" y="986"/>
                    <a:pt x="116" y="982"/>
                    <a:pt x="105" y="972"/>
                  </a:cubicBezTo>
                  <a:cubicBezTo>
                    <a:pt x="80" y="949"/>
                    <a:pt x="33" y="900"/>
                    <a:pt x="33" y="900"/>
                  </a:cubicBezTo>
                  <a:cubicBezTo>
                    <a:pt x="0" y="801"/>
                    <a:pt x="17" y="868"/>
                    <a:pt x="33" y="660"/>
                  </a:cubicBezTo>
                  <a:cubicBezTo>
                    <a:pt x="44" y="508"/>
                    <a:pt x="44" y="354"/>
                    <a:pt x="69" y="204"/>
                  </a:cubicBezTo>
                  <a:cubicBezTo>
                    <a:pt x="75" y="166"/>
                    <a:pt x="101" y="165"/>
                    <a:pt x="129" y="156"/>
                  </a:cubicBezTo>
                  <a:cubicBezTo>
                    <a:pt x="193" y="60"/>
                    <a:pt x="295" y="50"/>
                    <a:pt x="405" y="48"/>
                  </a:cubicBezTo>
                  <a:cubicBezTo>
                    <a:pt x="761" y="41"/>
                    <a:pt x="1117" y="40"/>
                    <a:pt x="1473" y="36"/>
                  </a:cubicBezTo>
                  <a:cubicBezTo>
                    <a:pt x="1505" y="28"/>
                    <a:pt x="1537" y="20"/>
                    <a:pt x="1569" y="12"/>
                  </a:cubicBezTo>
                  <a:cubicBezTo>
                    <a:pt x="1585" y="8"/>
                    <a:pt x="1617" y="0"/>
                    <a:pt x="1617" y="0"/>
                  </a:cubicBezTo>
                  <a:cubicBezTo>
                    <a:pt x="2270" y="10"/>
                    <a:pt x="2919" y="45"/>
                    <a:pt x="3573" y="60"/>
                  </a:cubicBezTo>
                  <a:cubicBezTo>
                    <a:pt x="3749" y="95"/>
                    <a:pt x="3836" y="79"/>
                    <a:pt x="4053" y="72"/>
                  </a:cubicBezTo>
                  <a:cubicBezTo>
                    <a:pt x="4705" y="86"/>
                    <a:pt x="5134" y="114"/>
                    <a:pt x="5785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012000" y="1484280"/>
            <a:ext cx="2520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tiene un numero de n carros por convoy (1 locomot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os se cargan de manera secuencial (1..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ros esperan vacíos mientras otros se lle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Arial"/>
              </a:rPr>
              <a:t>Sea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1= tiempo excavación de la frente (ideal)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2= tiempo cambio de carro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3= tiempo ciclo convoy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b= volumen ba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c = volumen c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1= coeficiente de llenado de la cuchara (0,5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d = coeficiente de dificultad de carga (0,2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948360" y="1341360"/>
                <a:ext cx="1224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948360" y="2349360"/>
                <a:ext cx="1366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020000" y="3357720"/>
                <a:ext cx="16574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24000" y="1268280"/>
            <a:ext cx="453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umero de ciclos  =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Volumen c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olumen de la p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249228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llenado carro  = numero de ciclos x tiempo carguío cic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342900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ciclo total = tiempo carguío + tiempo cambio carros + tiempo cambio conv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436572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eficiente de utilización de la pala = tiempo que carga/ tiempo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093080" y="4221000"/>
                <a:ext cx="125892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24000" y="544500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horario de la pala (m3/ 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659640" y="5373720"/>
                <a:ext cx="1958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2 Título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39640" y="1628640"/>
            <a:ext cx="2555640" cy="2239920"/>
            <a:chOff x="539640" y="1628640"/>
            <a:chExt cx="2555640" cy="223992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539640" y="1628640"/>
              <a:ext cx="255564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12720" y="350028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ugas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932360" y="1484280"/>
            <a:ext cx="2374920" cy="2241720"/>
            <a:chOff x="4932360" y="1484280"/>
            <a:chExt cx="2374920" cy="2241720"/>
          </a:xfrm>
        </p:grpSpPr>
        <p:pic>
          <p:nvPicPr>
            <p:cNvPr id="371" name="" descr=""/>
            <p:cNvPicPr/>
            <p:nvPr/>
          </p:nvPicPr>
          <p:blipFill>
            <a:blip r:embed="rId3"/>
            <a:stretch/>
          </p:blipFill>
          <p:spPr>
            <a:xfrm>
              <a:off x="5005440" y="1484280"/>
              <a:ext cx="22334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932360" y="33577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-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348000" y="4149720"/>
            <a:ext cx="2519280" cy="2313000"/>
            <a:chOff x="3348000" y="4149720"/>
            <a:chExt cx="2519280" cy="2313000"/>
          </a:xfrm>
        </p:grpSpPr>
        <p:pic>
          <p:nvPicPr>
            <p:cNvPr id="374" name="" descr=""/>
            <p:cNvPicPr/>
            <p:nvPr/>
          </p:nvPicPr>
          <p:blipFill>
            <a:blip r:embed="rId4"/>
            <a:stretch/>
          </p:blipFill>
          <p:spPr>
            <a:xfrm>
              <a:off x="3348000" y="4149720"/>
              <a:ext cx="251928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348000" y="609444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aticas- lat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177336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- 3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1,5 –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30 – 40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– 1,7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2 – 1, 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3 – 2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15280" y="170028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300 –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– 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55 – 8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84720" y="4365720"/>
            <a:ext cx="172908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40-5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45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1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0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0:41:55Z</dcterms:created>
  <dc:creator>Raul Castro</dc:creator>
  <dc:description/>
  <dc:language>en-US</dc:language>
  <cp:lastModifiedBy>Raul Castro</cp:lastModifiedBy>
  <dcterms:modified xsi:type="dcterms:W3CDTF">2007-09-06T14:59:48Z</dcterms:modified>
  <cp:revision>8</cp:revision>
  <dc:subject/>
  <dc:title>Palas Mecánicas</dc:title>
</cp:coreProperties>
</file>