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75222-A8E7-47B2-9F99-AE2F1CC1A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0A612-849F-46F3-B7F7-10B6D1FBC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5C760-1EA3-4C58-8B4F-7EECF3CDD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F80E6-2B94-46F3-B3D8-6FD6FBC14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871CB-763A-401D-9D9B-E9E889207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F978A-4017-4515-8A89-82A4D5EA5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58079-0FB9-48AD-B7EA-267E50355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2C7EC-F017-499D-9701-1A0D039D6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E5C6C-3377-460C-88F0-3D3D9AFC8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0FD29-DBA0-4594-B67F-46C809D65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E834B-4511-4ED8-B9CF-52B2F5E0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F6183-C936-4F2C-82B6-42AC2599F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4FD9A-3E66-4A65-ABD8-1D96ECD9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28352-0DF8-4158-BECE-B3588BD8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10611-3770-4078-AA2A-CECB34D1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82990-4968-47CC-8D38-DFF4F0FF7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3C4F8-9C91-47F7-8BB8-0C7A2B8D8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DEFA4-36A2-4B87-9FD4-E6DDF370C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2A9E1-F5E8-4E08-82AD-AF929C623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B5DF9-1A95-4AC5-AEBF-D00F13987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A1E36-0AAF-4DAD-81EB-267382542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A5BA4-5210-4B86-9124-9C07BA19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92B93-829D-4977-96FE-44AE83AE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E1E14-9CB5-44D9-95E1-C9C415E9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F0429-FEC0-4465-81BD-AD7DAC5F00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D0C64-7983-474B-8999-9E2090F32C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Palas en minería subterránea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87640" y="4724280"/>
            <a:ext cx="60199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of. Raúl Castr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6308640"/>
            <a:ext cx="48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estre Primavera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2"/>
          <a:stretch/>
        </p:blipFill>
        <p:spPr>
          <a:xfrm>
            <a:off x="179280" y="2781360"/>
            <a:ext cx="2592360" cy="178416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395280" y="465300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Neumáticas sobre oru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572000" y="2708280"/>
            <a:ext cx="2881440" cy="2874600"/>
            <a:chOff x="4572000" y="2708280"/>
            <a:chExt cx="2881440" cy="2874600"/>
          </a:xfrm>
        </p:grpSpPr>
        <p:pic>
          <p:nvPicPr>
            <p:cNvPr id="383" name="" descr=""/>
            <p:cNvPicPr/>
            <p:nvPr/>
          </p:nvPicPr>
          <p:blipFill>
            <a:blip r:embed="rId3"/>
            <a:stretch/>
          </p:blipFill>
          <p:spPr>
            <a:xfrm>
              <a:off x="4572000" y="2708280"/>
              <a:ext cx="2881440" cy="21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4859280" y="4940280"/>
              <a:ext cx="2158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Neumáticas sobre rue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826920" y="1557360"/>
            <a:ext cx="6697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corporan un pequeño balde para transporte desde la fr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ejora el rendimie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987640" y="3068640"/>
            <a:ext cx="1728720" cy="14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Capacidad: 280 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Velocidad: 2,5 km/h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ncho pala 2,2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Largo 3,6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ltura descarga 1,8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ltura máxima 2,4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Consumo de aire 15 m3/m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415280" y="2852640"/>
            <a:ext cx="1728720" cy="21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Capacidad: 125-500 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Velocidad: 3,6 - 5 km/h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ncho pala 1,8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Largo 3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ltura descarga tolv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0,5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ltura máxima carg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,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ltura máxima tolv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2,3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68360" y="206064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623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SISTEMAS DE CARGU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23880" indent="-623880">
              <a:lnSpc>
                <a:spcPct val="8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Palas mecánic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72960">
              <a:lnSpc>
                <a:spcPct val="80000"/>
              </a:lnSpc>
              <a:spcBef>
                <a:spcPts val="5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Palas  montadas sobre rie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72960">
              <a:lnSpc>
                <a:spcPct val="80000"/>
              </a:lnSpc>
              <a:spcBef>
                <a:spcPts val="5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Descripción del sistem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72960">
              <a:lnSpc>
                <a:spcPct val="80000"/>
              </a:lnSpc>
              <a:spcBef>
                <a:spcPts val="5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Calculo de rendimiento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72960">
              <a:lnSpc>
                <a:spcPct val="80000"/>
              </a:lnSpc>
              <a:spcBef>
                <a:spcPts val="5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72960">
              <a:lnSpc>
                <a:spcPct val="80000"/>
              </a:lnSpc>
              <a:spcBef>
                <a:spcPts val="5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Palas mecánicas autocargador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115920">
              <a:lnSpc>
                <a:spcPct val="80000"/>
              </a:lnSpc>
              <a:spcBef>
                <a:spcPts val="42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Arial"/>
              </a:rPr>
              <a:t>Palas montadas sobre orug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115920">
              <a:lnSpc>
                <a:spcPct val="80000"/>
              </a:lnSpc>
              <a:spcBef>
                <a:spcPts val="425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Arial"/>
              </a:rPr>
              <a:t>Palas auto-cargador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72960">
              <a:lnSpc>
                <a:spcPct val="80000"/>
              </a:lnSpc>
              <a:spcBef>
                <a:spcPts val="425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2 Título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84978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Han evolucionado desde 1930 y tuvieron su mayor desarrollo en los 70´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rácticamente obsoletas sin embargo conviene conocer el concepto detrás de su ope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u objetivo es el de cargar el mineral y transportarlo distancias cor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u velocidad de desplazamiento es baj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Operador opera a un lado de la p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EimcoB21"/>
          <p:cNvPicPr/>
          <p:nvPr/>
        </p:nvPicPr>
        <p:blipFill>
          <a:blip r:embed="rId2"/>
          <a:stretch/>
        </p:blipFill>
        <p:spPr>
          <a:xfrm>
            <a:off x="900000" y="1628640"/>
            <a:ext cx="2343240" cy="1741680"/>
          </a:xfrm>
          <a:prstGeom prst="rect">
            <a:avLst/>
          </a:prstGeom>
          <a:ln w="0">
            <a:noFill/>
          </a:ln>
        </p:spPr>
      </p:pic>
      <p:grpSp>
        <p:nvGrpSpPr>
          <p:cNvPr id="115" name="Group 5"/>
          <p:cNvGrpSpPr/>
          <p:nvPr/>
        </p:nvGrpSpPr>
        <p:grpSpPr>
          <a:xfrm>
            <a:off x="1403280" y="3933720"/>
            <a:ext cx="6215040" cy="1924200"/>
            <a:chOff x="1403280" y="3933720"/>
            <a:chExt cx="6215040" cy="1924200"/>
          </a:xfrm>
        </p:grpSpPr>
        <p:grpSp>
          <p:nvGrpSpPr>
            <p:cNvPr id="116" name="Group 6"/>
            <p:cNvGrpSpPr/>
            <p:nvPr/>
          </p:nvGrpSpPr>
          <p:grpSpPr>
            <a:xfrm>
              <a:off x="1403280" y="3933720"/>
              <a:ext cx="6215040" cy="1924200"/>
              <a:chOff x="1403280" y="3933720"/>
              <a:chExt cx="6215040" cy="1924200"/>
            </a:xfrm>
          </p:grpSpPr>
          <p:grpSp>
            <p:nvGrpSpPr>
              <p:cNvPr id="117" name="Group 7"/>
              <p:cNvGrpSpPr/>
              <p:nvPr/>
            </p:nvGrpSpPr>
            <p:grpSpPr>
              <a:xfrm>
                <a:off x="5061240" y="3933720"/>
                <a:ext cx="2327400" cy="1911240"/>
                <a:chOff x="5061240" y="3933720"/>
                <a:chExt cx="2327400" cy="1911240"/>
              </a:xfrm>
            </p:grpSpPr>
            <p:grpSp>
              <p:nvGrpSpPr>
                <p:cNvPr id="118" name="Group 8"/>
                <p:cNvGrpSpPr/>
                <p:nvPr/>
              </p:nvGrpSpPr>
              <p:grpSpPr>
                <a:xfrm>
                  <a:off x="5061240" y="3933720"/>
                  <a:ext cx="2159280" cy="1542240"/>
                  <a:chOff x="5061240" y="3933720"/>
                  <a:chExt cx="2159280" cy="1542240"/>
                </a:xfrm>
              </p:grpSpPr>
              <p:grpSp>
                <p:nvGrpSpPr>
                  <p:cNvPr id="119" name="Group 9"/>
                  <p:cNvGrpSpPr/>
                  <p:nvPr/>
                </p:nvGrpSpPr>
                <p:grpSpPr>
                  <a:xfrm>
                    <a:off x="5526360" y="4507560"/>
                    <a:ext cx="1418040" cy="965160"/>
                    <a:chOff x="5526360" y="4507560"/>
                    <a:chExt cx="1418040" cy="965160"/>
                  </a:xfrm>
                </p:grpSpPr>
                <p:sp>
                  <p:nvSpPr>
                    <p:cNvPr id="120" name="Freeform 10"/>
                    <p:cNvSpPr/>
                    <p:nvPr/>
                  </p:nvSpPr>
                  <p:spPr>
                    <a:xfrm>
                      <a:off x="5526360" y="4507560"/>
                      <a:ext cx="1418040" cy="96516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Oval 11"/>
                    <p:cNvSpPr/>
                    <p:nvPr/>
                  </p:nvSpPr>
                  <p:spPr>
                    <a:xfrm>
                      <a:off x="6048720" y="5175720"/>
                      <a:ext cx="223920" cy="222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Oval 12"/>
                    <p:cNvSpPr/>
                    <p:nvPr/>
                  </p:nvSpPr>
                  <p:spPr>
                    <a:xfrm>
                      <a:off x="6571440" y="5175720"/>
                      <a:ext cx="223560" cy="222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Arc 13"/>
                    <p:cNvSpPr/>
                    <p:nvPr/>
                  </p:nvSpPr>
                  <p:spPr>
                    <a:xfrm>
                      <a:off x="5868000" y="4645080"/>
                      <a:ext cx="181440" cy="2224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Freeform 14"/>
                    <p:cNvSpPr/>
                    <p:nvPr/>
                  </p:nvSpPr>
                  <p:spPr>
                    <a:xfrm>
                      <a:off x="5793120" y="4655880"/>
                      <a:ext cx="149040" cy="4453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5" name="Arc 15"/>
                  <p:cNvSpPr/>
                  <p:nvPr/>
                </p:nvSpPr>
                <p:spPr>
                  <a:xfrm flipV="1" rot="5400000">
                    <a:off x="4825800" y="4746960"/>
                    <a:ext cx="964080" cy="49356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Freeform 16"/>
                  <p:cNvSpPr/>
                  <p:nvPr/>
                </p:nvSpPr>
                <p:spPr>
                  <a:xfrm>
                    <a:off x="5164560" y="3933720"/>
                    <a:ext cx="2055960" cy="5706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" name="Line 17"/>
                <p:cNvSpPr/>
                <p:nvPr/>
              </p:nvSpPr>
              <p:spPr>
                <a:xfrm>
                  <a:off x="5521680" y="5473800"/>
                  <a:ext cx="720" cy="37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Line 18"/>
                <p:cNvSpPr/>
                <p:nvPr/>
              </p:nvSpPr>
              <p:spPr>
                <a:xfrm>
                  <a:off x="6945120" y="4583160"/>
                  <a:ext cx="0" cy="126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Line 19"/>
                <p:cNvSpPr/>
                <p:nvPr/>
              </p:nvSpPr>
              <p:spPr>
                <a:xfrm>
                  <a:off x="6679080" y="5373720"/>
                  <a:ext cx="671400" cy="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Line 20"/>
                <p:cNvSpPr/>
                <p:nvPr/>
              </p:nvSpPr>
              <p:spPr>
                <a:xfrm>
                  <a:off x="6553800" y="3933720"/>
                  <a:ext cx="82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Line 21"/>
                <p:cNvSpPr/>
                <p:nvPr/>
              </p:nvSpPr>
              <p:spPr>
                <a:xfrm>
                  <a:off x="7151040" y="4601880"/>
                  <a:ext cx="720" cy="44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Line 22"/>
                <p:cNvSpPr/>
                <p:nvPr/>
              </p:nvSpPr>
              <p:spPr>
                <a:xfrm>
                  <a:off x="7151040" y="4586040"/>
                  <a:ext cx="149400" cy="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Line 23"/>
                <p:cNvSpPr/>
                <p:nvPr/>
              </p:nvSpPr>
              <p:spPr>
                <a:xfrm>
                  <a:off x="5528160" y="5715000"/>
                  <a:ext cx="1417320" cy="7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Line 24"/>
                <p:cNvSpPr/>
                <p:nvPr/>
              </p:nvSpPr>
              <p:spPr>
                <a:xfrm>
                  <a:off x="6940080" y="4973040"/>
                  <a:ext cx="2239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Line 25"/>
                <p:cNvSpPr/>
                <p:nvPr/>
              </p:nvSpPr>
              <p:spPr>
                <a:xfrm>
                  <a:off x="7362720" y="3946320"/>
                  <a:ext cx="0" cy="14101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Line 26"/>
                <p:cNvSpPr/>
                <p:nvPr/>
              </p:nvSpPr>
              <p:spPr>
                <a:xfrm>
                  <a:off x="7281720" y="4614120"/>
                  <a:ext cx="0" cy="7423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Text Box 27"/>
                <p:cNvSpPr/>
                <p:nvPr/>
              </p:nvSpPr>
              <p:spPr>
                <a:xfrm>
                  <a:off x="6106320" y="5491800"/>
                  <a:ext cx="372960" cy="29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12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Text Box 28"/>
                <p:cNvSpPr/>
                <p:nvPr/>
              </p:nvSpPr>
              <p:spPr>
                <a:xfrm>
                  <a:off x="6863400" y="4696200"/>
                  <a:ext cx="372960" cy="29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1200" spc="-1" strike="noStrike">
                      <a:solidFill>
                        <a:srgbClr val="000000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Text Box 29"/>
                <p:cNvSpPr/>
                <p:nvPr/>
              </p:nvSpPr>
              <p:spPr>
                <a:xfrm>
                  <a:off x="7015680" y="4987440"/>
                  <a:ext cx="37296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12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" name="Text Box 30"/>
              <p:cNvSpPr/>
              <p:nvPr/>
            </p:nvSpPr>
            <p:spPr>
              <a:xfrm>
                <a:off x="7245360" y="4588920"/>
                <a:ext cx="372960" cy="29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2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" name="Group 31"/>
              <p:cNvGrpSpPr/>
              <p:nvPr/>
            </p:nvGrpSpPr>
            <p:grpSpPr>
              <a:xfrm>
                <a:off x="2746440" y="4675680"/>
                <a:ext cx="2239560" cy="1182240"/>
                <a:chOff x="2746440" y="4675680"/>
                <a:chExt cx="2239560" cy="1182240"/>
              </a:xfrm>
            </p:grpSpPr>
            <p:grpSp>
              <p:nvGrpSpPr>
                <p:cNvPr id="142" name="Group 32"/>
                <p:cNvGrpSpPr/>
                <p:nvPr/>
              </p:nvGrpSpPr>
              <p:grpSpPr>
                <a:xfrm>
                  <a:off x="3045240" y="4675680"/>
                  <a:ext cx="1527480" cy="873720"/>
                  <a:chOff x="3045240" y="4675680"/>
                  <a:chExt cx="1527480" cy="873720"/>
                </a:xfrm>
              </p:grpSpPr>
              <p:grpSp>
                <p:nvGrpSpPr>
                  <p:cNvPr id="143" name="Group 33"/>
                  <p:cNvGrpSpPr/>
                  <p:nvPr/>
                </p:nvGrpSpPr>
                <p:grpSpPr>
                  <a:xfrm>
                    <a:off x="3154320" y="4675680"/>
                    <a:ext cx="1418400" cy="873720"/>
                    <a:chOff x="3154320" y="4675680"/>
                    <a:chExt cx="1418400" cy="873720"/>
                  </a:xfrm>
                </p:grpSpPr>
                <p:sp>
                  <p:nvSpPr>
                    <p:cNvPr id="144" name="Freeform 34"/>
                    <p:cNvSpPr/>
                    <p:nvPr/>
                  </p:nvSpPr>
                  <p:spPr>
                    <a:xfrm>
                      <a:off x="3154320" y="4675680"/>
                      <a:ext cx="1418400" cy="4453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Freeform 35"/>
                    <p:cNvSpPr/>
                    <p:nvPr/>
                  </p:nvSpPr>
                  <p:spPr>
                    <a:xfrm>
                      <a:off x="3154320" y="4972320"/>
                      <a:ext cx="1418400" cy="57708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6" name="Group 36"/>
                  <p:cNvGrpSpPr/>
                  <p:nvPr/>
                </p:nvGrpSpPr>
                <p:grpSpPr>
                  <a:xfrm>
                    <a:off x="3045240" y="4897800"/>
                    <a:ext cx="109080" cy="290880"/>
                    <a:chOff x="3045240" y="4897800"/>
                    <a:chExt cx="109080" cy="290880"/>
                  </a:xfrm>
                </p:grpSpPr>
                <p:sp>
                  <p:nvSpPr>
                    <p:cNvPr id="147" name="Freeform 37"/>
                    <p:cNvSpPr/>
                    <p:nvPr/>
                  </p:nvSpPr>
                  <p:spPr>
                    <a:xfrm>
                      <a:off x="3045240" y="5039280"/>
                      <a:ext cx="109080" cy="1494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" name="Freeform 38"/>
                    <p:cNvSpPr/>
                    <p:nvPr/>
                  </p:nvSpPr>
                  <p:spPr>
                    <a:xfrm flipV="1">
                      <a:off x="3045240" y="4897440"/>
                      <a:ext cx="109080" cy="1494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rot="10800000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49" name="Text Box 39"/>
                <p:cNvSpPr/>
                <p:nvPr/>
              </p:nvSpPr>
              <p:spPr>
                <a:xfrm>
                  <a:off x="4613040" y="5194800"/>
                  <a:ext cx="37296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1200" spc="-1" strike="noStrike">
                      <a:solidFill>
                        <a:srgbClr val="000000"/>
                      </a:solidFill>
                      <a:latin typeface="Times New Roman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Freeform 40"/>
                <p:cNvSpPr/>
                <p:nvPr/>
              </p:nvSpPr>
              <p:spPr>
                <a:xfrm rot="19215000">
                  <a:off x="3180960" y="5259600"/>
                  <a:ext cx="483120" cy="5014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Line 41"/>
                <p:cNvSpPr/>
                <p:nvPr/>
              </p:nvSpPr>
              <p:spPr>
                <a:xfrm flipH="1">
                  <a:off x="2746440" y="5788800"/>
                  <a:ext cx="1045080" cy="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Line 42"/>
                <p:cNvSpPr/>
                <p:nvPr/>
              </p:nvSpPr>
              <p:spPr>
                <a:xfrm flipH="1">
                  <a:off x="2746440" y="5035320"/>
                  <a:ext cx="522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Line 43"/>
                <p:cNvSpPr/>
                <p:nvPr/>
              </p:nvSpPr>
              <p:spPr>
                <a:xfrm flipH="1">
                  <a:off x="3927960" y="5553360"/>
                  <a:ext cx="1045080" cy="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Line 44"/>
                <p:cNvSpPr/>
                <p:nvPr/>
              </p:nvSpPr>
              <p:spPr>
                <a:xfrm flipH="1">
                  <a:off x="4463280" y="5045400"/>
                  <a:ext cx="522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Line 45"/>
                <p:cNvSpPr/>
                <p:nvPr/>
              </p:nvSpPr>
              <p:spPr>
                <a:xfrm>
                  <a:off x="4911840" y="5033880"/>
                  <a:ext cx="0" cy="51948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Line 46"/>
                <p:cNvSpPr/>
                <p:nvPr/>
              </p:nvSpPr>
              <p:spPr>
                <a:xfrm>
                  <a:off x="2820960" y="5046840"/>
                  <a:ext cx="0" cy="7419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Text Box 47"/>
                <p:cNvSpPr/>
                <p:nvPr/>
              </p:nvSpPr>
              <p:spPr>
                <a:xfrm>
                  <a:off x="2746800" y="5343840"/>
                  <a:ext cx="37296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12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Group 48"/>
              <p:cNvGrpSpPr/>
              <p:nvPr/>
            </p:nvGrpSpPr>
            <p:grpSpPr>
              <a:xfrm>
                <a:off x="1403280" y="4339800"/>
                <a:ext cx="1319040" cy="1437480"/>
                <a:chOff x="1403280" y="4339800"/>
                <a:chExt cx="1319040" cy="1437480"/>
              </a:xfrm>
            </p:grpSpPr>
            <p:sp>
              <p:nvSpPr>
                <p:cNvPr id="159" name="Freeform 49"/>
                <p:cNvSpPr/>
                <p:nvPr/>
              </p:nvSpPr>
              <p:spPr>
                <a:xfrm>
                  <a:off x="1813320" y="4750200"/>
                  <a:ext cx="895320" cy="102708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Line 50"/>
                <p:cNvSpPr/>
                <p:nvPr/>
              </p:nvSpPr>
              <p:spPr>
                <a:xfrm flipV="1">
                  <a:off x="1808280" y="4527000"/>
                  <a:ext cx="0" cy="51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Line 51"/>
                <p:cNvSpPr/>
                <p:nvPr/>
              </p:nvSpPr>
              <p:spPr>
                <a:xfrm flipV="1">
                  <a:off x="2717280" y="4527000"/>
                  <a:ext cx="5040" cy="296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Line 52"/>
                <p:cNvSpPr/>
                <p:nvPr/>
              </p:nvSpPr>
              <p:spPr>
                <a:xfrm flipV="1">
                  <a:off x="2176560" y="4675680"/>
                  <a:ext cx="5040" cy="296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Line 53"/>
                <p:cNvSpPr/>
                <p:nvPr/>
              </p:nvSpPr>
              <p:spPr>
                <a:xfrm flipH="1">
                  <a:off x="1589400" y="5710320"/>
                  <a:ext cx="372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Line 54"/>
                <p:cNvSpPr/>
                <p:nvPr/>
              </p:nvSpPr>
              <p:spPr>
                <a:xfrm flipH="1">
                  <a:off x="1589400" y="4750200"/>
                  <a:ext cx="372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Line 55"/>
                <p:cNvSpPr/>
                <p:nvPr/>
              </p:nvSpPr>
              <p:spPr>
                <a:xfrm>
                  <a:off x="1813320" y="4675680"/>
                  <a:ext cx="3729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Freeform 56"/>
                <p:cNvSpPr/>
                <p:nvPr/>
              </p:nvSpPr>
              <p:spPr>
                <a:xfrm>
                  <a:off x="1813320" y="4542840"/>
                  <a:ext cx="892080" cy="2880"/>
                </a:xfrm>
                <a:prstGeom prst="pie">
                  <a:avLst/>
                </a:prstGeom>
                <a:noFill/>
                <a:ln w="9360">
                  <a:solidFill>
                    <a:srgbClr val="ff0000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57"/>
                <p:cNvSpPr/>
                <p:nvPr/>
              </p:nvSpPr>
              <p:spPr>
                <a:xfrm>
                  <a:off x="1645920" y="4755960"/>
                  <a:ext cx="720" cy="947160"/>
                </a:xfrm>
                <a:prstGeom prst="pie">
                  <a:avLst/>
                </a:prstGeom>
                <a:noFill/>
                <a:ln w="9360">
                  <a:solidFill>
                    <a:srgbClr val="ff0000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Text Box 58"/>
                <p:cNvSpPr/>
                <p:nvPr/>
              </p:nvSpPr>
              <p:spPr>
                <a:xfrm>
                  <a:off x="2062080" y="4339800"/>
                  <a:ext cx="37368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1200" spc="-1" strike="noStrike">
                      <a:solidFill>
                        <a:srgbClr val="000000"/>
                      </a:solidFill>
                      <a:latin typeface="Times New Roman"/>
                    </a:rPr>
                    <a:t>J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Text Box 59"/>
                <p:cNvSpPr/>
                <p:nvPr/>
              </p:nvSpPr>
              <p:spPr>
                <a:xfrm>
                  <a:off x="1813320" y="4484160"/>
                  <a:ext cx="37296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1200" spc="-1" strike="noStrike">
                      <a:solidFill>
                        <a:srgbClr val="000000"/>
                      </a:solidFill>
                      <a:latin typeface="Times New Roman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Text Box 60"/>
                <p:cNvSpPr/>
                <p:nvPr/>
              </p:nvSpPr>
              <p:spPr>
                <a:xfrm>
                  <a:off x="1403280" y="5121000"/>
                  <a:ext cx="37296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12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" name="Freeform 61"/>
            <p:cNvSpPr/>
            <p:nvPr/>
          </p:nvSpPr>
          <p:spPr>
            <a:xfrm rot="10800000">
              <a:off x="6814440" y="4127760"/>
              <a:ext cx="376200" cy="5065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5651640" y="5734080"/>
            <a:ext cx="11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2,1 – 2,7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59280" y="5805360"/>
            <a:ext cx="18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2,3 – 3,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84720" y="1484280"/>
            <a:ext cx="37447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apacidad pala = 0,14-0,6 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apacidad del carro = 1,3 – 4 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Rendimiento = 0,6 – 2 m3/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356000" y="2565360"/>
            <a:ext cx="194472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Galerías:  2,2 x 1,8-2,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3,1 x 2,2-3,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2,29 x 3,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endientes: 0,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380360" y="4941720"/>
            <a:ext cx="11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1,15- 1,7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451640" y="4149720"/>
            <a:ext cx="11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2 – 2, 8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63640" y="4076640"/>
            <a:ext cx="12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1 – 1,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39640" y="5084640"/>
            <a:ext cx="10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1,3 – 1,7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Vías fér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900000" y="2060280"/>
            <a:ext cx="3200040" cy="984600"/>
            <a:chOff x="900000" y="2060280"/>
            <a:chExt cx="3200040" cy="984600"/>
          </a:xfrm>
        </p:grpSpPr>
        <p:grpSp>
          <p:nvGrpSpPr>
            <p:cNvPr id="182" name=""/>
            <p:cNvGrpSpPr/>
            <p:nvPr/>
          </p:nvGrpSpPr>
          <p:grpSpPr>
            <a:xfrm>
              <a:off x="900000" y="2060280"/>
              <a:ext cx="1027440" cy="984600"/>
              <a:chOff x="900000" y="2060280"/>
              <a:chExt cx="1027440" cy="98460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900000" y="2060280"/>
                <a:ext cx="901440" cy="856440"/>
                <a:chOff x="900000" y="2060280"/>
                <a:chExt cx="901440" cy="85644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1576080" y="2236320"/>
                  <a:ext cx="180000" cy="503640"/>
                </a:xfrm>
                <a:custGeom>
                  <a:avLst/>
                  <a:gdLst/>
                  <a:ahLst/>
                  <a:rect l="l" t="t" r="r" b="b"/>
                  <a:pathLst>
                    <a:path w="710" h="1562">
                      <a:moveTo>
                        <a:pt x="0" y="0"/>
                      </a:moveTo>
                      <a:lnTo>
                        <a:pt x="710" y="0"/>
                      </a:lnTo>
                      <a:lnTo>
                        <a:pt x="710" y="1562"/>
                      </a:lnTo>
                      <a:lnTo>
                        <a:pt x="0" y="156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flipH="1">
                  <a:off x="1305000" y="2236320"/>
                  <a:ext cx="180360" cy="503640"/>
                </a:xfrm>
                <a:custGeom>
                  <a:avLst/>
                  <a:gdLst/>
                  <a:ahLst/>
                  <a:rect l="l" t="t" r="r" b="b"/>
                  <a:pathLst>
                    <a:path w="710" h="1562">
                      <a:moveTo>
                        <a:pt x="0" y="0"/>
                      </a:moveTo>
                      <a:lnTo>
                        <a:pt x="710" y="0"/>
                      </a:lnTo>
                      <a:lnTo>
                        <a:pt x="710" y="1562"/>
                      </a:lnTo>
                      <a:lnTo>
                        <a:pt x="0" y="156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900000" y="2413080"/>
                  <a:ext cx="405720" cy="150840"/>
                </a:xfrm>
                <a:custGeom>
                  <a:avLst/>
                  <a:gdLst/>
                  <a:ahLst/>
                  <a:rect l="l" t="t" r="r" b="b"/>
                  <a:pathLst>
                    <a:path w="1278" h="426">
                      <a:moveTo>
                        <a:pt x="0" y="0"/>
                      </a:moveTo>
                      <a:lnTo>
                        <a:pt x="1278" y="0"/>
                      </a:lnTo>
                      <a:lnTo>
                        <a:pt x="1278" y="426"/>
                      </a:lnTo>
                      <a:lnTo>
                        <a:pt x="0" y="42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1756440" y="2413080"/>
                  <a:ext cx="45000" cy="150840"/>
                </a:xfrm>
                <a:custGeom>
                  <a:avLst/>
                  <a:gdLst/>
                  <a:ahLst/>
                  <a:rect l="l" t="t" r="r" b="b"/>
                  <a:pathLst>
                    <a:path w="1278" h="426">
                      <a:moveTo>
                        <a:pt x="0" y="0"/>
                      </a:moveTo>
                      <a:lnTo>
                        <a:pt x="1278" y="0"/>
                      </a:lnTo>
                      <a:lnTo>
                        <a:pt x="1278" y="426"/>
                      </a:lnTo>
                      <a:lnTo>
                        <a:pt x="0" y="42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8" name=""/>
                <p:cNvGrpSpPr/>
                <p:nvPr/>
              </p:nvGrpSpPr>
              <p:grpSpPr>
                <a:xfrm>
                  <a:off x="1486080" y="2060280"/>
                  <a:ext cx="90000" cy="856440"/>
                  <a:chOff x="1486080" y="2060280"/>
                  <a:chExt cx="90000" cy="85644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>
                    <a:off x="1486080" y="2240640"/>
                    <a:ext cx="90000" cy="67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2130">
                        <a:moveTo>
                          <a:pt x="0" y="0"/>
                        </a:moveTo>
                        <a:lnTo>
                          <a:pt x="0" y="1562"/>
                        </a:lnTo>
                        <a:lnTo>
                          <a:pt x="142" y="2130"/>
                        </a:lnTo>
                        <a:lnTo>
                          <a:pt x="284" y="156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 rot="10800000">
                    <a:off x="1486080" y="2060280"/>
                    <a:ext cx="90000" cy="67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2130">
                        <a:moveTo>
                          <a:pt x="0" y="0"/>
                        </a:moveTo>
                        <a:lnTo>
                          <a:pt x="0" y="1562"/>
                        </a:lnTo>
                        <a:lnTo>
                          <a:pt x="142" y="2130"/>
                        </a:lnTo>
                        <a:lnTo>
                          <a:pt x="284" y="156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 flipV="1">
                    <a:off x="1531080" y="2060640"/>
                    <a:ext cx="360" cy="856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2" name=""/>
              <p:cNvGrpSpPr/>
              <p:nvPr/>
            </p:nvGrpSpPr>
            <p:grpSpPr>
              <a:xfrm>
                <a:off x="1421280" y="2743560"/>
                <a:ext cx="506160" cy="301320"/>
                <a:chOff x="1421280" y="2743560"/>
                <a:chExt cx="506160" cy="301320"/>
              </a:xfrm>
            </p:grpSpPr>
            <p:sp>
              <p:nvSpPr>
                <p:cNvPr id="193" name=""/>
                <p:cNvSpPr/>
                <p:nvPr/>
              </p:nvSpPr>
              <p:spPr>
                <a:xfrm flipV="1">
                  <a:off x="1569960" y="2743200"/>
                  <a:ext cx="209520" cy="145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019" y="2767"/>
                      </a:moveTo>
                      <a:arcTo wR="10800" hR="10800" stAng="-2883389" swAng="1643963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019" y="2767"/>
                      </a:moveTo>
                      <a:arcTo wR="10800" hR="10800" stAng="-2883389" swAng="16439634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 flipV="1">
                  <a:off x="1421280" y="2846160"/>
                  <a:ext cx="209160" cy="145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019" y="2767"/>
                      </a:moveTo>
                      <a:arcTo wR="10800" hR="10800" stAng="-2883389" swAng="55280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019" y="2767"/>
                      </a:moveTo>
                      <a:arcTo wR="10800" hR="10800" stAng="-2883389" swAng="5528059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 flipH="1" flipV="1">
                  <a:off x="1717920" y="2847960"/>
                  <a:ext cx="209160" cy="145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019" y="2767"/>
                      </a:moveTo>
                      <a:arcTo wR="10800" hR="10800" stAng="-2883389" swAng="55280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019" y="2767"/>
                      </a:moveTo>
                      <a:arcTo wR="10800" hR="10800" stAng="-2883389" swAng="5528059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1523160" y="2971800"/>
                  <a:ext cx="174960" cy="73080"/>
                </a:xfrm>
                <a:custGeom>
                  <a:avLst/>
                  <a:gdLst/>
                  <a:ahLst/>
                  <a:rect l="l" t="t" r="r" b="b"/>
                  <a:pathLst>
                    <a:path w="710" h="426">
                      <a:moveTo>
                        <a:pt x="284" y="0"/>
                      </a:moveTo>
                      <a:lnTo>
                        <a:pt x="0" y="142"/>
                      </a:lnTo>
                      <a:lnTo>
                        <a:pt x="0" y="426"/>
                      </a:lnTo>
                      <a:lnTo>
                        <a:pt x="710" y="42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flipH="1">
                  <a:off x="1645920" y="2971800"/>
                  <a:ext cx="174960" cy="73080"/>
                </a:xfrm>
                <a:custGeom>
                  <a:avLst/>
                  <a:gdLst/>
                  <a:ahLst/>
                  <a:rect l="l" t="t" r="r" b="b"/>
                  <a:pathLst>
                    <a:path w="710" h="426">
                      <a:moveTo>
                        <a:pt x="284" y="0"/>
                      </a:moveTo>
                      <a:lnTo>
                        <a:pt x="0" y="142"/>
                      </a:lnTo>
                      <a:lnTo>
                        <a:pt x="0" y="426"/>
                      </a:lnTo>
                      <a:lnTo>
                        <a:pt x="710" y="42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8" name=""/>
            <p:cNvGrpSpPr/>
            <p:nvPr/>
          </p:nvGrpSpPr>
          <p:grpSpPr>
            <a:xfrm>
              <a:off x="1981800" y="2060280"/>
              <a:ext cx="901440" cy="984600"/>
              <a:chOff x="1981800" y="2060280"/>
              <a:chExt cx="901440" cy="984600"/>
            </a:xfrm>
          </p:grpSpPr>
          <p:grpSp>
            <p:nvGrpSpPr>
              <p:cNvPr id="199" name=""/>
              <p:cNvGrpSpPr/>
              <p:nvPr/>
            </p:nvGrpSpPr>
            <p:grpSpPr>
              <a:xfrm>
                <a:off x="1981800" y="2060280"/>
                <a:ext cx="901440" cy="856440"/>
                <a:chOff x="1981800" y="2060280"/>
                <a:chExt cx="901440" cy="85644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2657880" y="2236320"/>
                  <a:ext cx="180000" cy="503640"/>
                </a:xfrm>
                <a:custGeom>
                  <a:avLst/>
                  <a:gdLst/>
                  <a:ahLst/>
                  <a:rect l="l" t="t" r="r" b="b"/>
                  <a:pathLst>
                    <a:path w="710" h="1562">
                      <a:moveTo>
                        <a:pt x="0" y="0"/>
                      </a:moveTo>
                      <a:lnTo>
                        <a:pt x="710" y="0"/>
                      </a:lnTo>
                      <a:lnTo>
                        <a:pt x="710" y="1562"/>
                      </a:lnTo>
                      <a:lnTo>
                        <a:pt x="0" y="156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flipH="1">
                  <a:off x="2386800" y="2236320"/>
                  <a:ext cx="180360" cy="503640"/>
                </a:xfrm>
                <a:custGeom>
                  <a:avLst/>
                  <a:gdLst/>
                  <a:ahLst/>
                  <a:rect l="l" t="t" r="r" b="b"/>
                  <a:pathLst>
                    <a:path w="710" h="1562">
                      <a:moveTo>
                        <a:pt x="0" y="0"/>
                      </a:moveTo>
                      <a:lnTo>
                        <a:pt x="710" y="0"/>
                      </a:lnTo>
                      <a:lnTo>
                        <a:pt x="710" y="1562"/>
                      </a:lnTo>
                      <a:lnTo>
                        <a:pt x="0" y="156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1981800" y="2413080"/>
                  <a:ext cx="405720" cy="150840"/>
                </a:xfrm>
                <a:custGeom>
                  <a:avLst/>
                  <a:gdLst/>
                  <a:ahLst/>
                  <a:rect l="l" t="t" r="r" b="b"/>
                  <a:pathLst>
                    <a:path w="1278" h="426">
                      <a:moveTo>
                        <a:pt x="0" y="0"/>
                      </a:moveTo>
                      <a:lnTo>
                        <a:pt x="1278" y="0"/>
                      </a:lnTo>
                      <a:lnTo>
                        <a:pt x="1278" y="426"/>
                      </a:lnTo>
                      <a:lnTo>
                        <a:pt x="0" y="42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2838240" y="2413080"/>
                  <a:ext cx="45000" cy="150840"/>
                </a:xfrm>
                <a:custGeom>
                  <a:avLst/>
                  <a:gdLst/>
                  <a:ahLst/>
                  <a:rect l="l" t="t" r="r" b="b"/>
                  <a:pathLst>
                    <a:path w="1278" h="426">
                      <a:moveTo>
                        <a:pt x="0" y="0"/>
                      </a:moveTo>
                      <a:lnTo>
                        <a:pt x="1278" y="0"/>
                      </a:lnTo>
                      <a:lnTo>
                        <a:pt x="1278" y="426"/>
                      </a:lnTo>
                      <a:lnTo>
                        <a:pt x="0" y="42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4" name=""/>
                <p:cNvGrpSpPr/>
                <p:nvPr/>
              </p:nvGrpSpPr>
              <p:grpSpPr>
                <a:xfrm>
                  <a:off x="2567880" y="2060280"/>
                  <a:ext cx="90000" cy="856440"/>
                  <a:chOff x="2567880" y="2060280"/>
                  <a:chExt cx="90000" cy="856440"/>
                </a:xfrm>
              </p:grpSpPr>
              <p:sp>
                <p:nvSpPr>
                  <p:cNvPr id="205" name=""/>
                  <p:cNvSpPr/>
                  <p:nvPr/>
                </p:nvSpPr>
                <p:spPr>
                  <a:xfrm>
                    <a:off x="2567880" y="2240640"/>
                    <a:ext cx="90000" cy="67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2130">
                        <a:moveTo>
                          <a:pt x="0" y="0"/>
                        </a:moveTo>
                        <a:lnTo>
                          <a:pt x="0" y="1562"/>
                        </a:lnTo>
                        <a:lnTo>
                          <a:pt x="142" y="2130"/>
                        </a:lnTo>
                        <a:lnTo>
                          <a:pt x="284" y="156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 rot="10800000">
                    <a:off x="2567880" y="2060280"/>
                    <a:ext cx="90000" cy="67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2130">
                        <a:moveTo>
                          <a:pt x="0" y="0"/>
                        </a:moveTo>
                        <a:lnTo>
                          <a:pt x="0" y="1562"/>
                        </a:lnTo>
                        <a:lnTo>
                          <a:pt x="142" y="2130"/>
                        </a:lnTo>
                        <a:lnTo>
                          <a:pt x="284" y="156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 flipV="1">
                    <a:off x="2612880" y="2060640"/>
                    <a:ext cx="360" cy="856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8" name=""/>
              <p:cNvGrpSpPr/>
              <p:nvPr/>
            </p:nvGrpSpPr>
            <p:grpSpPr>
              <a:xfrm>
                <a:off x="2210040" y="2743560"/>
                <a:ext cx="506160" cy="301320"/>
                <a:chOff x="2210040" y="2743560"/>
                <a:chExt cx="506160" cy="301320"/>
              </a:xfrm>
            </p:grpSpPr>
            <p:sp>
              <p:nvSpPr>
                <p:cNvPr id="209" name=""/>
                <p:cNvSpPr/>
                <p:nvPr/>
              </p:nvSpPr>
              <p:spPr>
                <a:xfrm flipV="1">
                  <a:off x="2358720" y="2743200"/>
                  <a:ext cx="209520" cy="145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019" y="2767"/>
                      </a:moveTo>
                      <a:arcTo wR="10800" hR="10800" stAng="-2883389" swAng="1643963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019" y="2767"/>
                      </a:moveTo>
                      <a:arcTo wR="10800" hR="10800" stAng="-2883389" swAng="16439634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V="1">
                  <a:off x="2210040" y="2846160"/>
                  <a:ext cx="209160" cy="145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019" y="2767"/>
                      </a:moveTo>
                      <a:arcTo wR="10800" hR="10800" stAng="-2883389" swAng="55280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019" y="2767"/>
                      </a:moveTo>
                      <a:arcTo wR="10800" hR="10800" stAng="-2883389" swAng="5528059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H="1" flipV="1">
                  <a:off x="2506680" y="2847960"/>
                  <a:ext cx="209160" cy="145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019" y="2767"/>
                      </a:moveTo>
                      <a:arcTo wR="10800" hR="10800" stAng="-2883389" swAng="55280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019" y="2767"/>
                      </a:moveTo>
                      <a:arcTo wR="10800" hR="10800" stAng="-2883389" swAng="5528059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311920" y="2971800"/>
                  <a:ext cx="174960" cy="73080"/>
                </a:xfrm>
                <a:custGeom>
                  <a:avLst/>
                  <a:gdLst/>
                  <a:ahLst/>
                  <a:rect l="l" t="t" r="r" b="b"/>
                  <a:pathLst>
                    <a:path w="710" h="426">
                      <a:moveTo>
                        <a:pt x="284" y="0"/>
                      </a:moveTo>
                      <a:lnTo>
                        <a:pt x="0" y="142"/>
                      </a:lnTo>
                      <a:lnTo>
                        <a:pt x="0" y="426"/>
                      </a:lnTo>
                      <a:lnTo>
                        <a:pt x="710" y="42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flipH="1">
                  <a:off x="2434680" y="2971800"/>
                  <a:ext cx="174960" cy="73080"/>
                </a:xfrm>
                <a:custGeom>
                  <a:avLst/>
                  <a:gdLst/>
                  <a:ahLst/>
                  <a:rect l="l" t="t" r="r" b="b"/>
                  <a:pathLst>
                    <a:path w="710" h="426">
                      <a:moveTo>
                        <a:pt x="284" y="0"/>
                      </a:moveTo>
                      <a:lnTo>
                        <a:pt x="0" y="142"/>
                      </a:lnTo>
                      <a:lnTo>
                        <a:pt x="0" y="426"/>
                      </a:lnTo>
                      <a:lnTo>
                        <a:pt x="710" y="42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3063600" y="2060280"/>
              <a:ext cx="1036440" cy="984600"/>
              <a:chOff x="3063600" y="2060280"/>
              <a:chExt cx="1036440" cy="9846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3063600" y="2060280"/>
                <a:ext cx="901440" cy="856440"/>
                <a:chOff x="3063600" y="2060280"/>
                <a:chExt cx="901440" cy="85644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3739680" y="2236320"/>
                  <a:ext cx="180000" cy="503640"/>
                </a:xfrm>
                <a:custGeom>
                  <a:avLst/>
                  <a:gdLst/>
                  <a:ahLst/>
                  <a:rect l="l" t="t" r="r" b="b"/>
                  <a:pathLst>
                    <a:path w="710" h="1562">
                      <a:moveTo>
                        <a:pt x="0" y="0"/>
                      </a:moveTo>
                      <a:lnTo>
                        <a:pt x="710" y="0"/>
                      </a:lnTo>
                      <a:lnTo>
                        <a:pt x="710" y="1562"/>
                      </a:lnTo>
                      <a:lnTo>
                        <a:pt x="0" y="156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3468600" y="2236320"/>
                  <a:ext cx="180360" cy="503640"/>
                </a:xfrm>
                <a:custGeom>
                  <a:avLst/>
                  <a:gdLst/>
                  <a:ahLst/>
                  <a:rect l="l" t="t" r="r" b="b"/>
                  <a:pathLst>
                    <a:path w="710" h="1562">
                      <a:moveTo>
                        <a:pt x="0" y="0"/>
                      </a:moveTo>
                      <a:lnTo>
                        <a:pt x="710" y="0"/>
                      </a:lnTo>
                      <a:lnTo>
                        <a:pt x="710" y="1562"/>
                      </a:lnTo>
                      <a:lnTo>
                        <a:pt x="0" y="156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063600" y="2413080"/>
                  <a:ext cx="405720" cy="150840"/>
                </a:xfrm>
                <a:custGeom>
                  <a:avLst/>
                  <a:gdLst/>
                  <a:ahLst/>
                  <a:rect l="l" t="t" r="r" b="b"/>
                  <a:pathLst>
                    <a:path w="1278" h="426">
                      <a:moveTo>
                        <a:pt x="0" y="0"/>
                      </a:moveTo>
                      <a:lnTo>
                        <a:pt x="1278" y="0"/>
                      </a:lnTo>
                      <a:lnTo>
                        <a:pt x="1278" y="426"/>
                      </a:lnTo>
                      <a:lnTo>
                        <a:pt x="0" y="42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920040" y="2413080"/>
                  <a:ext cx="45000" cy="150840"/>
                </a:xfrm>
                <a:custGeom>
                  <a:avLst/>
                  <a:gdLst/>
                  <a:ahLst/>
                  <a:rect l="l" t="t" r="r" b="b"/>
                  <a:pathLst>
                    <a:path w="1278" h="426">
                      <a:moveTo>
                        <a:pt x="0" y="0"/>
                      </a:moveTo>
                      <a:lnTo>
                        <a:pt x="1278" y="0"/>
                      </a:lnTo>
                      <a:lnTo>
                        <a:pt x="1278" y="426"/>
                      </a:lnTo>
                      <a:lnTo>
                        <a:pt x="0" y="42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0" name=""/>
                <p:cNvGrpSpPr/>
                <p:nvPr/>
              </p:nvGrpSpPr>
              <p:grpSpPr>
                <a:xfrm>
                  <a:off x="3649680" y="2060280"/>
                  <a:ext cx="90000" cy="856440"/>
                  <a:chOff x="3649680" y="2060280"/>
                  <a:chExt cx="90000" cy="85644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3649680" y="2240640"/>
                    <a:ext cx="90000" cy="67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2130">
                        <a:moveTo>
                          <a:pt x="0" y="0"/>
                        </a:moveTo>
                        <a:lnTo>
                          <a:pt x="0" y="1562"/>
                        </a:lnTo>
                        <a:lnTo>
                          <a:pt x="142" y="2130"/>
                        </a:lnTo>
                        <a:lnTo>
                          <a:pt x="284" y="156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rot="10800000">
                    <a:off x="3649680" y="2060280"/>
                    <a:ext cx="90000" cy="67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2130">
                        <a:moveTo>
                          <a:pt x="0" y="0"/>
                        </a:moveTo>
                        <a:lnTo>
                          <a:pt x="0" y="1562"/>
                        </a:lnTo>
                        <a:lnTo>
                          <a:pt x="142" y="2130"/>
                        </a:lnTo>
                        <a:lnTo>
                          <a:pt x="284" y="156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 flipV="1">
                    <a:off x="3694680" y="2060640"/>
                    <a:ext cx="360" cy="856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4" name=""/>
              <p:cNvGrpSpPr/>
              <p:nvPr/>
            </p:nvGrpSpPr>
            <p:grpSpPr>
              <a:xfrm>
                <a:off x="3592440" y="2743560"/>
                <a:ext cx="507600" cy="301320"/>
                <a:chOff x="3592440" y="2743560"/>
                <a:chExt cx="507600" cy="301320"/>
              </a:xfrm>
            </p:grpSpPr>
            <p:sp>
              <p:nvSpPr>
                <p:cNvPr id="225" name=""/>
                <p:cNvSpPr/>
                <p:nvPr/>
              </p:nvSpPr>
              <p:spPr>
                <a:xfrm flipV="1">
                  <a:off x="3741480" y="2743200"/>
                  <a:ext cx="209880" cy="145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019" y="2767"/>
                      </a:moveTo>
                      <a:arcTo wR="10800" hR="10800" stAng="-2883389" swAng="1643963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019" y="2767"/>
                      </a:moveTo>
                      <a:arcTo wR="10800" hR="10800" stAng="-2883389" swAng="16439634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V="1">
                  <a:off x="3592440" y="2846160"/>
                  <a:ext cx="209880" cy="145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019" y="2767"/>
                      </a:moveTo>
                      <a:arcTo wR="10800" hR="10800" stAng="-2883389" swAng="55280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019" y="2767"/>
                      </a:moveTo>
                      <a:arcTo wR="10800" hR="10800" stAng="-2883389" swAng="5528059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 flipV="1">
                  <a:off x="3889800" y="2847960"/>
                  <a:ext cx="209880" cy="145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019" y="2767"/>
                      </a:moveTo>
                      <a:arcTo wR="10800" hR="10800" stAng="-2883389" swAng="55280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019" y="2767"/>
                      </a:moveTo>
                      <a:arcTo wR="10800" hR="10800" stAng="-2883389" swAng="5528059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694680" y="2971800"/>
                  <a:ext cx="175320" cy="73080"/>
                </a:xfrm>
                <a:custGeom>
                  <a:avLst/>
                  <a:gdLst/>
                  <a:ahLst/>
                  <a:rect l="l" t="t" r="r" b="b"/>
                  <a:pathLst>
                    <a:path w="710" h="426">
                      <a:moveTo>
                        <a:pt x="284" y="0"/>
                      </a:moveTo>
                      <a:lnTo>
                        <a:pt x="0" y="142"/>
                      </a:lnTo>
                      <a:lnTo>
                        <a:pt x="0" y="426"/>
                      </a:lnTo>
                      <a:lnTo>
                        <a:pt x="710" y="42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flipH="1">
                  <a:off x="3816720" y="2971800"/>
                  <a:ext cx="175320" cy="73080"/>
                </a:xfrm>
                <a:custGeom>
                  <a:avLst/>
                  <a:gdLst/>
                  <a:ahLst/>
                  <a:rect l="l" t="t" r="r" b="b"/>
                  <a:pathLst>
                    <a:path w="710" h="426">
                      <a:moveTo>
                        <a:pt x="284" y="0"/>
                      </a:moveTo>
                      <a:lnTo>
                        <a:pt x="0" y="142"/>
                      </a:lnTo>
                      <a:lnTo>
                        <a:pt x="0" y="426"/>
                      </a:lnTo>
                      <a:lnTo>
                        <a:pt x="710" y="42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3292560" y="2743560"/>
                <a:ext cx="507600" cy="301320"/>
                <a:chOff x="3292560" y="2743560"/>
                <a:chExt cx="507600" cy="301320"/>
              </a:xfrm>
            </p:grpSpPr>
            <p:sp>
              <p:nvSpPr>
                <p:cNvPr id="231" name=""/>
                <p:cNvSpPr/>
                <p:nvPr/>
              </p:nvSpPr>
              <p:spPr>
                <a:xfrm flipV="1">
                  <a:off x="3441600" y="2743200"/>
                  <a:ext cx="209880" cy="145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019" y="2767"/>
                      </a:moveTo>
                      <a:arcTo wR="10800" hR="10800" stAng="-2883389" swAng="1643963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019" y="2767"/>
                      </a:moveTo>
                      <a:arcTo wR="10800" hR="10800" stAng="-2883389" swAng="16439634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flipV="1">
                  <a:off x="3292560" y="2846160"/>
                  <a:ext cx="209880" cy="145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019" y="2767"/>
                      </a:moveTo>
                      <a:arcTo wR="10800" hR="10800" stAng="-2883389" swAng="55280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019" y="2767"/>
                      </a:moveTo>
                      <a:arcTo wR="10800" hR="10800" stAng="-2883389" swAng="5528059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flipH="1" flipV="1">
                  <a:off x="3589920" y="2847960"/>
                  <a:ext cx="209880" cy="145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019" y="2767"/>
                      </a:moveTo>
                      <a:arcTo wR="10800" hR="10800" stAng="-2883389" swAng="55280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019" y="2767"/>
                      </a:moveTo>
                      <a:arcTo wR="10800" hR="10800" stAng="-2883389" swAng="5528059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3394800" y="2971800"/>
                  <a:ext cx="175320" cy="73080"/>
                </a:xfrm>
                <a:custGeom>
                  <a:avLst/>
                  <a:gdLst/>
                  <a:ahLst/>
                  <a:rect l="l" t="t" r="r" b="b"/>
                  <a:pathLst>
                    <a:path w="710" h="426">
                      <a:moveTo>
                        <a:pt x="284" y="0"/>
                      </a:moveTo>
                      <a:lnTo>
                        <a:pt x="0" y="142"/>
                      </a:lnTo>
                      <a:lnTo>
                        <a:pt x="0" y="426"/>
                      </a:lnTo>
                      <a:lnTo>
                        <a:pt x="710" y="42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 flipH="1">
                  <a:off x="3516840" y="2971800"/>
                  <a:ext cx="175320" cy="73080"/>
                </a:xfrm>
                <a:custGeom>
                  <a:avLst/>
                  <a:gdLst/>
                  <a:ahLst/>
                  <a:rect l="l" t="t" r="r" b="b"/>
                  <a:pathLst>
                    <a:path w="710" h="426">
                      <a:moveTo>
                        <a:pt x="284" y="0"/>
                      </a:moveTo>
                      <a:lnTo>
                        <a:pt x="0" y="142"/>
                      </a:lnTo>
                      <a:lnTo>
                        <a:pt x="0" y="426"/>
                      </a:lnTo>
                      <a:lnTo>
                        <a:pt x="710" y="42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6" name=""/>
          <p:cNvGrpSpPr/>
          <p:nvPr/>
        </p:nvGrpSpPr>
        <p:grpSpPr>
          <a:xfrm>
            <a:off x="611280" y="4437000"/>
            <a:ext cx="5840280" cy="731520"/>
            <a:chOff x="611280" y="4437000"/>
            <a:chExt cx="5840280" cy="731520"/>
          </a:xfrm>
        </p:grpSpPr>
        <p:grpSp>
          <p:nvGrpSpPr>
            <p:cNvPr id="237" name=""/>
            <p:cNvGrpSpPr/>
            <p:nvPr/>
          </p:nvGrpSpPr>
          <p:grpSpPr>
            <a:xfrm>
              <a:off x="611280" y="4453560"/>
              <a:ext cx="2583000" cy="714960"/>
              <a:chOff x="611280" y="4453560"/>
              <a:chExt cx="2583000" cy="714960"/>
            </a:xfrm>
          </p:grpSpPr>
          <p:sp>
            <p:nvSpPr>
              <p:cNvPr id="238" name=""/>
              <p:cNvSpPr/>
              <p:nvPr/>
            </p:nvSpPr>
            <p:spPr>
              <a:xfrm>
                <a:off x="137304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16208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80864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9804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2912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01816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64960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43864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86020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85520" y="4453560"/>
                <a:ext cx="2393280" cy="83160"/>
              </a:xfrm>
              <a:custGeom>
                <a:avLst/>
                <a:gdLst/>
                <a:ahLst/>
                <a:rect l="l" t="t" r="r" b="b"/>
                <a:pathLst>
                  <a:path w="3769" h="131">
                    <a:moveTo>
                      <a:pt x="13" y="57"/>
                    </a:moveTo>
                    <a:cubicBezTo>
                      <a:pt x="234" y="131"/>
                      <a:pt x="0" y="57"/>
                      <a:pt x="625" y="57"/>
                    </a:cubicBezTo>
                    <a:cubicBezTo>
                      <a:pt x="977" y="57"/>
                      <a:pt x="1329" y="65"/>
                      <a:pt x="1681" y="69"/>
                    </a:cubicBezTo>
                    <a:cubicBezTo>
                      <a:pt x="1713" y="71"/>
                      <a:pt x="2070" y="94"/>
                      <a:pt x="2089" y="93"/>
                    </a:cubicBezTo>
                    <a:cubicBezTo>
                      <a:pt x="2143" y="91"/>
                      <a:pt x="2191" y="47"/>
                      <a:pt x="2245" y="45"/>
                    </a:cubicBezTo>
                    <a:cubicBezTo>
                      <a:pt x="2353" y="41"/>
                      <a:pt x="2461" y="37"/>
                      <a:pt x="2569" y="33"/>
                    </a:cubicBezTo>
                    <a:cubicBezTo>
                      <a:pt x="2968" y="0"/>
                      <a:pt x="3769" y="33"/>
                      <a:pt x="3769" y="3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71120" y="5130000"/>
                <a:ext cx="2423160" cy="38520"/>
              </a:xfrm>
              <a:custGeom>
                <a:avLst/>
                <a:gdLst/>
                <a:ahLst/>
                <a:rect l="l" t="t" r="r" b="b"/>
                <a:pathLst>
                  <a:path w="3816" h="61">
                    <a:moveTo>
                      <a:pt x="0" y="36"/>
                    </a:moveTo>
                    <a:cubicBezTo>
                      <a:pt x="248" y="40"/>
                      <a:pt x="834" y="61"/>
                      <a:pt x="1140" y="36"/>
                    </a:cubicBezTo>
                    <a:cubicBezTo>
                      <a:pt x="1170" y="34"/>
                      <a:pt x="1194" y="7"/>
                      <a:pt x="1224" y="0"/>
                    </a:cubicBezTo>
                    <a:cubicBezTo>
                      <a:pt x="2089" y="28"/>
                      <a:pt x="2951" y="0"/>
                      <a:pt x="381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11280" y="4475880"/>
                <a:ext cx="387720" cy="682920"/>
              </a:xfrm>
              <a:custGeom>
                <a:avLst/>
                <a:gdLst/>
                <a:ahLst/>
                <a:rect l="l" t="t" r="r" b="b"/>
                <a:pathLst>
                  <a:path w="611" h="1075">
                    <a:moveTo>
                      <a:pt x="252" y="1054"/>
                    </a:moveTo>
                    <a:cubicBezTo>
                      <a:pt x="314" y="1075"/>
                      <a:pt x="368" y="1053"/>
                      <a:pt x="420" y="1018"/>
                    </a:cubicBezTo>
                    <a:cubicBezTo>
                      <a:pt x="449" y="932"/>
                      <a:pt x="408" y="1036"/>
                      <a:pt x="468" y="946"/>
                    </a:cubicBezTo>
                    <a:cubicBezTo>
                      <a:pt x="505" y="891"/>
                      <a:pt x="447" y="921"/>
                      <a:pt x="516" y="898"/>
                    </a:cubicBezTo>
                    <a:cubicBezTo>
                      <a:pt x="528" y="880"/>
                      <a:pt x="561" y="834"/>
                      <a:pt x="564" y="814"/>
                    </a:cubicBezTo>
                    <a:cubicBezTo>
                      <a:pt x="611" y="530"/>
                      <a:pt x="550" y="723"/>
                      <a:pt x="588" y="610"/>
                    </a:cubicBezTo>
                    <a:cubicBezTo>
                      <a:pt x="584" y="538"/>
                      <a:pt x="583" y="466"/>
                      <a:pt x="576" y="394"/>
                    </a:cubicBezTo>
                    <a:cubicBezTo>
                      <a:pt x="569" y="321"/>
                      <a:pt x="468" y="286"/>
                      <a:pt x="420" y="238"/>
                    </a:cubicBezTo>
                    <a:cubicBezTo>
                      <a:pt x="412" y="214"/>
                      <a:pt x="404" y="190"/>
                      <a:pt x="396" y="166"/>
                    </a:cubicBezTo>
                    <a:cubicBezTo>
                      <a:pt x="380" y="118"/>
                      <a:pt x="396" y="134"/>
                      <a:pt x="348" y="118"/>
                    </a:cubicBezTo>
                    <a:cubicBezTo>
                      <a:pt x="324" y="82"/>
                      <a:pt x="320" y="38"/>
                      <a:pt x="276" y="22"/>
                    </a:cubicBezTo>
                    <a:cubicBezTo>
                      <a:pt x="257" y="15"/>
                      <a:pt x="236" y="14"/>
                      <a:pt x="216" y="10"/>
                    </a:cubicBezTo>
                    <a:cubicBezTo>
                      <a:pt x="184" y="14"/>
                      <a:pt x="144" y="0"/>
                      <a:pt x="120" y="22"/>
                    </a:cubicBezTo>
                    <a:cubicBezTo>
                      <a:pt x="95" y="44"/>
                      <a:pt x="104" y="86"/>
                      <a:pt x="96" y="118"/>
                    </a:cubicBezTo>
                    <a:cubicBezTo>
                      <a:pt x="89" y="146"/>
                      <a:pt x="48" y="190"/>
                      <a:pt x="48" y="190"/>
                    </a:cubicBezTo>
                    <a:cubicBezTo>
                      <a:pt x="3" y="369"/>
                      <a:pt x="58" y="567"/>
                      <a:pt x="0" y="742"/>
                    </a:cubicBezTo>
                    <a:cubicBezTo>
                      <a:pt x="14" y="866"/>
                      <a:pt x="6" y="871"/>
                      <a:pt x="72" y="970"/>
                    </a:cubicBezTo>
                    <a:cubicBezTo>
                      <a:pt x="93" y="1002"/>
                      <a:pt x="121" y="1054"/>
                      <a:pt x="168" y="1054"/>
                    </a:cubicBezTo>
                    <a:cubicBezTo>
                      <a:pt x="196" y="1054"/>
                      <a:pt x="224" y="1054"/>
                      <a:pt x="252" y="1054"/>
                    </a:cubicBez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417680" y="4679640"/>
                <a:ext cx="1612800" cy="6840"/>
              </a:xfrm>
              <a:custGeom>
                <a:avLst/>
                <a:gdLst/>
                <a:ahLst/>
                <a:rect l="l" t="t" r="r" b="b"/>
                <a:pathLst>
                  <a:path w="2540" h="11">
                    <a:moveTo>
                      <a:pt x="0" y="11"/>
                    </a:moveTo>
                    <a:lnTo>
                      <a:pt x="2540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417680" y="4953960"/>
                <a:ext cx="1605240" cy="2520"/>
              </a:xfrm>
              <a:custGeom>
                <a:avLst/>
                <a:gdLst/>
                <a:ahLst/>
                <a:rect l="l" t="t" r="r" b="b"/>
                <a:pathLst>
                  <a:path w="2528" h="4">
                    <a:moveTo>
                      <a:pt x="0" y="4"/>
                    </a:moveTo>
                    <a:lnTo>
                      <a:pt x="2528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056960" y="4725360"/>
                <a:ext cx="1005840" cy="5760"/>
              </a:xfrm>
              <a:custGeom>
                <a:avLst/>
                <a:gdLst/>
                <a:ahLst/>
                <a:rect l="l" t="t" r="r" b="b"/>
                <a:pathLst>
                  <a:path w="1584" h="9">
                    <a:moveTo>
                      <a:pt x="0" y="9"/>
                    </a:moveTo>
                    <a:lnTo>
                      <a:pt x="158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056960" y="4900680"/>
                <a:ext cx="1005840" cy="5760"/>
              </a:xfrm>
              <a:custGeom>
                <a:avLst/>
                <a:gdLst/>
                <a:ahLst/>
                <a:rect l="l" t="t" r="r" b="b"/>
                <a:pathLst>
                  <a:path w="1584" h="9">
                    <a:moveTo>
                      <a:pt x="0" y="9"/>
                    </a:moveTo>
                    <a:lnTo>
                      <a:pt x="158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3374640" y="4437000"/>
              <a:ext cx="3076920" cy="731520"/>
              <a:chOff x="3374640" y="4437000"/>
              <a:chExt cx="3076920" cy="731520"/>
            </a:xfrm>
          </p:grpSpPr>
          <p:sp>
            <p:nvSpPr>
              <p:cNvPr id="255" name=""/>
              <p:cNvSpPr/>
              <p:nvPr/>
            </p:nvSpPr>
            <p:spPr>
              <a:xfrm>
                <a:off x="425700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04748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84444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560400" y="4437000"/>
                <a:ext cx="2890800" cy="99720"/>
              </a:xfrm>
              <a:custGeom>
                <a:avLst/>
                <a:gdLst/>
                <a:ahLst/>
                <a:rect l="l" t="t" r="r" b="b"/>
                <a:pathLst>
                  <a:path w="3769" h="131">
                    <a:moveTo>
                      <a:pt x="13" y="57"/>
                    </a:moveTo>
                    <a:cubicBezTo>
                      <a:pt x="234" y="131"/>
                      <a:pt x="0" y="57"/>
                      <a:pt x="625" y="57"/>
                    </a:cubicBezTo>
                    <a:cubicBezTo>
                      <a:pt x="977" y="57"/>
                      <a:pt x="1329" y="65"/>
                      <a:pt x="1681" y="69"/>
                    </a:cubicBezTo>
                    <a:cubicBezTo>
                      <a:pt x="1713" y="71"/>
                      <a:pt x="2070" y="94"/>
                      <a:pt x="2089" y="93"/>
                    </a:cubicBezTo>
                    <a:cubicBezTo>
                      <a:pt x="2143" y="91"/>
                      <a:pt x="2191" y="47"/>
                      <a:pt x="2245" y="45"/>
                    </a:cubicBezTo>
                    <a:cubicBezTo>
                      <a:pt x="2353" y="41"/>
                      <a:pt x="2461" y="37"/>
                      <a:pt x="2569" y="33"/>
                    </a:cubicBezTo>
                    <a:cubicBezTo>
                      <a:pt x="2968" y="0"/>
                      <a:pt x="3769" y="33"/>
                      <a:pt x="3769" y="3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546000" y="5079240"/>
                <a:ext cx="2905560" cy="89280"/>
              </a:xfrm>
              <a:custGeom>
                <a:avLst/>
                <a:gdLst/>
                <a:ahLst/>
                <a:rect l="l" t="t" r="r" b="b"/>
                <a:pathLst>
                  <a:path w="3816" h="61">
                    <a:moveTo>
                      <a:pt x="0" y="36"/>
                    </a:moveTo>
                    <a:cubicBezTo>
                      <a:pt x="248" y="40"/>
                      <a:pt x="834" y="61"/>
                      <a:pt x="1140" y="36"/>
                    </a:cubicBezTo>
                    <a:cubicBezTo>
                      <a:pt x="1170" y="34"/>
                      <a:pt x="1194" y="7"/>
                      <a:pt x="1224" y="0"/>
                    </a:cubicBezTo>
                    <a:cubicBezTo>
                      <a:pt x="2089" y="28"/>
                      <a:pt x="2951" y="0"/>
                      <a:pt x="381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374640" y="4467240"/>
                <a:ext cx="399960" cy="691200"/>
              </a:xfrm>
              <a:custGeom>
                <a:avLst/>
                <a:gdLst/>
                <a:ahLst/>
                <a:rect l="l" t="t" r="r" b="b"/>
                <a:pathLst>
                  <a:path w="630" h="1088">
                    <a:moveTo>
                      <a:pt x="378" y="1067"/>
                    </a:moveTo>
                    <a:cubicBezTo>
                      <a:pt x="316" y="1088"/>
                      <a:pt x="262" y="1066"/>
                      <a:pt x="210" y="1031"/>
                    </a:cubicBezTo>
                    <a:cubicBezTo>
                      <a:pt x="181" y="945"/>
                      <a:pt x="120" y="1038"/>
                      <a:pt x="60" y="948"/>
                    </a:cubicBezTo>
                    <a:cubicBezTo>
                      <a:pt x="23" y="893"/>
                      <a:pt x="129" y="899"/>
                      <a:pt x="60" y="876"/>
                    </a:cubicBezTo>
                    <a:cubicBezTo>
                      <a:pt x="48" y="858"/>
                      <a:pt x="69" y="847"/>
                      <a:pt x="66" y="827"/>
                    </a:cubicBezTo>
                    <a:cubicBezTo>
                      <a:pt x="19" y="543"/>
                      <a:pt x="80" y="736"/>
                      <a:pt x="42" y="623"/>
                    </a:cubicBezTo>
                    <a:cubicBezTo>
                      <a:pt x="46" y="551"/>
                      <a:pt x="47" y="479"/>
                      <a:pt x="54" y="407"/>
                    </a:cubicBezTo>
                    <a:cubicBezTo>
                      <a:pt x="61" y="334"/>
                      <a:pt x="0" y="240"/>
                      <a:pt x="48" y="192"/>
                    </a:cubicBezTo>
                    <a:cubicBezTo>
                      <a:pt x="56" y="168"/>
                      <a:pt x="76" y="108"/>
                      <a:pt x="84" y="84"/>
                    </a:cubicBezTo>
                    <a:cubicBezTo>
                      <a:pt x="100" y="36"/>
                      <a:pt x="120" y="52"/>
                      <a:pt x="168" y="36"/>
                    </a:cubicBezTo>
                    <a:cubicBezTo>
                      <a:pt x="192" y="0"/>
                      <a:pt x="310" y="51"/>
                      <a:pt x="354" y="35"/>
                    </a:cubicBezTo>
                    <a:cubicBezTo>
                      <a:pt x="373" y="28"/>
                      <a:pt x="394" y="27"/>
                      <a:pt x="414" y="23"/>
                    </a:cubicBezTo>
                    <a:cubicBezTo>
                      <a:pt x="446" y="27"/>
                      <a:pt x="486" y="13"/>
                      <a:pt x="510" y="35"/>
                    </a:cubicBezTo>
                    <a:cubicBezTo>
                      <a:pt x="535" y="57"/>
                      <a:pt x="526" y="99"/>
                      <a:pt x="534" y="131"/>
                    </a:cubicBezTo>
                    <a:cubicBezTo>
                      <a:pt x="541" y="159"/>
                      <a:pt x="582" y="203"/>
                      <a:pt x="582" y="203"/>
                    </a:cubicBezTo>
                    <a:cubicBezTo>
                      <a:pt x="627" y="382"/>
                      <a:pt x="572" y="580"/>
                      <a:pt x="630" y="755"/>
                    </a:cubicBezTo>
                    <a:cubicBezTo>
                      <a:pt x="616" y="879"/>
                      <a:pt x="624" y="884"/>
                      <a:pt x="558" y="983"/>
                    </a:cubicBezTo>
                    <a:cubicBezTo>
                      <a:pt x="537" y="1015"/>
                      <a:pt x="509" y="1067"/>
                      <a:pt x="462" y="1067"/>
                    </a:cubicBezTo>
                    <a:cubicBezTo>
                      <a:pt x="434" y="1067"/>
                      <a:pt x="406" y="1067"/>
                      <a:pt x="378" y="1067"/>
                    </a:cubicBez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67856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46796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11416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90356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53464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32404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95512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74416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166080" y="4641480"/>
                <a:ext cx="90000" cy="360720"/>
              </a:xfrm>
              <a:custGeom>
                <a:avLst/>
                <a:gdLst/>
                <a:ahLst/>
                <a:rect l="l" t="t" r="r" b="b"/>
                <a:pathLst>
                  <a:path w="142" h="568">
                    <a:moveTo>
                      <a:pt x="0" y="0"/>
                    </a:moveTo>
                    <a:lnTo>
                      <a:pt x="0" y="568"/>
                    </a:lnTo>
                    <a:lnTo>
                      <a:pt x="142" y="568"/>
                    </a:lnTo>
                    <a:lnTo>
                      <a:pt x="1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723200" y="4679640"/>
                <a:ext cx="1612800" cy="6840"/>
              </a:xfrm>
              <a:custGeom>
                <a:avLst/>
                <a:gdLst/>
                <a:ahLst/>
                <a:rect l="l" t="t" r="r" b="b"/>
                <a:pathLst>
                  <a:path w="2540" h="11">
                    <a:moveTo>
                      <a:pt x="0" y="11"/>
                    </a:moveTo>
                    <a:lnTo>
                      <a:pt x="2540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723200" y="4954320"/>
                <a:ext cx="1605240" cy="2160"/>
              </a:xfrm>
              <a:custGeom>
                <a:avLst/>
                <a:gdLst/>
                <a:ahLst/>
                <a:rect l="l" t="t" r="r" b="b"/>
                <a:pathLst>
                  <a:path w="2528" h="4">
                    <a:moveTo>
                      <a:pt x="0" y="4"/>
                    </a:moveTo>
                    <a:lnTo>
                      <a:pt x="2528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831840" y="4725360"/>
                <a:ext cx="1005840" cy="5760"/>
              </a:xfrm>
              <a:custGeom>
                <a:avLst/>
                <a:gdLst/>
                <a:ahLst/>
                <a:rect l="l" t="t" r="r" b="b"/>
                <a:pathLst>
                  <a:path w="1584" h="9">
                    <a:moveTo>
                      <a:pt x="0" y="9"/>
                    </a:moveTo>
                    <a:lnTo>
                      <a:pt x="158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831840" y="4900680"/>
                <a:ext cx="1005840" cy="5760"/>
              </a:xfrm>
              <a:custGeom>
                <a:avLst/>
                <a:gdLst/>
                <a:ahLst/>
                <a:rect l="l" t="t" r="r" b="b"/>
                <a:pathLst>
                  <a:path w="1584" h="9">
                    <a:moveTo>
                      <a:pt x="0" y="9"/>
                    </a:moveTo>
                    <a:lnTo>
                      <a:pt x="158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4" name=""/>
          <p:cNvSpPr/>
          <p:nvPr/>
        </p:nvSpPr>
        <p:spPr>
          <a:xfrm>
            <a:off x="1619280" y="3213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uedas do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067280" y="54450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e puede ajustar el avance de los desarrollos al alcance de la p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932360" y="1628640"/>
            <a:ext cx="35272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os rieles son de 7 m de longitud mientras el avance es de 2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as ruedas dobles permiten ajustar el alcance de la pala al av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Car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1476360" y="1484280"/>
            <a:ext cx="2344680" cy="720720"/>
            <a:chOff x="1476360" y="1484280"/>
            <a:chExt cx="2344680" cy="720720"/>
          </a:xfrm>
        </p:grpSpPr>
        <p:grpSp>
          <p:nvGrpSpPr>
            <p:cNvPr id="279" name=""/>
            <p:cNvGrpSpPr/>
            <p:nvPr/>
          </p:nvGrpSpPr>
          <p:grpSpPr>
            <a:xfrm>
              <a:off x="2778120" y="1909440"/>
              <a:ext cx="591840" cy="190080"/>
              <a:chOff x="2778120" y="1909440"/>
              <a:chExt cx="591840" cy="190080"/>
            </a:xfrm>
          </p:grpSpPr>
          <p:sp>
            <p:nvSpPr>
              <p:cNvPr id="280" name=""/>
              <p:cNvSpPr/>
              <p:nvPr/>
            </p:nvSpPr>
            <p:spPr>
              <a:xfrm>
                <a:off x="2778120" y="2091960"/>
                <a:ext cx="591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832120" y="1909440"/>
                <a:ext cx="525240" cy="190080"/>
              </a:xfrm>
              <a:custGeom>
                <a:avLst/>
                <a:gdLst/>
                <a:ahLst/>
                <a:rect l="l" t="t" r="r" b="b"/>
                <a:pathLst>
                  <a:path w="1082" h="300">
                    <a:moveTo>
                      <a:pt x="0" y="4"/>
                    </a:moveTo>
                    <a:lnTo>
                      <a:pt x="1082" y="0"/>
                    </a:lnTo>
                    <a:lnTo>
                      <a:pt x="1082" y="30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1476360" y="1484280"/>
              <a:ext cx="2344680" cy="720720"/>
              <a:chOff x="1476360" y="1484280"/>
              <a:chExt cx="2344680" cy="720720"/>
            </a:xfrm>
          </p:grpSpPr>
          <p:grpSp>
            <p:nvGrpSpPr>
              <p:cNvPr id="283" name=""/>
              <p:cNvGrpSpPr/>
              <p:nvPr/>
            </p:nvGrpSpPr>
            <p:grpSpPr>
              <a:xfrm>
                <a:off x="1613880" y="1528200"/>
                <a:ext cx="2206800" cy="676080"/>
                <a:chOff x="1613880" y="1528200"/>
                <a:chExt cx="2206800" cy="67608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1613880" y="1641600"/>
                  <a:ext cx="2206800" cy="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1613880" y="1820880"/>
                  <a:ext cx="2206800" cy="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6" name=""/>
                <p:cNvGrpSpPr/>
                <p:nvPr/>
              </p:nvGrpSpPr>
              <p:grpSpPr>
                <a:xfrm>
                  <a:off x="1899720" y="1528200"/>
                  <a:ext cx="1243800" cy="496800"/>
                  <a:chOff x="1899720" y="1528200"/>
                  <a:chExt cx="1243800" cy="496800"/>
                </a:xfrm>
              </p:grpSpPr>
              <p:sp>
                <p:nvSpPr>
                  <p:cNvPr id="287" name=""/>
                  <p:cNvSpPr/>
                  <p:nvPr/>
                </p:nvSpPr>
                <p:spPr>
                  <a:xfrm rot="10800000">
                    <a:off x="2513160" y="1528200"/>
                    <a:ext cx="630360" cy="383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393526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3935262"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1899720" y="1641600"/>
                    <a:ext cx="630720" cy="383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9" name=""/>
                <p:cNvGrpSpPr/>
                <p:nvPr/>
              </p:nvGrpSpPr>
              <p:grpSpPr>
                <a:xfrm>
                  <a:off x="1840680" y="1708200"/>
                  <a:ext cx="1332360" cy="496080"/>
                  <a:chOff x="1840680" y="1708200"/>
                  <a:chExt cx="1332360" cy="496080"/>
                </a:xfrm>
              </p:grpSpPr>
              <p:sp>
                <p:nvSpPr>
                  <p:cNvPr id="290" name=""/>
                  <p:cNvSpPr/>
                  <p:nvPr/>
                </p:nvSpPr>
                <p:spPr>
                  <a:xfrm rot="10800000">
                    <a:off x="2484000" y="1708200"/>
                    <a:ext cx="689040" cy="383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393526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3935262"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1840680" y="1821600"/>
                    <a:ext cx="686880" cy="382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92" name=""/>
              <p:cNvSpPr/>
              <p:nvPr/>
            </p:nvSpPr>
            <p:spPr>
              <a:xfrm>
                <a:off x="1476360" y="1484280"/>
                <a:ext cx="2344680" cy="720720"/>
              </a:xfrm>
              <a:custGeom>
                <a:avLst/>
                <a:gdLst/>
                <a:ahLst/>
                <a:rect l="l" t="t" r="r" b="b"/>
                <a:pathLst>
                  <a:path w="4828" h="1136">
                    <a:moveTo>
                      <a:pt x="4828" y="0"/>
                    </a:moveTo>
                    <a:lnTo>
                      <a:pt x="0" y="0"/>
                    </a:lnTo>
                    <a:lnTo>
                      <a:pt x="0" y="1136"/>
                    </a:lnTo>
                    <a:lnTo>
                      <a:pt x="4828" y="113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3" name=""/>
          <p:cNvGrpSpPr/>
          <p:nvPr/>
        </p:nvGrpSpPr>
        <p:grpSpPr>
          <a:xfrm>
            <a:off x="4335480" y="1392120"/>
            <a:ext cx="1287360" cy="4923720"/>
            <a:chOff x="4335480" y="1392120"/>
            <a:chExt cx="1287360" cy="4923720"/>
          </a:xfrm>
        </p:grpSpPr>
        <p:sp>
          <p:nvSpPr>
            <p:cNvPr id="294" name=""/>
            <p:cNvSpPr/>
            <p:nvPr/>
          </p:nvSpPr>
          <p:spPr>
            <a:xfrm>
              <a:off x="5445360" y="1531080"/>
              <a:ext cx="3600" cy="2937240"/>
            </a:xfrm>
            <a:custGeom>
              <a:avLst/>
              <a:gdLst/>
              <a:ahLst/>
              <a:rect l="l" t="t" r="r" b="b"/>
              <a:pathLst>
                <a:path w="6" h="4625">
                  <a:moveTo>
                    <a:pt x="6" y="0"/>
                  </a:moveTo>
                  <a:lnTo>
                    <a:pt x="0" y="462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269320" y="1531080"/>
              <a:ext cx="8280" cy="2929680"/>
            </a:xfrm>
            <a:custGeom>
              <a:avLst/>
              <a:gdLst/>
              <a:ahLst/>
              <a:rect l="l" t="t" r="r" b="b"/>
              <a:pathLst>
                <a:path w="13" h="4613">
                  <a:moveTo>
                    <a:pt x="0" y="0"/>
                  </a:moveTo>
                  <a:lnTo>
                    <a:pt x="13" y="461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5400000">
              <a:off x="4552920" y="2219400"/>
              <a:ext cx="624600" cy="632160"/>
            </a:xfrm>
            <a:custGeom>
              <a:avLst/>
              <a:gdLst/>
              <a:ahLst/>
              <a:rect l="l" t="t" r="r" b="b"/>
              <a:pathLst>
                <a:path w="984" h="996">
                  <a:moveTo>
                    <a:pt x="0" y="996"/>
                  </a:moveTo>
                  <a:lnTo>
                    <a:pt x="98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335480" y="1392120"/>
              <a:ext cx="1287360" cy="3091680"/>
            </a:xfrm>
            <a:custGeom>
              <a:avLst/>
              <a:gdLst/>
              <a:ahLst/>
              <a:rect l="l" t="t" r="r" b="b"/>
              <a:pathLst>
                <a:path w="2028" h="4868">
                  <a:moveTo>
                    <a:pt x="2024" y="4868"/>
                  </a:moveTo>
                  <a:lnTo>
                    <a:pt x="2028" y="0"/>
                  </a:lnTo>
                  <a:lnTo>
                    <a:pt x="1164" y="0"/>
                  </a:lnTo>
                  <a:lnTo>
                    <a:pt x="1164" y="1572"/>
                  </a:lnTo>
                  <a:lnTo>
                    <a:pt x="1104" y="1704"/>
                  </a:lnTo>
                  <a:lnTo>
                    <a:pt x="948" y="1704"/>
                  </a:lnTo>
                  <a:lnTo>
                    <a:pt x="384" y="1140"/>
                  </a:lnTo>
                  <a:lnTo>
                    <a:pt x="0" y="1596"/>
                  </a:lnTo>
                  <a:lnTo>
                    <a:pt x="984" y="2580"/>
                  </a:lnTo>
                  <a:lnTo>
                    <a:pt x="1116" y="2808"/>
                  </a:lnTo>
                  <a:lnTo>
                    <a:pt x="1248" y="3180"/>
                  </a:lnTo>
                  <a:lnTo>
                    <a:pt x="1244" y="482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5400000">
              <a:off x="4438440" y="2356560"/>
              <a:ext cx="624600" cy="632160"/>
            </a:xfrm>
            <a:custGeom>
              <a:avLst/>
              <a:gdLst/>
              <a:ahLst/>
              <a:rect l="l" t="t" r="r" b="b"/>
              <a:pathLst>
                <a:path w="984" h="996">
                  <a:moveTo>
                    <a:pt x="0" y="996"/>
                  </a:moveTo>
                  <a:lnTo>
                    <a:pt x="98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 rot="16200000">
              <a:off x="3375720" y="4110840"/>
              <a:ext cx="3424680" cy="79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87" y="1221"/>
                  </a:moveTo>
                  <a:arcTo wR="10800" hR="10800" stAng="-3749808" swAng="2950001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87" y="1221"/>
                  </a:moveTo>
                  <a:arcTo wR="10800" hR="10800" stAng="-3749808" swAng="2950001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 rot="16200000">
              <a:off x="3216600" y="4203360"/>
              <a:ext cx="3424680" cy="79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101" y="1390"/>
                  </a:moveTo>
                  <a:arcTo wR="10800" hR="10800" stAng="-3636375" swAng="283656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101" y="1390"/>
                  </a:moveTo>
                  <a:arcTo wR="10800" hR="10800" stAng="-3636375" swAng="2836568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1476360" y="2350440"/>
            <a:ext cx="2425680" cy="1461240"/>
            <a:chOff x="1476360" y="2350440"/>
            <a:chExt cx="2425680" cy="1461240"/>
          </a:xfrm>
        </p:grpSpPr>
        <p:grpSp>
          <p:nvGrpSpPr>
            <p:cNvPr id="302" name=""/>
            <p:cNvGrpSpPr/>
            <p:nvPr/>
          </p:nvGrpSpPr>
          <p:grpSpPr>
            <a:xfrm>
              <a:off x="1613880" y="2566440"/>
              <a:ext cx="944280" cy="173880"/>
              <a:chOff x="1613880" y="2566440"/>
              <a:chExt cx="944280" cy="173880"/>
            </a:xfrm>
          </p:grpSpPr>
          <p:sp>
            <p:nvSpPr>
              <p:cNvPr id="303" name=""/>
              <p:cNvSpPr/>
              <p:nvPr/>
            </p:nvSpPr>
            <p:spPr>
              <a:xfrm>
                <a:off x="1613880" y="2566440"/>
                <a:ext cx="943920" cy="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614240" y="2739600"/>
                <a:ext cx="943920" cy="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"/>
            <p:cNvSpPr/>
            <p:nvPr/>
          </p:nvSpPr>
          <p:spPr>
            <a:xfrm>
              <a:off x="1476360" y="2386080"/>
              <a:ext cx="2354400" cy="1425600"/>
            </a:xfrm>
            <a:custGeom>
              <a:avLst/>
              <a:gdLst/>
              <a:ahLst/>
              <a:rect l="l" t="t" r="r" b="b"/>
              <a:pathLst>
                <a:path w="3708" h="2246">
                  <a:moveTo>
                    <a:pt x="3708" y="0"/>
                  </a:moveTo>
                  <a:lnTo>
                    <a:pt x="0" y="0"/>
                  </a:lnTo>
                  <a:lnTo>
                    <a:pt x="0" y="864"/>
                  </a:lnTo>
                  <a:lnTo>
                    <a:pt x="1572" y="864"/>
                  </a:lnTo>
                  <a:lnTo>
                    <a:pt x="1690" y="938"/>
                  </a:lnTo>
                  <a:lnTo>
                    <a:pt x="1750" y="1130"/>
                  </a:lnTo>
                  <a:lnTo>
                    <a:pt x="1750" y="2246"/>
                  </a:lnTo>
                  <a:lnTo>
                    <a:pt x="2398" y="2246"/>
                  </a:lnTo>
                  <a:lnTo>
                    <a:pt x="2398" y="1082"/>
                  </a:lnTo>
                  <a:lnTo>
                    <a:pt x="2458" y="926"/>
                  </a:lnTo>
                  <a:lnTo>
                    <a:pt x="2626" y="830"/>
                  </a:lnTo>
                  <a:lnTo>
                    <a:pt x="3694" y="83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3009240" y="2566440"/>
              <a:ext cx="892800" cy="173520"/>
              <a:chOff x="3009240" y="2566440"/>
              <a:chExt cx="892800" cy="173520"/>
            </a:xfrm>
          </p:grpSpPr>
          <p:sp>
            <p:nvSpPr>
              <p:cNvPr id="307" name=""/>
              <p:cNvSpPr/>
              <p:nvPr/>
            </p:nvSpPr>
            <p:spPr>
              <a:xfrm>
                <a:off x="3009240" y="2738880"/>
                <a:ext cx="892800" cy="1080"/>
              </a:xfrm>
              <a:custGeom>
                <a:avLst/>
                <a:gdLst/>
                <a:ahLst/>
                <a:rect l="l" t="t" r="r" b="b"/>
                <a:pathLst>
                  <a:path w="1406" h="2">
                    <a:moveTo>
                      <a:pt x="0" y="2"/>
                    </a:moveTo>
                    <a:lnTo>
                      <a:pt x="1406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009240" y="2566440"/>
                <a:ext cx="892800" cy="1080"/>
              </a:xfrm>
              <a:custGeom>
                <a:avLst/>
                <a:gdLst/>
                <a:ahLst/>
                <a:rect l="l" t="t" r="r" b="b"/>
                <a:pathLst>
                  <a:path w="1406" h="2">
                    <a:moveTo>
                      <a:pt x="0" y="2"/>
                    </a:moveTo>
                    <a:lnTo>
                      <a:pt x="1406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2471400" y="2350440"/>
              <a:ext cx="624600" cy="624960"/>
              <a:chOff x="2471400" y="2350440"/>
              <a:chExt cx="624600" cy="624960"/>
            </a:xfrm>
          </p:grpSpPr>
          <p:sp>
            <p:nvSpPr>
              <p:cNvPr id="310" name=""/>
              <p:cNvSpPr/>
              <p:nvPr/>
            </p:nvSpPr>
            <p:spPr>
              <a:xfrm rot="18218400">
                <a:off x="2558520" y="2437560"/>
                <a:ext cx="450360" cy="450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1" name=""/>
              <p:cNvGrpSpPr/>
              <p:nvPr/>
            </p:nvGrpSpPr>
            <p:grpSpPr>
              <a:xfrm>
                <a:off x="2583360" y="2424960"/>
                <a:ext cx="394200" cy="471240"/>
                <a:chOff x="2583360" y="2424960"/>
                <a:chExt cx="394200" cy="471240"/>
              </a:xfrm>
            </p:grpSpPr>
            <p:sp>
              <p:nvSpPr>
                <p:cNvPr id="312" name=""/>
                <p:cNvSpPr/>
                <p:nvPr/>
              </p:nvSpPr>
              <p:spPr>
                <a:xfrm rot="18218400">
                  <a:off x="2626920" y="2707560"/>
                  <a:ext cx="450360" cy="1080"/>
                </a:xfrm>
                <a:custGeom>
                  <a:avLst/>
                  <a:gdLst/>
                  <a:ahLst/>
                  <a:rect l="l" t="t" r="r" b="b"/>
                  <a:pathLst>
                    <a:path w="1406" h="2">
                      <a:moveTo>
                        <a:pt x="0" y="2"/>
                      </a:moveTo>
                      <a:lnTo>
                        <a:pt x="1406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rot="18218400">
                  <a:off x="2483280" y="2612160"/>
                  <a:ext cx="450360" cy="1080"/>
                </a:xfrm>
                <a:custGeom>
                  <a:avLst/>
                  <a:gdLst/>
                  <a:ahLst/>
                  <a:rect l="l" t="t" r="r" b="b"/>
                  <a:pathLst>
                    <a:path w="1406" h="2">
                      <a:moveTo>
                        <a:pt x="0" y="2"/>
                      </a:moveTo>
                      <a:lnTo>
                        <a:pt x="1406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4" name=""/>
            <p:cNvGrpSpPr/>
            <p:nvPr/>
          </p:nvGrpSpPr>
          <p:grpSpPr>
            <a:xfrm>
              <a:off x="2691720" y="2888640"/>
              <a:ext cx="173520" cy="892440"/>
              <a:chOff x="2691720" y="2888640"/>
              <a:chExt cx="173520" cy="892440"/>
            </a:xfrm>
          </p:grpSpPr>
          <p:sp>
            <p:nvSpPr>
              <p:cNvPr id="315" name=""/>
              <p:cNvSpPr/>
              <p:nvPr/>
            </p:nvSpPr>
            <p:spPr>
              <a:xfrm rot="5400000">
                <a:off x="2246040" y="3334320"/>
                <a:ext cx="892440" cy="1080"/>
              </a:xfrm>
              <a:custGeom>
                <a:avLst/>
                <a:gdLst/>
                <a:ahLst/>
                <a:rect l="l" t="t" r="r" b="b"/>
                <a:pathLst>
                  <a:path w="1406" h="2">
                    <a:moveTo>
                      <a:pt x="0" y="2"/>
                    </a:moveTo>
                    <a:lnTo>
                      <a:pt x="1406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5400000">
                <a:off x="2418480" y="3334320"/>
                <a:ext cx="892440" cy="1080"/>
              </a:xfrm>
              <a:custGeom>
                <a:avLst/>
                <a:gdLst/>
                <a:ahLst/>
                <a:rect l="l" t="t" r="r" b="b"/>
                <a:pathLst>
                  <a:path w="1406" h="2">
                    <a:moveTo>
                      <a:pt x="0" y="2"/>
                    </a:moveTo>
                    <a:lnTo>
                      <a:pt x="1406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7" name=""/>
          <p:cNvGrpSpPr/>
          <p:nvPr/>
        </p:nvGrpSpPr>
        <p:grpSpPr>
          <a:xfrm>
            <a:off x="1295280" y="4008600"/>
            <a:ext cx="3711600" cy="885600"/>
            <a:chOff x="1295280" y="4008600"/>
            <a:chExt cx="3711600" cy="885600"/>
          </a:xfrm>
        </p:grpSpPr>
        <p:grpSp>
          <p:nvGrpSpPr>
            <p:cNvPr id="318" name=""/>
            <p:cNvGrpSpPr/>
            <p:nvPr/>
          </p:nvGrpSpPr>
          <p:grpSpPr>
            <a:xfrm>
              <a:off x="4435200" y="4543200"/>
              <a:ext cx="360360" cy="278280"/>
              <a:chOff x="4435200" y="4543200"/>
              <a:chExt cx="360360" cy="278280"/>
            </a:xfrm>
          </p:grpSpPr>
          <p:sp>
            <p:nvSpPr>
              <p:cNvPr id="319" name=""/>
              <p:cNvSpPr/>
              <p:nvPr/>
            </p:nvSpPr>
            <p:spPr>
              <a:xfrm>
                <a:off x="4476240" y="4734720"/>
                <a:ext cx="84960" cy="86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674960" y="4734720"/>
                <a:ext cx="85680" cy="86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435200" y="4543200"/>
                <a:ext cx="360360" cy="180000"/>
              </a:xfrm>
              <a:custGeom>
                <a:avLst/>
                <a:gdLst/>
                <a:ahLst/>
                <a:rect l="l" t="t" r="r" b="b"/>
                <a:pathLst>
                  <a:path w="568" h="284">
                    <a:moveTo>
                      <a:pt x="0" y="0"/>
                    </a:moveTo>
                    <a:lnTo>
                      <a:pt x="0" y="284"/>
                    </a:lnTo>
                    <a:lnTo>
                      <a:pt x="568" y="284"/>
                    </a:lnTo>
                    <a:lnTo>
                      <a:pt x="56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1550880" y="4470480"/>
              <a:ext cx="539640" cy="374400"/>
              <a:chOff x="1550880" y="4470480"/>
              <a:chExt cx="539640" cy="374400"/>
            </a:xfrm>
          </p:grpSpPr>
          <p:sp>
            <p:nvSpPr>
              <p:cNvPr id="323" name=""/>
              <p:cNvSpPr/>
              <p:nvPr/>
            </p:nvSpPr>
            <p:spPr>
              <a:xfrm>
                <a:off x="1550880" y="4470480"/>
                <a:ext cx="539640" cy="374400"/>
              </a:xfrm>
              <a:custGeom>
                <a:avLst/>
                <a:gdLst/>
                <a:ahLst/>
                <a:rect l="l" t="t" r="r" b="b"/>
                <a:pathLst>
                  <a:path w="2698" h="1846">
                    <a:moveTo>
                      <a:pt x="0" y="1846"/>
                    </a:moveTo>
                    <a:lnTo>
                      <a:pt x="710" y="1704"/>
                    </a:lnTo>
                    <a:lnTo>
                      <a:pt x="852" y="1704"/>
                    </a:lnTo>
                    <a:lnTo>
                      <a:pt x="852" y="1562"/>
                    </a:lnTo>
                    <a:lnTo>
                      <a:pt x="2414" y="1562"/>
                    </a:lnTo>
                    <a:lnTo>
                      <a:pt x="2414" y="1278"/>
                    </a:lnTo>
                    <a:lnTo>
                      <a:pt x="2556" y="1278"/>
                    </a:lnTo>
                    <a:lnTo>
                      <a:pt x="2698" y="284"/>
                    </a:lnTo>
                    <a:lnTo>
                      <a:pt x="2698" y="142"/>
                    </a:lnTo>
                    <a:lnTo>
                      <a:pt x="2414" y="142"/>
                    </a:lnTo>
                    <a:lnTo>
                      <a:pt x="2414" y="0"/>
                    </a:lnTo>
                    <a:lnTo>
                      <a:pt x="1136" y="0"/>
                    </a:lnTo>
                    <a:lnTo>
                      <a:pt x="1136" y="142"/>
                    </a:lnTo>
                    <a:lnTo>
                      <a:pt x="994" y="142"/>
                    </a:lnTo>
                    <a:lnTo>
                      <a:pt x="994" y="1278"/>
                    </a:lnTo>
                    <a:lnTo>
                      <a:pt x="710" y="1278"/>
                    </a:lnTo>
                    <a:lnTo>
                      <a:pt x="142" y="852"/>
                    </a:lnTo>
                    <a:lnTo>
                      <a:pt x="142" y="1420"/>
                    </a:lnTo>
                    <a:lnTo>
                      <a:pt x="284" y="1704"/>
                    </a:lnTo>
                    <a:lnTo>
                      <a:pt x="0" y="1846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749600" y="4729680"/>
                <a:ext cx="84960" cy="86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948680" y="4729680"/>
                <a:ext cx="84960" cy="86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627560" y="4523760"/>
                <a:ext cx="130680" cy="172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808" y="185"/>
                    </a:moveTo>
                    <a:arcTo wR="10800" hR="10800" stAng="-6037812" swAng="421964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808" y="185"/>
                    </a:moveTo>
                    <a:arcTo wR="10800" hR="10800" stAng="-6037812" swAng="4219644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652400" y="4528080"/>
                <a:ext cx="56520" cy="172800"/>
              </a:xfrm>
              <a:custGeom>
                <a:avLst/>
                <a:gdLst/>
                <a:ahLst/>
                <a:rect l="l" t="t" r="r" b="b"/>
                <a:pathLst>
                  <a:path w="284" h="994">
                    <a:moveTo>
                      <a:pt x="142" y="0"/>
                    </a:moveTo>
                    <a:lnTo>
                      <a:pt x="284" y="852"/>
                    </a:lnTo>
                    <a:lnTo>
                      <a:pt x="142" y="994"/>
                    </a:lnTo>
                    <a:lnTo>
                      <a:pt x="0" y="99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2887200" y="4543200"/>
              <a:ext cx="360720" cy="278280"/>
              <a:chOff x="2887200" y="4543200"/>
              <a:chExt cx="360720" cy="278280"/>
            </a:xfrm>
          </p:grpSpPr>
          <p:sp>
            <p:nvSpPr>
              <p:cNvPr id="329" name=""/>
              <p:cNvSpPr/>
              <p:nvPr/>
            </p:nvSpPr>
            <p:spPr>
              <a:xfrm>
                <a:off x="2928240" y="4734720"/>
                <a:ext cx="84960" cy="86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127320" y="4734720"/>
                <a:ext cx="85680" cy="86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887200" y="4543200"/>
                <a:ext cx="360720" cy="180000"/>
              </a:xfrm>
              <a:custGeom>
                <a:avLst/>
                <a:gdLst/>
                <a:ahLst/>
                <a:rect l="l" t="t" r="r" b="b"/>
                <a:pathLst>
                  <a:path w="568" h="284">
                    <a:moveTo>
                      <a:pt x="0" y="0"/>
                    </a:moveTo>
                    <a:lnTo>
                      <a:pt x="0" y="284"/>
                    </a:lnTo>
                    <a:lnTo>
                      <a:pt x="568" y="284"/>
                    </a:lnTo>
                    <a:lnTo>
                      <a:pt x="56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3301200" y="4543200"/>
              <a:ext cx="360720" cy="278280"/>
              <a:chOff x="3301200" y="4543200"/>
              <a:chExt cx="360720" cy="278280"/>
            </a:xfrm>
          </p:grpSpPr>
          <p:sp>
            <p:nvSpPr>
              <p:cNvPr id="333" name=""/>
              <p:cNvSpPr/>
              <p:nvPr/>
            </p:nvSpPr>
            <p:spPr>
              <a:xfrm>
                <a:off x="3342240" y="4734720"/>
                <a:ext cx="84960" cy="86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541320" y="4734720"/>
                <a:ext cx="85680" cy="86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301200" y="4543200"/>
                <a:ext cx="360720" cy="180000"/>
              </a:xfrm>
              <a:custGeom>
                <a:avLst/>
                <a:gdLst/>
                <a:ahLst/>
                <a:rect l="l" t="t" r="r" b="b"/>
                <a:pathLst>
                  <a:path w="568" h="284">
                    <a:moveTo>
                      <a:pt x="0" y="0"/>
                    </a:moveTo>
                    <a:lnTo>
                      <a:pt x="0" y="284"/>
                    </a:lnTo>
                    <a:lnTo>
                      <a:pt x="568" y="284"/>
                    </a:lnTo>
                    <a:lnTo>
                      <a:pt x="56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3713760" y="4543200"/>
              <a:ext cx="360720" cy="278280"/>
              <a:chOff x="3713760" y="4543200"/>
              <a:chExt cx="360720" cy="278280"/>
            </a:xfrm>
          </p:grpSpPr>
          <p:sp>
            <p:nvSpPr>
              <p:cNvPr id="337" name=""/>
              <p:cNvSpPr/>
              <p:nvPr/>
            </p:nvSpPr>
            <p:spPr>
              <a:xfrm>
                <a:off x="3754800" y="4734720"/>
                <a:ext cx="84960" cy="86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953880" y="4734720"/>
                <a:ext cx="85680" cy="86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713760" y="4543200"/>
                <a:ext cx="360720" cy="180000"/>
              </a:xfrm>
              <a:custGeom>
                <a:avLst/>
                <a:gdLst/>
                <a:ahLst/>
                <a:rect l="l" t="t" r="r" b="b"/>
                <a:pathLst>
                  <a:path w="568" h="284">
                    <a:moveTo>
                      <a:pt x="0" y="0"/>
                    </a:moveTo>
                    <a:lnTo>
                      <a:pt x="0" y="284"/>
                    </a:lnTo>
                    <a:lnTo>
                      <a:pt x="568" y="284"/>
                    </a:lnTo>
                    <a:lnTo>
                      <a:pt x="56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>
              <a:off x="1730160" y="4812840"/>
              <a:ext cx="3276720" cy="8640"/>
            </a:xfrm>
            <a:custGeom>
              <a:avLst/>
              <a:gdLst/>
              <a:ahLst/>
              <a:rect l="l" t="t" r="r" b="b"/>
              <a:pathLst>
                <a:path w="5160" h="14">
                  <a:moveTo>
                    <a:pt x="0" y="14"/>
                  </a:moveTo>
                  <a:lnTo>
                    <a:pt x="516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783440" y="4858560"/>
              <a:ext cx="3162240" cy="1080"/>
            </a:xfrm>
            <a:custGeom>
              <a:avLst/>
              <a:gdLst/>
              <a:ahLst/>
              <a:rect l="l" t="t" r="r" b="b"/>
              <a:pathLst>
                <a:path w="4980" h="2">
                  <a:moveTo>
                    <a:pt x="0" y="2"/>
                  </a:moveTo>
                  <a:lnTo>
                    <a:pt x="4980" y="0"/>
                  </a:lnTo>
                </a:path>
              </a:pathLst>
            </a:custGeom>
            <a:noFill/>
            <a:ln w="3816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486320" y="4440960"/>
              <a:ext cx="266400" cy="105120"/>
            </a:xfrm>
            <a:custGeom>
              <a:avLst/>
              <a:gdLst/>
              <a:ahLst/>
              <a:rect l="l" t="t" r="r" b="b"/>
              <a:pathLst>
                <a:path w="420" h="166">
                  <a:moveTo>
                    <a:pt x="0" y="158"/>
                  </a:moveTo>
                  <a:cubicBezTo>
                    <a:pt x="72" y="134"/>
                    <a:pt x="3" y="166"/>
                    <a:pt x="60" y="98"/>
                  </a:cubicBezTo>
                  <a:cubicBezTo>
                    <a:pt x="69" y="87"/>
                    <a:pt x="85" y="83"/>
                    <a:pt x="96" y="74"/>
                  </a:cubicBezTo>
                  <a:cubicBezTo>
                    <a:pt x="109" y="63"/>
                    <a:pt x="117" y="46"/>
                    <a:pt x="132" y="38"/>
                  </a:cubicBezTo>
                  <a:cubicBezTo>
                    <a:pt x="154" y="26"/>
                    <a:pt x="204" y="14"/>
                    <a:pt x="204" y="14"/>
                  </a:cubicBezTo>
                  <a:cubicBezTo>
                    <a:pt x="346" y="38"/>
                    <a:pt x="229" y="0"/>
                    <a:pt x="300" y="62"/>
                  </a:cubicBezTo>
                  <a:cubicBezTo>
                    <a:pt x="322" y="81"/>
                    <a:pt x="372" y="110"/>
                    <a:pt x="372" y="110"/>
                  </a:cubicBezTo>
                  <a:cubicBezTo>
                    <a:pt x="401" y="153"/>
                    <a:pt x="383" y="140"/>
                    <a:pt x="420" y="158"/>
                  </a:cubicBezTo>
                  <a:lnTo>
                    <a:pt x="0" y="158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222640" y="4371480"/>
              <a:ext cx="1573560" cy="154800"/>
            </a:xfrm>
            <a:custGeom>
              <a:avLst/>
              <a:gdLst/>
              <a:ahLst/>
              <a:rect l="l" t="t" r="r" b="b"/>
              <a:pathLst>
                <a:path w="2478" h="244">
                  <a:moveTo>
                    <a:pt x="0" y="244"/>
                  </a:moveTo>
                  <a:lnTo>
                    <a:pt x="240" y="160"/>
                  </a:lnTo>
                  <a:lnTo>
                    <a:pt x="408" y="88"/>
                  </a:lnTo>
                  <a:lnTo>
                    <a:pt x="632" y="0"/>
                  </a:lnTo>
                  <a:lnTo>
                    <a:pt x="247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157840" y="4432320"/>
              <a:ext cx="90000" cy="90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721320" y="4281120"/>
              <a:ext cx="90000" cy="90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541600" y="4281120"/>
              <a:ext cx="90000" cy="90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082680" y="4281120"/>
              <a:ext cx="90000" cy="90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188440" y="4281120"/>
              <a:ext cx="1573560" cy="154800"/>
            </a:xfrm>
            <a:custGeom>
              <a:avLst/>
              <a:gdLst/>
              <a:ahLst/>
              <a:rect l="l" t="t" r="r" b="b"/>
              <a:pathLst>
                <a:path w="2478" h="244">
                  <a:moveTo>
                    <a:pt x="0" y="244"/>
                  </a:moveTo>
                  <a:lnTo>
                    <a:pt x="240" y="160"/>
                  </a:lnTo>
                  <a:lnTo>
                    <a:pt x="408" y="88"/>
                  </a:lnTo>
                  <a:lnTo>
                    <a:pt x="632" y="0"/>
                  </a:lnTo>
                  <a:lnTo>
                    <a:pt x="247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248200" y="4242600"/>
              <a:ext cx="294480" cy="174240"/>
            </a:xfrm>
            <a:custGeom>
              <a:avLst/>
              <a:gdLst/>
              <a:ahLst/>
              <a:rect l="l" t="t" r="r" b="b"/>
              <a:pathLst>
                <a:path w="464" h="275">
                  <a:moveTo>
                    <a:pt x="20" y="255"/>
                  </a:moveTo>
                  <a:cubicBezTo>
                    <a:pt x="84" y="159"/>
                    <a:pt x="0" y="275"/>
                    <a:pt x="80" y="195"/>
                  </a:cubicBezTo>
                  <a:cubicBezTo>
                    <a:pt x="109" y="166"/>
                    <a:pt x="116" y="123"/>
                    <a:pt x="128" y="87"/>
                  </a:cubicBezTo>
                  <a:cubicBezTo>
                    <a:pt x="136" y="63"/>
                    <a:pt x="200" y="63"/>
                    <a:pt x="200" y="63"/>
                  </a:cubicBezTo>
                  <a:cubicBezTo>
                    <a:pt x="461" y="75"/>
                    <a:pt x="414" y="0"/>
                    <a:pt x="464" y="99"/>
                  </a:cubicBezTo>
                  <a:lnTo>
                    <a:pt x="20" y="255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1098000">
              <a:off x="2992680" y="4161960"/>
              <a:ext cx="294480" cy="174240"/>
            </a:xfrm>
            <a:custGeom>
              <a:avLst/>
              <a:gdLst/>
              <a:ahLst/>
              <a:rect l="l" t="t" r="r" b="b"/>
              <a:pathLst>
                <a:path w="464" h="275">
                  <a:moveTo>
                    <a:pt x="20" y="255"/>
                  </a:moveTo>
                  <a:cubicBezTo>
                    <a:pt x="84" y="159"/>
                    <a:pt x="0" y="275"/>
                    <a:pt x="80" y="195"/>
                  </a:cubicBezTo>
                  <a:cubicBezTo>
                    <a:pt x="109" y="166"/>
                    <a:pt x="116" y="123"/>
                    <a:pt x="128" y="87"/>
                  </a:cubicBezTo>
                  <a:cubicBezTo>
                    <a:pt x="136" y="63"/>
                    <a:pt x="200" y="63"/>
                    <a:pt x="200" y="63"/>
                  </a:cubicBezTo>
                  <a:cubicBezTo>
                    <a:pt x="461" y="75"/>
                    <a:pt x="414" y="0"/>
                    <a:pt x="464" y="99"/>
                  </a:cubicBezTo>
                  <a:lnTo>
                    <a:pt x="20" y="255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295280" y="4008600"/>
              <a:ext cx="3711600" cy="885600"/>
            </a:xfrm>
            <a:custGeom>
              <a:avLst/>
              <a:gdLst/>
              <a:ahLst/>
              <a:rect l="l" t="t" r="r" b="b"/>
              <a:pathLst>
                <a:path w="5845" h="1396">
                  <a:moveTo>
                    <a:pt x="5845" y="1376"/>
                  </a:moveTo>
                  <a:cubicBezTo>
                    <a:pt x="3760" y="1375"/>
                    <a:pt x="2482" y="1396"/>
                    <a:pt x="397" y="1376"/>
                  </a:cubicBezTo>
                  <a:cubicBezTo>
                    <a:pt x="360" y="1376"/>
                    <a:pt x="355" y="1240"/>
                    <a:pt x="345" y="1224"/>
                  </a:cubicBezTo>
                  <a:cubicBezTo>
                    <a:pt x="314" y="1176"/>
                    <a:pt x="257" y="1123"/>
                    <a:pt x="201" y="1104"/>
                  </a:cubicBezTo>
                  <a:cubicBezTo>
                    <a:pt x="179" y="1070"/>
                    <a:pt x="170" y="1025"/>
                    <a:pt x="141" y="996"/>
                  </a:cubicBezTo>
                  <a:cubicBezTo>
                    <a:pt x="131" y="986"/>
                    <a:pt x="116" y="982"/>
                    <a:pt x="105" y="972"/>
                  </a:cubicBezTo>
                  <a:cubicBezTo>
                    <a:pt x="80" y="949"/>
                    <a:pt x="33" y="900"/>
                    <a:pt x="33" y="900"/>
                  </a:cubicBezTo>
                  <a:cubicBezTo>
                    <a:pt x="0" y="801"/>
                    <a:pt x="17" y="868"/>
                    <a:pt x="33" y="660"/>
                  </a:cubicBezTo>
                  <a:cubicBezTo>
                    <a:pt x="44" y="508"/>
                    <a:pt x="44" y="354"/>
                    <a:pt x="69" y="204"/>
                  </a:cubicBezTo>
                  <a:cubicBezTo>
                    <a:pt x="75" y="166"/>
                    <a:pt x="101" y="165"/>
                    <a:pt x="129" y="156"/>
                  </a:cubicBezTo>
                  <a:cubicBezTo>
                    <a:pt x="193" y="60"/>
                    <a:pt x="295" y="50"/>
                    <a:pt x="405" y="48"/>
                  </a:cubicBezTo>
                  <a:cubicBezTo>
                    <a:pt x="761" y="41"/>
                    <a:pt x="1117" y="40"/>
                    <a:pt x="1473" y="36"/>
                  </a:cubicBezTo>
                  <a:cubicBezTo>
                    <a:pt x="1505" y="28"/>
                    <a:pt x="1537" y="20"/>
                    <a:pt x="1569" y="12"/>
                  </a:cubicBezTo>
                  <a:cubicBezTo>
                    <a:pt x="1585" y="8"/>
                    <a:pt x="1617" y="0"/>
                    <a:pt x="1617" y="0"/>
                  </a:cubicBezTo>
                  <a:cubicBezTo>
                    <a:pt x="2270" y="10"/>
                    <a:pt x="2919" y="45"/>
                    <a:pt x="3573" y="60"/>
                  </a:cubicBezTo>
                  <a:cubicBezTo>
                    <a:pt x="3749" y="95"/>
                    <a:pt x="3836" y="79"/>
                    <a:pt x="4053" y="72"/>
                  </a:cubicBezTo>
                  <a:cubicBezTo>
                    <a:pt x="4705" y="86"/>
                    <a:pt x="5134" y="114"/>
                    <a:pt x="5785" y="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6012000" y="1484280"/>
            <a:ext cx="252072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e tiene un numero de n carros por convoy (1 locomotor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tos se cargan de manera secuencial (1..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arros esperan vacíos mientras otros se llen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Rendimiento palas mecánica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900" spc="-1" strike="noStrike">
                <a:solidFill>
                  <a:srgbClr val="000000"/>
                </a:solidFill>
                <a:latin typeface="Arial"/>
              </a:rPr>
              <a:t>Sea,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1= tiempo excavación de la frente (ideal) (m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2= tiempo cambio de carro (m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3= tiempo ciclo convoy (m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Vb= volumen bal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Vc = volumen car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K1= coeficiente de llenado de la cuchara (0,5 –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Kd = coeficiente de dificultad de carga (0,2 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Rendimiento palas mecán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6948360" y="1341360"/>
                <a:ext cx="122400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c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b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6948360" y="2349360"/>
                <a:ext cx="13669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7020000" y="3357720"/>
                <a:ext cx="165744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9" name=""/>
          <p:cNvSpPr/>
          <p:nvPr/>
        </p:nvSpPr>
        <p:spPr>
          <a:xfrm>
            <a:off x="324000" y="1268280"/>
            <a:ext cx="45370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Numero de ciclos  = </a:t>
            </a:r>
            <a:r>
              <a:rPr b="0" lang="es-MX" sz="1400" spc="-1" strike="noStrike" u="sng">
                <a:solidFill>
                  <a:srgbClr val="000000"/>
                </a:solidFill>
                <a:uFillTx/>
                <a:latin typeface="Arial"/>
              </a:rPr>
              <a:t>Volumen car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volumen de la pa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79280" y="2492280"/>
            <a:ext cx="669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Tiempo llenado carro  = numero de ciclos x tiempo carguío cic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79280" y="3429000"/>
            <a:ext cx="734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Tiempo ciclo total = tiempo carguío + tiempo cambio carros + tiempo cambio convo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50920" y="4365720"/>
            <a:ext cx="734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oeficiente de utilización de la pala = tiempo que carga/ tiempo to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7093080" y="4221000"/>
                <a:ext cx="1258920" cy="79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4" name=""/>
          <p:cNvSpPr/>
          <p:nvPr/>
        </p:nvSpPr>
        <p:spPr>
          <a:xfrm>
            <a:off x="324000" y="5445000"/>
            <a:ext cx="35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endimiento horario de la pala (m3/ 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6659640" y="5373720"/>
                <a:ext cx="195876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2 Título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  <p:grpSp>
        <p:nvGrpSpPr>
          <p:cNvPr id="367" name=""/>
          <p:cNvGrpSpPr/>
          <p:nvPr/>
        </p:nvGrpSpPr>
        <p:grpSpPr>
          <a:xfrm>
            <a:off x="539640" y="1628640"/>
            <a:ext cx="2555640" cy="2239920"/>
            <a:chOff x="539640" y="1628640"/>
            <a:chExt cx="2555640" cy="2239920"/>
          </a:xfrm>
        </p:grpSpPr>
        <p:pic>
          <p:nvPicPr>
            <p:cNvPr id="368" name="" descr=""/>
            <p:cNvPicPr/>
            <p:nvPr/>
          </p:nvPicPr>
          <p:blipFill>
            <a:blip r:embed="rId2"/>
            <a:stretch/>
          </p:blipFill>
          <p:spPr>
            <a:xfrm>
              <a:off x="539640" y="1628640"/>
              <a:ext cx="2555640" cy="17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612720" y="3500280"/>
              <a:ext cx="237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Orugas ax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4932360" y="1484280"/>
            <a:ext cx="2374920" cy="2241720"/>
            <a:chOff x="4932360" y="1484280"/>
            <a:chExt cx="2374920" cy="2241720"/>
          </a:xfrm>
        </p:grpSpPr>
        <p:pic>
          <p:nvPicPr>
            <p:cNvPr id="371" name="" descr=""/>
            <p:cNvPicPr/>
            <p:nvPr/>
          </p:nvPicPr>
          <p:blipFill>
            <a:blip r:embed="rId3"/>
            <a:stretch/>
          </p:blipFill>
          <p:spPr>
            <a:xfrm>
              <a:off x="5005440" y="1484280"/>
              <a:ext cx="2233440" cy="17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4932360" y="3357720"/>
              <a:ext cx="237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Neumáticas- ax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3348000" y="4149720"/>
            <a:ext cx="2519280" cy="2313000"/>
            <a:chOff x="3348000" y="4149720"/>
            <a:chExt cx="2519280" cy="2313000"/>
          </a:xfrm>
        </p:grpSpPr>
        <p:pic>
          <p:nvPicPr>
            <p:cNvPr id="374" name="" descr=""/>
            <p:cNvPicPr/>
            <p:nvPr/>
          </p:nvPicPr>
          <p:blipFill>
            <a:blip r:embed="rId4"/>
            <a:stretch/>
          </p:blipFill>
          <p:spPr>
            <a:xfrm>
              <a:off x="3348000" y="4149720"/>
              <a:ext cx="2519280" cy="17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3348000" y="6094440"/>
              <a:ext cx="237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Neumaticas- late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3203640" y="1773360"/>
            <a:ext cx="1728720" cy="14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Capacidad: 280- 300 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Velocidad: 1,5 – 2,5 km/h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Rendimientos 30 – 40 m3/h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ncho pala 1,96 – 1,73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Largo 2,7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ltura descarga 1,2 – 1, 5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ltura máxima 2,3 – 2,6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415280" y="1700280"/>
            <a:ext cx="1728720" cy="14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Capacidad: 300 – 600  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Velocidad: 3,6 – 5  km/h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Rendimientos 55 – 85 m3/h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ncho pala 1,96 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Largo 3,5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ltura descarga 1,7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ltura máxima 2,7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084720" y="4365720"/>
            <a:ext cx="1729080" cy="14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Capacidad: 600  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Velocidad: 2,5  km/h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Rendimientos 40-55 m3/h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ncho pala 2,45 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Largo 3,1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ltura descarga 0,7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ltura máxima 2,7 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2T00:41:55Z</dcterms:created>
  <dc:creator>Raul Castro</dc:creator>
  <dc:description/>
  <dc:language>en-US</dc:language>
  <cp:lastModifiedBy>Raul Castro</cp:lastModifiedBy>
  <dcterms:modified xsi:type="dcterms:W3CDTF">2007-09-06T14:59:48Z</dcterms:modified>
  <cp:revision>8</cp:revision>
  <dc:subject/>
  <dc:title>Palas Mecánicas</dc:title>
</cp:coreProperties>
</file>