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E21F-3CDC-4EA8-9354-8EBEF376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9E38-A32D-44E1-96C4-7F73B782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FFB2-8D60-4449-B53E-5A300B50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2719-AB5C-44B6-9702-4EA39942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841-8612-4E20-A2F5-F3028F1D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AEE2-7457-4326-A6CE-EB12E6AB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3F18-6B69-44B8-9928-1C665FAB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1BB-4F9E-4D8B-8C77-6A824FA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9E97-2F3B-4873-ADE4-9AC7CA2F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537A-82D3-4C68-9518-04E43B0D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0647-1FDB-4D91-AD11-55EE63F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9644-96D9-4D60-B782-C92F9368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713F-5706-4A31-A6B1-CA5E7EE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F4F-F715-4A2E-BBC9-01B9732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BD79-DE04-4AEE-949C-28A9FFD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21D3-0702-4BA5-A7E8-432A0E9E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DB10-D8DB-4319-BB10-9E148F8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CD71-3D40-41A0-B711-03EDED1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C400-E968-4772-A3A9-856C5CF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DDE3-FE8D-47D8-B9C7-9AD0DC6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F029-112F-449A-998B-6BD5681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E817-76C7-4E77-92E9-EF6B6BB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9DB0-0276-4E06-A2C8-1E4C671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A931-65C2-4950-B3B4-5054F27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2376-3173-4469-9016-9FE13BEBF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A23E-3989-4E4B-A2FD-2495D76C2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3640" y="1844640"/>
            <a:ext cx="4824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Índices operaciona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57G Manejo de minerales y ventilación de m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11280" y="321264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Disponibilidad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onales + Horas reserv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H – Hmantenc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ábile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                                    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 Título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115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4653000"/>
            <a:ext cx="72741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H= Horas hábiles u horas programadas de trabaj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jemplo: Una mina opera 2 turnos de 10 horas Lunes a Viernes y 1 turno de 10 horas los Sabados. HH= 110 Horas (168 totales)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0028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disponibilidad se define como el % del tiempo durante el cual un equipo es capaz de realizar sus funciones especificas dividido por el numero total de horas en un periodo dad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ctores que afectan la disponibil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971640" y="292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 u="sng">
                <a:solidFill>
                  <a:srgbClr val="ff0000"/>
                </a:solidFill>
                <a:uFillTx/>
                <a:latin typeface="Lucida Sans Unicode"/>
              </a:rPr>
              <a:t>Indices de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1. Índice de mantenimiento=  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manten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2. Tiempo medio de repara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: duración media de mantención efectiva (horas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3. Tiempo de mantención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= mantención efectiva + retraso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4.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Record de retrasos a la mantención por categori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5. Eficiencia de la mantención= </a:t>
            </a:r>
            <a:r>
              <a:rPr b="0" lang="es-MX" sz="1700" spc="-1" strike="noStrike" u="sng">
                <a:solidFill>
                  <a:srgbClr val="9999cc"/>
                </a:solidFill>
                <a:uFillTx/>
                <a:latin typeface="Lucida Sans Unicode"/>
              </a:rPr>
              <a:t>mantención programadas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                                                     </a:t>
            </a:r>
            <a:r>
              <a:rPr b="0" lang="es-MX" sz="1700" spc="-1" strike="noStrike">
                <a:solidFill>
                  <a:srgbClr val="9999cc"/>
                </a:solidFill>
                <a:latin typeface="Lucida Sans Unicode"/>
              </a:rPr>
              <a:t>mantención tot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87480" indent="2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981000"/>
            <a:ext cx="7561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rtante calcular horas de reparación via indices de mantención asociado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ención se cuenta desde que el equipo será reparado o inspeccionado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iempo de mantención no necesariamente es igual al tiempo efectivo de mantención para reparar la maquinaria , pues hay perdidas por retrasos por ejemplo en logistica (repuestos, falta de cuadrilla de mantención, tiempo de reacción desde la panne, 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 Título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899640" y="4457520"/>
            <a:ext cx="535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Aprovechamiento =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1900" spc="-1" strike="noStrike" u="sng">
                <a:solidFill>
                  <a:srgbClr val="000000"/>
                </a:solidFill>
                <a:uFillTx/>
                <a:latin typeface="Arial"/>
              </a:rPr>
              <a:t>Horas Oper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Horas Habi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971640" y="5445000"/>
            <a:ext cx="6357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Factor operacional =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 Efectivas de Operación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    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684360" y="328464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Lucida Sans Unicode"/>
              </a:rPr>
              <a:t>Índice de utilización=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s-MX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Horas Operacionales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Lucida Sans Unicode"/>
              </a:rPr>
              <a:t>Horas Operacionales + Horas Reserva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1125360"/>
            <a:ext cx="741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 equipo que esta preparado rara vez es totalmente totalment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r ejemplo una unidad puede ser usado como reserva, esperando a que termine otra operación en un ciclo productivo o no hay operado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utilización o uso de disponibilidad se calcula com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42960" y="3654360"/>
            <a:ext cx="785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Rendimiento =        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nidade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Efectivo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2 Marcador de contenido"/>
          <p:cNvSpPr/>
          <p:nvPr/>
        </p:nvSpPr>
        <p:spPr>
          <a:xfrm>
            <a:off x="500040" y="1714680"/>
            <a:ext cx="7572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Lucida Sans Unicode"/>
              </a:rPr>
              <a:t>Rendimiento</a:t>
            </a:r>
            <a:r>
              <a:rPr b="0" lang="es-MX" sz="2300" spc="-1" strike="noStrike">
                <a:solidFill>
                  <a:srgbClr val="ff0000"/>
                </a:solidFill>
                <a:latin typeface="Lucida Sans Unicode"/>
              </a:rPr>
              <a:t> efectivo =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tiempo operacion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5 CuadroTexto"/>
          <p:cNvSpPr/>
          <p:nvPr/>
        </p:nvSpPr>
        <p:spPr>
          <a:xfrm>
            <a:off x="571680" y="50007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ndimiento efectivo &gt; rendimiento operaciona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s de eficiencia en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468360" y="3284640"/>
            <a:ext cx="84646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Eficiencia en la producción = 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unidades de producción x 100%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     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(HH- tiempo mantención-tiempo en reserva) x rendimiento efectiv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916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nte la operación es importante saber si el equipo esta generando las ganancias esperada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4005360"/>
            <a:ext cx="74883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unidades de producción deben considerar el carácter de la operación o el proceso ejecutado y las condiciones de trabajo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: numero de pernos instalados por un apernador no es bueno si existe una variedad de lar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mina profundiza importa calcular las ton-k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dice de eficiencia del equ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EE: disponibilidad x utilización x eficiencia en la produ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EE: overall equipment performa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95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el rendimiento de un equipo LHD (ton/hr) sabiendo que el tiempo de ciclo de carga-descarga es de 2,6 minutos y que su capacidad es de 5,5 ton. Medidas de mantención indican que los equipos tienen una disponibilidad física de 90%. Perdidas operacionales (cambio turno, demoras en transporte de un sector a otro, etc.) llega a 8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ías año (300 días) – horas hábi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abaja en la mina en 3 turnos de 8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Hábiles/añ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300 x 24 hr = 7.200 hr hábile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mantenció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0,1 x 7200 = 720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didas operacional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80%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d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rovechamiento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24 x 0.8 x 300)/(7.200) = 8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(5,5/2,6)*60=127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efectivo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127 x 0,9 x 0,8 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 (Ton/hr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91 Ton/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ndimiento anual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657.969 Ton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ongamos que la capacidad requerida del sistema es de 600.000 ton 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queridas sistema (Horas hábiles)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  6566 horas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Horas reserv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= 7200 – 6566 = 634 hr/a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szczak, J, 2005. Understanding and assessment of mining equipment effectiveness. Trans Inst. Min Metall. A. vol 114. p 1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finiciones- í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empos en la operac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Índices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1571760"/>
            <a:ext cx="8229600" cy="41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índices (u indicadores) en minería nos ayudan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r la efectividad de procesos ya exist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el estado d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r diseño/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timizar proc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geniería de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terminar la flota de equi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ecánic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rendimiento de equipos e instalaciones en 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miner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ropor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producto final (ley y tonelaje) a través de los distintos procesos mi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i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sum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elementos por unidades d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Índices de resultad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sultados por period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1 Título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67560" cy="1341360"/>
          </a:xfrm>
          <a:prstGeom prst="rect">
            <a:avLst/>
          </a:prstGeom>
          <a:ln w="0">
            <a:noFill/>
          </a:ln>
        </p:spPr>
      </p:pic>
      <p:sp>
        <p:nvSpPr>
          <p:cNvPr id="115" name="4 Rectángulo"/>
          <p:cNvSpPr/>
          <p:nvPr/>
        </p:nvSpPr>
        <p:spPr>
          <a:xfrm>
            <a:off x="857160" y="2500200"/>
            <a:ext cx="5072040" cy="928800"/>
          </a:xfrm>
          <a:prstGeom prst="rect">
            <a:avLst/>
          </a:prstGeom>
          <a:solidFill>
            <a:srgbClr val="ec767c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5 Rectángulo"/>
          <p:cNvSpPr/>
          <p:nvPr/>
        </p:nvSpPr>
        <p:spPr>
          <a:xfrm>
            <a:off x="5929200" y="2500200"/>
            <a:ext cx="2071800" cy="928800"/>
          </a:xfrm>
          <a:prstGeom prst="rect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Horas inhábi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6 Rectángulo"/>
          <p:cNvSpPr/>
          <p:nvPr/>
        </p:nvSpPr>
        <p:spPr>
          <a:xfrm>
            <a:off x="857160" y="3429000"/>
            <a:ext cx="25718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Opera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3429000" y="3429000"/>
            <a:ext cx="157176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Lucida Sans Unicode"/>
              </a:rPr>
              <a:t>Horas mantenció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8 Rectángulo"/>
          <p:cNvSpPr/>
          <p:nvPr/>
        </p:nvSpPr>
        <p:spPr>
          <a:xfrm>
            <a:off x="857160" y="4357800"/>
            <a:ext cx="15001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 efectivas Oper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2357280" y="4357800"/>
            <a:ext cx="1071720" cy="92844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Horas perdidas Operacionales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10 Rectángulo"/>
          <p:cNvSpPr/>
          <p:nvPr/>
        </p:nvSpPr>
        <p:spPr>
          <a:xfrm>
            <a:off x="5000760" y="3429000"/>
            <a:ext cx="928440" cy="928800"/>
          </a:xfrm>
          <a:prstGeom prst="rect">
            <a:avLst/>
          </a:prstGeom>
          <a:solidFill>
            <a:srgbClr val="9999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Lucida Sans Unicode"/>
              </a:rPr>
              <a:t>reserv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oras Hábiles (HH): Horas programada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: Faena opera de Lunes a Viernes en tres turnos de 8 horas, y Sábado 1 turno. Cierra 2 semanas al año por condiciones climá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H=(24 x 5 + 1 x 8) horas/semana x 50 (semanas/año)= 6400 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operación: horas en que el equipo esta funcion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: horas equipo en mantención (se cuenta desde que se para por razones previstas o imprevis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n reserva: equipo esta listo para operar pero no tiene operador/o frente donde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h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efectivas de operación: Horas en que el equipo esta cumpliendo su objetivo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s operacionales: Perdidas originadas en la coordinación de op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funcionan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 el equipo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disponibl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to es el tiempo medio que el equipo estará fuera de uso por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epar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ráp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uede operar en comparación a lo diseñ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ta funciona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4:38:12Z</dcterms:created>
  <dc:creator>Raul Castro</dc:creator>
  <dc:description/>
  <dc:language>en-US</dc:language>
  <cp:lastModifiedBy>Raul Castro</cp:lastModifiedBy>
  <dcterms:modified xsi:type="dcterms:W3CDTF">2007-09-03T14:05:39Z</dcterms:modified>
  <cp:revision>12</cp:revision>
  <dc:subject/>
  <dc:title>Índices de Operación</dc:title>
</cp:coreProperties>
</file>