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81F9-2DDC-467E-8B76-D442F233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024F-B37E-47BB-83EA-88D00530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772B-5BB3-4AEA-9B5A-3B0078CF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0FCC-6939-46FA-90F3-64CAC3FA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68B3-8045-4EB5-AFBE-8BBAEADD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D6AB-03CD-4F30-9A6E-C98478C4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5097-6016-41D5-8BAA-7A677D3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0ACB-2D56-41F7-9D53-24C2C71F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F5E9-88EE-427C-B0A3-8C0D4EBA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7C91-DA50-4D84-BCCA-86277629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4D4E-A1A4-4A91-9094-A9DA7B0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B370-E8E7-494F-B8B4-E028AA4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A81C-CDD3-4188-AB21-CAE2D94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578B-3874-42B2-A487-DFED0865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4771-BA71-4E39-A1D7-693CE3C6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F28-C1AC-4874-8D97-E17833A4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36A3-C447-487A-B7CE-70CC8B55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9A7D-A487-4141-80C3-27FFF665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5573-871D-43F7-B445-861CC77E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F468-37C6-464E-84D4-4112EEDA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0BBB-A484-4607-A973-301F7A78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C557-6868-4CF5-B142-783FE06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A255-9DA5-4F35-9144-A243FF58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652C-368E-4159-98E6-1B5A6CB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A3A-31E0-4B3E-AC6A-B90371B53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0292-5D10-4280-8F38-B0B8B6689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3640" y="1844640"/>
            <a:ext cx="4824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Índices operaciona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57G Manejo de minerales y ventilación de m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321264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Disponibilidad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onales + Horas reserv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H – Hmanten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ábile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               H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 Título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115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4653000"/>
            <a:ext cx="727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H= Horas hábiles u horas programadas de trabaj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jemplo: Una mina opera 2 turnos de 10 horas Lunes a Viernes y 1 turno de 10 horas los Sabados. HH= 110 Horas (168 totales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0028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onibilidad se define como el % del tiempo durante el cual un equipo es capaz de realizar sus funciones especificas dividido por el numero total de horas en un periodo dad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ctores que afectan la dispon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971640" y="292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 u="sng">
                <a:solidFill>
                  <a:srgbClr val="ff0000"/>
                </a:solidFill>
                <a:uFillTx/>
                <a:latin typeface="Lucida Sans Unicode"/>
              </a:rPr>
              <a:t>Indices de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1. Índice de mantenimiento=  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2. Tiempo medio de repara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: duración media de mantención efectiva (horas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3. Tiempo de manten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= mantención efectiva + retraso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Record de retrasos a la mantención por categori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5. Eficiencia de la mantención= </a:t>
            </a:r>
            <a:r>
              <a:rPr b="0" lang="es-MX" sz="1700" spc="-1" strike="noStrike" u="sng">
                <a:solidFill>
                  <a:srgbClr val="9999cc"/>
                </a:solidFill>
                <a:uFillTx/>
                <a:latin typeface="Lucida Sans Unicode"/>
              </a:rPr>
              <a:t>mantención programadas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                                                   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mantención tot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981000"/>
            <a:ext cx="756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mportante calcular horas de reparación via indices de mantención asociado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ención se cuenta desde que el equipo será reparado o inspeccionado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iempo de mantención no necesariamente es igual al tiempo efectivo de mantención para reparar la maquinaria , pues hay perdidas por retrasos por ejemplo en logistica (repuestos, falta de cuadrilla de mantención, tiempo de reacción desde la panne, 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Título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99640" y="4457520"/>
            <a:ext cx="5357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Aprovechamiento =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ab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971640" y="5445000"/>
            <a:ext cx="6357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Factor operacional =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 Efectivas de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684360" y="32846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utilización=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125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equipo que esta preparado rara vez es totalmente totalment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 una unidad puede ser usado como reserva, esperando a que termine otra operación en un ciclo productivo o no hay operad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utilización o uso de disponibilidad se calcula com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42960" y="3654360"/>
            <a:ext cx="7858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ndimiento =        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nidade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Efectivo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2 Marcador de contenido"/>
          <p:cNvSpPr/>
          <p:nvPr/>
        </p:nvSpPr>
        <p:spPr>
          <a:xfrm>
            <a:off x="500040" y="1714680"/>
            <a:ext cx="7572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</a:t>
            </a:r>
            <a:r>
              <a:rPr b="0" lang="es-MX" sz="2300" spc="-1" strike="noStrike">
                <a:solidFill>
                  <a:srgbClr val="ff0000"/>
                </a:solidFill>
                <a:latin typeface="Lucida Sans Unicode"/>
              </a:rPr>
              <a:t> efectivo =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tiempo opera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5 CuadroTexto"/>
          <p:cNvSpPr/>
          <p:nvPr/>
        </p:nvSpPr>
        <p:spPr>
          <a:xfrm>
            <a:off x="5716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ndimiento efectivo &gt; rendimiento opera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s de eficiencia en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468360" y="3284640"/>
            <a:ext cx="84646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Eficiencia en la producción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 x 100%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HH- tiempo mantención-tiempo en reserva) x rendimiento efectiv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91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operación es importante saber si el equipo esta generando las ganancias esperada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4005360"/>
            <a:ext cx="748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unidades de producción deben considerar el carácter de la operación o el proceso ejecutado y las condiciones de trabaj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: numero de pernos instalados por un apernador no es bueno si existe una variedad de lar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mina profundiza importa calcular las ton-k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dice de eficienci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EE: disponibilidad x utilización x eficiencia en la produ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EE: overall equipment perform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el rendimiento de un equipo LHD (ton/hr) sabiendo que el tiempo de ciclo de carga-descarga es de 2,6 minutos y que su capacidad es de 5,5 ton. Medidas de mantención indican que los equipos tienen una disponibilidad física de 90%. Perdidas operacionales (cambio turno, demoras en transporte de un sector a otro, etc.) llega a 8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ías año (300 días) – horas háb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abaja en la mina en 3 turnos de 8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Hábiles/añ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300 x 24 hr = 7.200 hr hábile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manten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0,1 x 7200 = 720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didas operacional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8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rovech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24 x 0.8 x 300)/(7.200) = 8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5,5/2,6)*60=127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127 x 0,9 x 0,8 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anual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657.969 Ton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mos que la capacidad requerida del sistema es de 600.000 ton 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queridas sistema (Horas hábiles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  6566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serv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7200 – 6566 = 634 hr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szczak, J, 2005. Understanding and assessment of mining equipment effectiveness. Trans Inst. Min Metall. A. vol 114. p 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ones- í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empos en la operac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Índices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1571760"/>
            <a:ext cx="822960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índices (u indicadores) en minería nos ayudan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r la efectividad de procesos ya exist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el estado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r diseño/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ptimiza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geniería de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terminar la flota de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ecánic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rendimiento de equipos e instalaciones en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iner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ropor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producto final (ley y tonelaje) a través de los distintos procesos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i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elementos por unidades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resultad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sultados por perio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Título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67560" cy="1341360"/>
          </a:xfrm>
          <a:prstGeom prst="rect">
            <a:avLst/>
          </a:prstGeom>
          <a:ln w="0">
            <a:noFill/>
          </a:ln>
        </p:spPr>
      </p:pic>
      <p:sp>
        <p:nvSpPr>
          <p:cNvPr id="115" name="4 Rectángulo"/>
          <p:cNvSpPr/>
          <p:nvPr/>
        </p:nvSpPr>
        <p:spPr>
          <a:xfrm>
            <a:off x="857160" y="2500200"/>
            <a:ext cx="5072040" cy="928800"/>
          </a:xfrm>
          <a:prstGeom prst="rect">
            <a:avLst/>
          </a:prstGeom>
          <a:solidFill>
            <a:srgbClr val="ec767c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5 Rectángulo"/>
          <p:cNvSpPr/>
          <p:nvPr/>
        </p:nvSpPr>
        <p:spPr>
          <a:xfrm>
            <a:off x="5929200" y="2500200"/>
            <a:ext cx="2071800" cy="92880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Horas in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6 Rectángulo"/>
          <p:cNvSpPr/>
          <p:nvPr/>
        </p:nvSpPr>
        <p:spPr>
          <a:xfrm>
            <a:off x="857160" y="3429000"/>
            <a:ext cx="25718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Opera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3429000" y="3429000"/>
            <a:ext cx="157176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manten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8 Rectángulo"/>
          <p:cNvSpPr/>
          <p:nvPr/>
        </p:nvSpPr>
        <p:spPr>
          <a:xfrm>
            <a:off x="857160" y="4357800"/>
            <a:ext cx="15001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 efectivas Oper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2357280" y="4357800"/>
            <a:ext cx="10717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Horas perdidas Operacion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000760" y="3429000"/>
            <a:ext cx="9284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reser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oras Hábiles (HH): Horas programada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: Faena opera de Lunes a Viernes en tres turnos de 8 horas, y Sábado 1 turno. Cierra 2 semanas al año por condiciones cli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H=(24 x 5 + 1 x 8) horas/semana x 50 (semanas/año)= 6400 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operación: horas en que el equipo esta funcion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: horas equipo en mantención (se cuenta desde que se para por razones previstas o imprev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n reserva: equipo esta listo para operar pero no tiene operador/o frente donde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fectivas de operación: Horas en que el equipo esta cumpliendo su objetivo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s operacionales: Perdidas originadas en la coordinación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funcionan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disponibl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to es el tiempo medio que el equipo estará fuera de uso por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epar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uede operar en comparación a lo diseñ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rec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ta funciona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38:12Z</dcterms:created>
  <dc:creator>Raul Castro</dc:creator>
  <dc:description/>
  <dc:language>en-US</dc:language>
  <cp:lastModifiedBy>Raul Castro</cp:lastModifiedBy>
  <dcterms:modified xsi:type="dcterms:W3CDTF">2007-09-03T14:05:39Z</dcterms:modified>
  <cp:revision>12</cp:revision>
  <dc:subject/>
  <dc:title>Índices de Operación</dc:title>
</cp:coreProperties>
</file>