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64BC-29BB-458A-8919-41F5004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F3D1-338B-4DFE-BC35-8290666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7543-C654-4707-B174-3F68E4A4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9B54-D504-4524-B9AF-82051EB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49C-B6B4-4063-B2D9-B180BA57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02E-96F4-4F55-8EC5-8E9AE15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3011-D0B0-4068-B413-D0720C3B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E150-D1D4-4DF4-80A3-B7B1769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C41-2D0E-44D3-84AF-9BD124AE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446-077D-4509-9705-A586985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A0B-7AC7-49B5-BFCC-CAA310A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025D-7A88-4A83-A2AD-095EDFA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24EB-3590-4419-B5D3-41B1211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5880-FA8B-4474-9069-9DA97D0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54FA-027C-4C18-99AF-442EF857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785A-C321-43C8-9064-6034DFF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4149-A20C-490B-A511-C5468B83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734E-665A-488C-A8D5-077B3EE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A0D1-B89D-4ED9-9BBE-62C8FC94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E8D6-AB34-400A-BF79-C108FF97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617C-B03D-4C5C-9790-CB1587BF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7DF1-6B16-4A01-9F42-B2BFF65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7AFA-05CD-40A0-A371-CE5CB8F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BAEE-FAE5-4ED3-8A15-204F99C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2E7-D849-4890-B69D-4ABCB7F5EBC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A20C-41CB-480E-9125-52F0EAF601DA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0000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57G Manejo de minerales y venti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15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metálica en forma de ca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estida interiormente en planchas de desg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fija a una estructura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ecta directamente con el socucho.  Recibe el mineral desde ahí. Su pendiente es leve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arte inferior inicial de la tolva ( o chute de descarga ) es un área de impactos del material proveniente de la chime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ee los elementos necesarios y la forma para formar una “ cama de piedra “ con un talud natural de escurr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su parte final tiene una inclinación ( ángulo de reposo natural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735200"/>
            <a:ext cx="81532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porta los elementos descri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e compone básicamente por vigas de distinto tamaño y ubicadas en distintas posi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n ser cuatro vigas ancladas en las paredes laterales de la cavidad y tres vigas transversales en la parte superior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 contar con pasillos laterales para la supervisión y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bre la tolva se ubica la cadena que controla el flujo del miner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u diseño obedece a criterios estructur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353600"/>
            <a:ext cx="792468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a pieza móvil de acero, revestida interiormente en piezas de desgas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a sujeta al extremo inferior de la tolva por pivote.  Pivotea entre 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- 2º a 3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buzón puede girar en torno a este pivote por la acción de dos cilindros hidráu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 giro permite el posicionamiento del buzón sobre los camiones o carros de ferrocarril para efectuar la descarga del mi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orma del buzón permite encauzar el escurrimiento del mineral al ancho de la unidad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n su parte posterior posee el contrapeso y un enclavamiento mecánico para mantener fijada su posición ( arriba = cerrada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ILINDR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Accionan los elementos móviles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:  Se ubican bajo el bu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el giro vertical del     bu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B:  Se ubican sobre la cortina de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portacadenas sup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C:  Se ubica sobre la cortina de cadenas, en el centro,  es el de mayor tamañ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 portacadenas inf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DE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isponen en forma consecutiva formando una cortina sobre 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á sujeta en tre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mpalme fijo en la parte superior de la conexión entre socucho y to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s por los cilindro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 por el cilindro 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xtremo de las cadenas más cercano al buzón se encuentr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nte el accionamiento de los cilindros se levanta o baja la cortina de cadenas para controlar el escurrimiento d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ta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on marcos metálicos que están sujetos a los cilindros hidráu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superior permite presionar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inferior permite levantar las 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p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Tambor metálico ubicado a un costad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ser llenado con carga m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e une  por cables y un sistema de poleas  al buzó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arga, lo cual  permite  contrarrestar  la fuerza  que ejerce este sobre los cilindros de ac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alaciones Anex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eras y pasillos, ventilador, nebulizador e      iluminación, alarma y extinción de incendios, teléfono,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ñalización de segu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DE FU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mplaza en una estocada lat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orciona la presión hidráulica requerida para el accionamiento de los cilin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compone de motores eléctricos que accionan bombas que impulsan el ace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r condiciones de flujo expedito del mi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a los que el buzon estara sometido durant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año de los equipos a los que el buzon descar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resguardar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personal autorizado para descolgar el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se llena el buzon vacio se debe usar un protector o bien la zona aislada debido al peligro de caida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diseño debe considerar la infraestructura adecuada si personal trabaja en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cripción de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 de aplicación sistema de traspaso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dentes con fat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to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r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ca hum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de agua a traves de mineral que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Mine Safety and Health Administration (MSHA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7d"/>
                </a:solidFill>
                <a:latin typeface="Arial"/>
              </a:rPr>
              <a:t>Esfuerzos sobre el buz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15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nám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ciado sobre el p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ce en la salida por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on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ticos: Carga sobre la compuerta por material en el p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fuerzo estático define el esfuerzo necesario para abrir o cerrar la comp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s estát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4" descr=""/>
          <p:cNvPicPr/>
          <p:nvPr/>
        </p:nvPicPr>
        <p:blipFill>
          <a:blip r:embed="rId1"/>
          <a:srcRect l="29398" t="26891" r="25972" b="24388"/>
          <a:stretch/>
        </p:blipFill>
        <p:spPr>
          <a:xfrm>
            <a:off x="4500720" y="2349360"/>
            <a:ext cx="4392360" cy="2997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5"/>
          <p:cNvGrpSpPr/>
          <p:nvPr/>
        </p:nvGrpSpPr>
        <p:grpSpPr>
          <a:xfrm>
            <a:off x="250920" y="2276640"/>
            <a:ext cx="3827520" cy="2074680"/>
            <a:chOff x="250920" y="2276640"/>
            <a:chExt cx="3827520" cy="2074680"/>
          </a:xfrm>
        </p:grpSpPr>
        <p:sp>
          <p:nvSpPr>
            <p:cNvPr id="361" name="Line 36"/>
            <p:cNvSpPr/>
            <p:nvPr/>
          </p:nvSpPr>
          <p:spPr>
            <a:xfrm flipH="1">
              <a:off x="1490400" y="2598120"/>
              <a:ext cx="874800" cy="137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>
              <a:off x="1672560" y="2589480"/>
              <a:ext cx="891360" cy="144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8"/>
            <p:cNvSpPr/>
            <p:nvPr/>
          </p:nvSpPr>
          <p:spPr>
            <a:xfrm>
              <a:off x="1927800" y="3650040"/>
              <a:ext cx="58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39"/>
            <p:cNvSpPr/>
            <p:nvPr/>
          </p:nvSpPr>
          <p:spPr>
            <a:xfrm>
              <a:off x="2219400" y="3299400"/>
              <a:ext cx="254880" cy="321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2146320" y="3444840"/>
              <a:ext cx="21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1"/>
            <p:cNvSpPr/>
            <p:nvPr/>
          </p:nvSpPr>
          <p:spPr>
            <a:xfrm>
              <a:off x="1854720" y="2860920"/>
              <a:ext cx="29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2"/>
            <p:cNvSpPr/>
            <p:nvPr/>
          </p:nvSpPr>
          <p:spPr>
            <a:xfrm flipH="1">
              <a:off x="2474640" y="2860920"/>
              <a:ext cx="25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2765520" y="2773440"/>
              <a:ext cx="5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"/>
            <p:cNvSpPr/>
            <p:nvPr/>
          </p:nvSpPr>
          <p:spPr>
            <a:xfrm flipH="1">
              <a:off x="1490400" y="4029840"/>
              <a:ext cx="18216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 flipH="1">
              <a:off x="1235160" y="3971520"/>
              <a:ext cx="254880" cy="26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1490400" y="4234320"/>
              <a:ext cx="229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7"/>
            <p:cNvSpPr/>
            <p:nvPr/>
          </p:nvSpPr>
          <p:spPr>
            <a:xfrm flipH="1">
              <a:off x="250920" y="4234320"/>
              <a:ext cx="98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8"/>
            <p:cNvSpPr/>
            <p:nvPr/>
          </p:nvSpPr>
          <p:spPr>
            <a:xfrm>
              <a:off x="250920" y="4351320"/>
              <a:ext cx="353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797040" y="3941640"/>
              <a:ext cx="7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buz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0"/>
            <p:cNvSpPr/>
            <p:nvPr/>
          </p:nvSpPr>
          <p:spPr>
            <a:xfrm>
              <a:off x="2547360" y="2589480"/>
              <a:ext cx="153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1"/>
            <p:cNvSpPr/>
            <p:nvPr/>
          </p:nvSpPr>
          <p:spPr>
            <a:xfrm flipH="1">
              <a:off x="979920" y="2589480"/>
              <a:ext cx="138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 flipH="1">
              <a:off x="2474280" y="2364120"/>
              <a:ext cx="10908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3"/>
            <p:cNvSpPr/>
            <p:nvPr/>
          </p:nvSpPr>
          <p:spPr>
            <a:xfrm>
              <a:off x="2765520" y="22766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5"/>
          <p:cNvSpPr/>
          <p:nvPr/>
        </p:nvSpPr>
        <p:spPr>
          <a:xfrm>
            <a:off x="90000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30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aterial en un container que se llena genera esfuerzos de corte en el contacto pared-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causa que el esfuerzo vertical sea menor que el peso del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03280" y="4797360"/>
                <a:ext cx="2592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68360" y="6237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erecia: Janssen, 1895: On the pressure of Grain in S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445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fuerzo se va al piqu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 en un pique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92360" y="1916280"/>
          <a:ext cx="5329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329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11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us, M.J et al (2001): Underground Mining Methods pp. 627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Solución de Janssen caso 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050160" cy="4257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4932360" y="2133720"/>
            <a:ext cx="266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0720" y="1916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pique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05000"/>
          <a:ext cx="5400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5400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rot="1293600">
            <a:off x="7596360" y="263844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77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semi-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42920" y="2133720"/>
                <a:ext cx="504036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φ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093080" y="400536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844640"/>
            <a:ext cx="10792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4005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4364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43640" y="58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8036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600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lenado sobre amortiguación de carga diná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vacio o descolgad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059280" y="2349360"/>
                <a:ext cx="2896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32000" y="393372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= esfuerz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esfuerzo est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altura caída bloque peso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deflexión de viga por peso W (caso quasi-está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Gere y Timoshenko, 1997: Mechanic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= 0 (colgadura en el buzón) : esfuerzo dinámico 2 veces quasiest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&gt;&gt;0 (bolones cayendo de altura, sin perdida de energía en choqu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050920" y="5084640"/>
          <a:ext cx="16509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084640"/>
                    <a:ext cx="1650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003640" y="5157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08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peración de carguío desde pique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spera obtener una op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bajo cos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a disminuir el esfuerzo que produce la columna de mineral, el ducto de salida del buzón se construye con un ángulo (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45º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medida que aumenta este ángulo, aumenta la componente del esfuerzo en el sentido de la boca de desc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e ángulo puede variar entre 33 y 46º dependiendo de la humedad del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476360" y="1987560"/>
            <a:ext cx="6552720" cy="4536720"/>
            <a:chOff x="1476360" y="1987560"/>
            <a:chExt cx="6552720" cy="4536720"/>
          </a:xfrm>
        </p:grpSpPr>
        <p:sp>
          <p:nvSpPr>
            <p:cNvPr id="428" name="Text Box 4"/>
            <p:cNvSpPr/>
            <p:nvPr/>
          </p:nvSpPr>
          <p:spPr>
            <a:xfrm>
              <a:off x="4193280" y="4606200"/>
              <a:ext cx="14598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5"/>
            <p:cNvSpPr/>
            <p:nvPr/>
          </p:nvSpPr>
          <p:spPr>
            <a:xfrm>
              <a:off x="5283000" y="2890800"/>
              <a:ext cx="14594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76360" y="1987560"/>
              <a:ext cx="6359760" cy="4536720"/>
              <a:chOff x="1476360" y="1987560"/>
              <a:chExt cx="6359760" cy="4536720"/>
            </a:xfrm>
          </p:grpSpPr>
          <p:sp>
            <p:nvSpPr>
              <p:cNvPr id="431" name="AutoShape 7"/>
              <p:cNvSpPr/>
              <p:nvPr/>
            </p:nvSpPr>
            <p:spPr>
              <a:xfrm rot="16200000">
                <a:off x="1544040" y="4073760"/>
                <a:ext cx="2262960" cy="239832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"/>
              <p:cNvSpPr/>
              <p:nvPr/>
            </p:nvSpPr>
            <p:spPr>
              <a:xfrm>
                <a:off x="3457080" y="1987560"/>
                <a:ext cx="1667880" cy="2462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"/>
              <p:cNvSpPr/>
              <p:nvPr/>
            </p:nvSpPr>
            <p:spPr>
              <a:xfrm>
                <a:off x="4485960" y="1987560"/>
                <a:ext cx="1890720" cy="2813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"/>
              <p:cNvSpPr/>
              <p:nvPr/>
            </p:nvSpPr>
            <p:spPr>
              <a:xfrm>
                <a:off x="3297240" y="3900240"/>
                <a:ext cx="1208520" cy="1178640"/>
              </a:xfrm>
              <a:prstGeom prst="pi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"/>
              <p:cNvSpPr/>
              <p:nvPr/>
            </p:nvSpPr>
            <p:spPr>
              <a:xfrm>
                <a:off x="3800520" y="4595400"/>
                <a:ext cx="37080" cy="378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"/>
              <p:cNvSpPr/>
              <p:nvPr/>
            </p:nvSpPr>
            <p:spPr>
              <a:xfrm>
                <a:off x="3466080" y="4432320"/>
                <a:ext cx="199080" cy="19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3"/>
              <p:cNvGrpSpPr/>
              <p:nvPr/>
            </p:nvGrpSpPr>
            <p:grpSpPr>
              <a:xfrm>
                <a:off x="2378880" y="5272920"/>
                <a:ext cx="1077120" cy="1251360"/>
                <a:chOff x="2378880" y="5272920"/>
                <a:chExt cx="1077120" cy="1251360"/>
              </a:xfrm>
            </p:grpSpPr>
            <p:grpSp>
              <p:nvGrpSpPr>
                <p:cNvPr id="438" name="Group 14"/>
                <p:cNvGrpSpPr/>
                <p:nvPr/>
              </p:nvGrpSpPr>
              <p:grpSpPr>
                <a:xfrm>
                  <a:off x="2378880" y="5272920"/>
                  <a:ext cx="1077120" cy="1251360"/>
                  <a:chOff x="2378880" y="5272920"/>
                  <a:chExt cx="1077120" cy="1251360"/>
                </a:xfrm>
              </p:grpSpPr>
              <p:sp>
                <p:nvSpPr>
                  <p:cNvPr id="439" name="Rectangle 15"/>
                  <p:cNvSpPr/>
                  <p:nvPr/>
                </p:nvSpPr>
                <p:spPr>
                  <a:xfrm>
                    <a:off x="2396520" y="5889960"/>
                    <a:ext cx="1042200" cy="30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6"/>
                  <p:cNvSpPr/>
                  <p:nvPr/>
                </p:nvSpPr>
                <p:spPr>
                  <a:xfrm>
                    <a:off x="237888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>
                    <a:off x="2581200" y="5982480"/>
                    <a:ext cx="5400" cy="12420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8"/>
                  <p:cNvSpPr/>
                  <p:nvPr/>
                </p:nvSpPr>
                <p:spPr>
                  <a:xfrm>
                    <a:off x="258696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19"/>
                  <p:cNvSpPr/>
                  <p:nvPr/>
                </p:nvSpPr>
                <p:spPr>
                  <a:xfrm flipH="1">
                    <a:off x="303840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0"/>
                  <p:cNvSpPr/>
                  <p:nvPr/>
                </p:nvSpPr>
                <p:spPr>
                  <a:xfrm>
                    <a:off x="324828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1"/>
                  <p:cNvSpPr/>
                  <p:nvPr/>
                </p:nvSpPr>
                <p:spPr>
                  <a:xfrm>
                    <a:off x="2604960" y="6197400"/>
                    <a:ext cx="625680" cy="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22"/>
                  <p:cNvSpPr/>
                  <p:nvPr/>
                </p:nvSpPr>
                <p:spPr>
                  <a:xfrm>
                    <a:off x="2810880" y="6078240"/>
                    <a:ext cx="208080" cy="2055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Group 23"/>
                  <p:cNvGrpSpPr/>
                  <p:nvPr/>
                </p:nvGrpSpPr>
                <p:grpSpPr>
                  <a:xfrm>
                    <a:off x="2396520" y="5272920"/>
                    <a:ext cx="1042200" cy="617040"/>
                    <a:chOff x="2396520" y="5272920"/>
                    <a:chExt cx="1042200" cy="617040"/>
                  </a:xfrm>
                </p:grpSpPr>
                <p:grpSp>
                  <p:nvGrpSpPr>
                    <p:cNvPr id="448" name="Group 24"/>
                    <p:cNvGrpSpPr/>
                    <p:nvPr/>
                  </p:nvGrpSpPr>
                  <p:grpSpPr>
                    <a:xfrm>
                      <a:off x="2396520" y="5272920"/>
                      <a:ext cx="1041840" cy="617040"/>
                      <a:chOff x="2396520" y="5272920"/>
                      <a:chExt cx="1041840" cy="617040"/>
                    </a:xfrm>
                  </p:grpSpPr>
                  <p:sp>
                    <p:nvSpPr>
                      <p:cNvPr id="449" name="Freeform 25"/>
                      <p:cNvSpPr/>
                      <p:nvPr/>
                    </p:nvSpPr>
                    <p:spPr>
                      <a:xfrm>
                        <a:off x="239652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Freeform 26"/>
                      <p:cNvSpPr/>
                      <p:nvPr/>
                    </p:nvSpPr>
                    <p:spPr>
                      <a:xfrm>
                        <a:off x="260460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27"/>
                      <p:cNvSpPr/>
                      <p:nvPr/>
                    </p:nvSpPr>
                    <p:spPr>
                      <a:xfrm>
                        <a:off x="281304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Freeform 28"/>
                      <p:cNvSpPr/>
                      <p:nvPr/>
                    </p:nvSpPr>
                    <p:spPr>
                      <a:xfrm>
                        <a:off x="3021480" y="5272920"/>
                        <a:ext cx="20844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29"/>
                      <p:cNvSpPr/>
                      <p:nvPr/>
                    </p:nvSpPr>
                    <p:spPr>
                      <a:xfrm>
                        <a:off x="323028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" name="Line 30"/>
                    <p:cNvSpPr/>
                    <p:nvPr/>
                  </p:nvSpPr>
                  <p:spPr>
                    <a:xfrm>
                      <a:off x="2396520" y="54788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1"/>
                    <p:cNvSpPr/>
                    <p:nvPr/>
                  </p:nvSpPr>
                  <p:spPr>
                    <a:xfrm>
                      <a:off x="2396520" y="56516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32"/>
                  <p:cNvSpPr/>
                  <p:nvPr/>
                </p:nvSpPr>
                <p:spPr>
                  <a:xfrm>
                    <a:off x="2933640" y="6330600"/>
                    <a:ext cx="648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33"/>
                  <p:cNvSpPr/>
                  <p:nvPr/>
                </p:nvSpPr>
                <p:spPr>
                  <a:xfrm>
                    <a:off x="3250800" y="5991120"/>
                    <a:ext cx="540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34"/>
                <p:cNvGrpSpPr/>
                <p:nvPr/>
              </p:nvGrpSpPr>
              <p:grpSpPr>
                <a:xfrm>
                  <a:off x="2552040" y="5925240"/>
                  <a:ext cx="729360" cy="135360"/>
                  <a:chOff x="2552040" y="5925240"/>
                  <a:chExt cx="729360" cy="135360"/>
                </a:xfrm>
              </p:grpSpPr>
              <p:grpSp>
                <p:nvGrpSpPr>
                  <p:cNvPr id="459" name="Group 35"/>
                  <p:cNvGrpSpPr/>
                  <p:nvPr/>
                </p:nvGrpSpPr>
                <p:grpSpPr>
                  <a:xfrm>
                    <a:off x="2552040" y="5925240"/>
                    <a:ext cx="244800" cy="135360"/>
                    <a:chOff x="2552040" y="5925240"/>
                    <a:chExt cx="244800" cy="135360"/>
                  </a:xfrm>
                </p:grpSpPr>
                <p:sp>
                  <p:nvSpPr>
                    <p:cNvPr id="460" name="Oval 36"/>
                    <p:cNvSpPr/>
                    <p:nvPr/>
                  </p:nvSpPr>
                  <p:spPr>
                    <a:xfrm>
                      <a:off x="255204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37"/>
                    <p:cNvSpPr/>
                    <p:nvPr/>
                  </p:nvSpPr>
                  <p:spPr>
                    <a:xfrm>
                      <a:off x="26928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8"/>
                  <p:cNvGrpSpPr/>
                  <p:nvPr/>
                </p:nvGrpSpPr>
                <p:grpSpPr>
                  <a:xfrm>
                    <a:off x="3036600" y="5925240"/>
                    <a:ext cx="244800" cy="135360"/>
                    <a:chOff x="3036600" y="5925240"/>
                    <a:chExt cx="244800" cy="135360"/>
                  </a:xfrm>
                </p:grpSpPr>
                <p:sp>
                  <p:nvSpPr>
                    <p:cNvPr id="463" name="Oval 39"/>
                    <p:cNvSpPr/>
                    <p:nvPr/>
                  </p:nvSpPr>
                  <p:spPr>
                    <a:xfrm>
                      <a:off x="30366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40"/>
                    <p:cNvSpPr/>
                    <p:nvPr/>
                  </p:nvSpPr>
                  <p:spPr>
                    <a:xfrm>
                      <a:off x="317736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5" name="Freeform 41"/>
              <p:cNvSpPr/>
              <p:nvPr/>
            </p:nvSpPr>
            <p:spPr>
              <a:xfrm>
                <a:off x="3183840" y="388260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>
                <a:off x="3267000" y="3169800"/>
                <a:ext cx="1609200" cy="778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093480" y="29437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6 a 10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4"/>
              <p:cNvSpPr/>
              <p:nvPr/>
            </p:nvSpPr>
            <p:spPr>
              <a:xfrm>
                <a:off x="6376680" y="40388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ie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 flipH="1" flipV="1">
                <a:off x="6376680" y="3832560"/>
                <a:ext cx="625680" cy="20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46"/>
              <p:cNvSpPr/>
              <p:nvPr/>
            </p:nvSpPr>
            <p:spPr>
              <a:xfrm>
                <a:off x="1997280" y="6401160"/>
                <a:ext cx="1877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>
                <a:off x="4845960" y="307908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5751000" y="3627000"/>
                <a:ext cx="2160" cy="1645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>
                <a:off x="5104800" y="3627000"/>
                <a:ext cx="645840" cy="32472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>
                <a:off x="5751000" y="3627000"/>
                <a:ext cx="640080" cy="1315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1"/>
              <p:cNvSpPr/>
              <p:nvPr/>
            </p:nvSpPr>
            <p:spPr>
              <a:xfrm>
                <a:off x="5004720" y="52034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2"/>
              <p:cNvSpPr/>
              <p:nvPr/>
            </p:nvSpPr>
            <p:spPr>
              <a:xfrm>
                <a:off x="5613480" y="4791240"/>
                <a:ext cx="145980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3"/>
              <p:cNvSpPr/>
              <p:nvPr/>
            </p:nvSpPr>
            <p:spPr>
              <a:xfrm>
                <a:off x="4291200" y="38329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rc 54"/>
            <p:cNvSpPr/>
            <p:nvPr/>
          </p:nvSpPr>
          <p:spPr>
            <a:xfrm>
              <a:off x="5820840" y="2752200"/>
              <a:ext cx="624240" cy="547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5735520" y="2204640"/>
              <a:ext cx="2293560" cy="1440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56"/>
            <p:cNvSpPr/>
            <p:nvPr/>
          </p:nvSpPr>
          <p:spPr>
            <a:xfrm rot="16200000">
              <a:off x="2652120" y="4989960"/>
              <a:ext cx="822960" cy="49608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7"/>
            <p:cNvSpPr/>
            <p:nvPr/>
          </p:nvSpPr>
          <p:spPr>
            <a:xfrm>
              <a:off x="3873600" y="4497480"/>
              <a:ext cx="1719720" cy="46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8"/>
            <p:cNvSpPr/>
            <p:nvPr/>
          </p:nvSpPr>
          <p:spPr>
            <a:xfrm flipV="1">
              <a:off x="3810600" y="4842360"/>
              <a:ext cx="1820880" cy="15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rc 59"/>
            <p:cNvSpPr/>
            <p:nvPr/>
          </p:nvSpPr>
          <p:spPr>
            <a:xfrm>
              <a:off x="4951800" y="4554720"/>
              <a:ext cx="622440" cy="496800"/>
            </a:xfrm>
            <a:prstGeom prst="pie">
              <a:avLst/>
            </a:prstGeom>
            <a:noFill/>
            <a:ln w="3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v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4581360"/>
                <a:ext cx="3715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6" name=""/>
          <p:cNvGraphicFramePr/>
          <p:nvPr/>
        </p:nvGraphicFramePr>
        <p:xfrm>
          <a:off x="3059280" y="4508640"/>
          <a:ext cx="431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508640"/>
                    <a:ext cx="431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16000" y="2492280"/>
            <a:ext cx="4032000" cy="2374560"/>
            <a:chOff x="1116000" y="2492280"/>
            <a:chExt cx="4032000" cy="2374560"/>
          </a:xfrm>
        </p:grpSpPr>
        <p:sp>
          <p:nvSpPr>
            <p:cNvPr id="489" name=""/>
            <p:cNvSpPr/>
            <p:nvPr/>
          </p:nvSpPr>
          <p:spPr>
            <a:xfrm>
              <a:off x="1116000" y="3916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420720" y="26100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16000" y="4863960"/>
              <a:ext cx="4032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122560" y="3916440"/>
              <a:ext cx="129816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43280" y="2492280"/>
              <a:ext cx="144144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211640" y="1989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yectoria 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050560" y="3212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2133720"/>
            <a:ext cx="23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f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: altur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: distancia bajo s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: material sin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43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64000" y="4869000"/>
          <a:ext cx="28004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869000"/>
                    <a:ext cx="2800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2124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traspaso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47640" y="3916080"/>
            <a:ext cx="18734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19640" y="26096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92360" y="4221000"/>
            <a:ext cx="2448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700360" y="27082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036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07640" y="3933720"/>
            <a:ext cx="151164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551664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3933720"/>
            <a:ext cx="5047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47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64000" y="3573360"/>
          <a:ext cx="431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196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501336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508720" y="2421000"/>
          <a:ext cx="239220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23922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2124000" y="5229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5229360"/>
            <a:ext cx="25236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0" y="0"/>
                </a:moveTo>
                <a:cubicBezTo>
                  <a:pt x="56" y="7"/>
                  <a:pt x="113" y="15"/>
                  <a:pt x="136" y="45"/>
                </a:cubicBezTo>
                <a:cubicBezTo>
                  <a:pt x="159" y="75"/>
                  <a:pt x="128" y="151"/>
                  <a:pt x="136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CAJA DE QUIEB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argo de esta caja de quiebre - ducto comunica con el buzón con una inclinación distinta de la chimenea, varía entre 6 y 12 metros, dependiendo de la granulometría y del bu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fino, este se irá compactando en la caja de descarga provocando una disminución en el diámetro del ducto, pudiendo llegar a producir colgad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húmedo se agudiza 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1280" y="174420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retende que el material ejerza una presión igual a la que ejerce el material vivo ( el material sobre el talud de reposo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o el material que esté sobre el ángulo de reposo gravitará sobre la com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uego, para que el material escurra, es conveniente que el piso del buzón tenga al menos la inclinación del material en rep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87320"/>
            <a:ext cx="81532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evitarlo se usan quiebres mayores (mineral fino y húmedo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diseño de la boca del buzón, límite superior rectangular de la estructura del buzón, debe contemplar el estrechamiento por la conducción con el cambio de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sobre el carro o tolerancia entre el borde superior del equipo y el extremo inferior del buzón, debe ser tal que la caída de bolones no dañe a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distancia horizontal entre el eje del equipo de transporte y el extremo del buzón, debe asegurar un buen llenado del equip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384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o el material que pasa por el buzón es de diferente granulometría (desarrollo y producción) el buzón debe tener una sección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o se logra con compuertas adicionales o de regulación, que varían la sección de descarga.  Flexibiliz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340000" y="1905480"/>
            <a:ext cx="4537080" cy="4331880"/>
            <a:chOff x="2340000" y="1905480"/>
            <a:chExt cx="4537080" cy="4331880"/>
          </a:xfrm>
        </p:grpSpPr>
        <p:sp>
          <p:nvSpPr>
            <p:cNvPr id="541" name="Freeform 4"/>
            <p:cNvSpPr/>
            <p:nvPr/>
          </p:nvSpPr>
          <p:spPr>
            <a:xfrm>
              <a:off x="2398680" y="4479840"/>
              <a:ext cx="13280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714200" y="2041920"/>
              <a:ext cx="612720" cy="101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4119840" y="2121480"/>
              <a:ext cx="2757240" cy="3555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3598920" y="2637720"/>
              <a:ext cx="918000" cy="1401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 rot="19749600">
              <a:off x="4887000" y="39668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 rot="4129200">
              <a:off x="4809240" y="40042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 flipV="1" rot="8884200">
              <a:off x="4892760" y="40352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 rot="8949600">
              <a:off x="5002560" y="41054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 rot="9132600">
              <a:off x="4883760" y="404460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 rot="13816800">
              <a:off x="4953960" y="412308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 flipH="1" flipV="1" rot="19749600">
              <a:off x="5020920" y="3996360"/>
              <a:ext cx="6408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 flipH="1" flipV="1" rot="8949600">
              <a:off x="5138640" y="400752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 flipH="1" flipV="1" rot="13816800">
              <a:off x="4983120" y="40485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7"/>
            <p:cNvSpPr/>
            <p:nvPr/>
          </p:nvSpPr>
          <p:spPr>
            <a:xfrm flipH="1" flipV="1" rot="19795800">
              <a:off x="5021280" y="404028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"/>
            <p:cNvSpPr/>
            <p:nvPr/>
          </p:nvSpPr>
          <p:spPr>
            <a:xfrm flipH="1" rot="10540800">
              <a:off x="5026680" y="38937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 flipH="1" flipV="1" rot="19749600">
              <a:off x="5123160" y="396216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 rot="19749600">
              <a:off x="5206320" y="380880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 rot="4129200">
              <a:off x="5128560" y="3846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 flipV="1" rot="12273600">
              <a:off x="5072400" y="387180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 flipV="1" rot="8884200">
              <a:off x="5212080" y="387648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 rot="3016200">
              <a:off x="5096160" y="4021560"/>
              <a:ext cx="7200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 rot="8949600">
              <a:off x="5321880" y="39470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 rot="9132600">
              <a:off x="5202720" y="388620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 rot="13816800">
              <a:off x="5273280" y="396540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 rot="14837400">
              <a:off x="5117400" y="391752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 rot="919200">
              <a:off x="5109840" y="38667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 rot="4129200">
              <a:off x="5042520" y="3889440"/>
              <a:ext cx="119520" cy="88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 rot="19749600">
              <a:off x="5020560" y="39146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 flipH="1" flipV="1" rot="13816800">
              <a:off x="5303160" y="38901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 rot="269400">
              <a:off x="4731120" y="4080240"/>
              <a:ext cx="282600" cy="2120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 flipH="1" flipV="1" rot="5273400">
              <a:off x="4828680" y="41864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3790440" y="2056320"/>
              <a:ext cx="1529640" cy="1997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4733640" y="2056320"/>
              <a:ext cx="1734480" cy="231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3643560" y="3561120"/>
              <a:ext cx="1108800" cy="105732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4104720" y="4185000"/>
              <a:ext cx="34200" cy="339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3913920" y="2252160"/>
              <a:ext cx="93312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>
                  <a:solidFill>
                    <a:srgbClr val="000000"/>
                  </a:solidFill>
                  <a:latin typeface="Arial"/>
                </a:rPr>
                <a:t>Regulador de sección actuando sobre cade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4119840" y="4515480"/>
              <a:ext cx="62640" cy="89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1"/>
            <p:cNvSpPr/>
            <p:nvPr/>
          </p:nvSpPr>
          <p:spPr>
            <a:xfrm>
              <a:off x="3601800" y="3906000"/>
              <a:ext cx="223560" cy="150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2"/>
            <p:cNvSpPr/>
            <p:nvPr/>
          </p:nvSpPr>
          <p:spPr>
            <a:xfrm rot="18050400">
              <a:off x="4845960" y="3207240"/>
              <a:ext cx="66600" cy="540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 rot="18050400">
              <a:off x="4634280" y="3091680"/>
              <a:ext cx="101520" cy="541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4"/>
            <p:cNvSpPr/>
            <p:nvPr/>
          </p:nvSpPr>
          <p:spPr>
            <a:xfrm rot="18050400">
              <a:off x="5087520" y="3586320"/>
              <a:ext cx="10152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5"/>
            <p:cNvSpPr/>
            <p:nvPr/>
          </p:nvSpPr>
          <p:spPr>
            <a:xfrm rot="18050400">
              <a:off x="5115600" y="3609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"/>
            <p:cNvSpPr/>
            <p:nvPr/>
          </p:nvSpPr>
          <p:spPr>
            <a:xfrm rot="18050400">
              <a:off x="4375080" y="3163680"/>
              <a:ext cx="101520" cy="89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7"/>
            <p:cNvSpPr/>
            <p:nvPr/>
          </p:nvSpPr>
          <p:spPr>
            <a:xfrm rot="18050400">
              <a:off x="4403160" y="3186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 rot="7860000">
              <a:off x="5526000" y="282888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 rot="20757000">
              <a:off x="5655960" y="301428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 rot="11069400">
              <a:off x="5289480" y="27788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 rot="5089800">
              <a:off x="5541120" y="293184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 flipH="1" flipV="1" rot="20757000">
              <a:off x="5333760" y="298440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"/>
            <p:cNvSpPr/>
            <p:nvPr/>
          </p:nvSpPr>
          <p:spPr>
            <a:xfrm rot="5089800">
              <a:off x="5484960" y="265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4"/>
            <p:cNvSpPr/>
            <p:nvPr/>
          </p:nvSpPr>
          <p:spPr>
            <a:xfrm rot="11069400">
              <a:off x="5436720" y="2585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 flipV="1" rot="19213800">
              <a:off x="5398560" y="24620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 flipV="1" rot="15825000">
              <a:off x="5334120" y="25617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 rot="9957000">
              <a:off x="5335200" y="247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 rot="269400">
              <a:off x="5537520" y="26859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 rot="15889800">
              <a:off x="5308920" y="270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 rot="15889800">
              <a:off x="5596560" y="25437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 rot="16073400">
              <a:off x="5371200" y="26222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 rot="20757000">
              <a:off x="5295960" y="26672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 rot="20757000">
              <a:off x="5616720" y="2628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 rot="20757000">
              <a:off x="5545440" y="27331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"/>
            <p:cNvSpPr/>
            <p:nvPr/>
          </p:nvSpPr>
          <p:spPr>
            <a:xfrm rot="177600">
              <a:off x="5314320" y="25002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6"/>
            <p:cNvSpPr/>
            <p:nvPr/>
          </p:nvSpPr>
          <p:spPr>
            <a:xfrm rot="7860000">
              <a:off x="5416920" y="25243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 flipV="1" rot="17481000">
              <a:off x="5452200" y="2662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 rot="20757000">
              <a:off x="5646960" y="2577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 rot="11069400">
              <a:off x="5433480" y="2489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 rot="5089800">
              <a:off x="5470200" y="24458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 rot="5089800">
              <a:off x="5542200" y="25138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 rot="20757000">
              <a:off x="5605560" y="2588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 flipH="1" flipV="1" rot="5089800">
              <a:off x="5398200" y="27655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 flipH="1" flipV="1" rot="11069400">
              <a:off x="5495400" y="27954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 flipH="1" flipV="1" rot="15889800">
              <a:off x="5337720" y="28659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 flipH="1" flipV="1" rot="16073400">
              <a:off x="5515560" y="26107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7"/>
            <p:cNvSpPr/>
            <p:nvPr/>
          </p:nvSpPr>
          <p:spPr>
            <a:xfrm flipH="1" flipV="1" rot="20757000">
              <a:off x="5504040" y="25671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8"/>
            <p:cNvSpPr/>
            <p:nvPr/>
          </p:nvSpPr>
          <p:spPr>
            <a:xfrm flipH="1" flipV="1" rot="20757000">
              <a:off x="5366160" y="2719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 flipH="1" flipV="1" rot="5136600">
              <a:off x="5316480" y="27453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 flipH="1" rot="17481000">
              <a:off x="5403240" y="27453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 flipH="1" flipV="1" rot="5089800">
              <a:off x="5384880" y="2871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 rot="5089800">
              <a:off x="5735880" y="27723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 rot="11069400">
              <a:off x="5688000" y="2700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 flipV="1" rot="19213800">
              <a:off x="5650200" y="25768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 flipV="1" rot="15825000">
              <a:off x="5584680" y="267660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 rot="9957000">
              <a:off x="5586480" y="259128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 rot="269400">
              <a:off x="5788440" y="28008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 rot="15889800">
              <a:off x="5560560" y="281664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9"/>
            <p:cNvSpPr/>
            <p:nvPr/>
          </p:nvSpPr>
          <p:spPr>
            <a:xfrm rot="15889800">
              <a:off x="5848200" y="26582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0"/>
            <p:cNvSpPr/>
            <p:nvPr/>
          </p:nvSpPr>
          <p:spPr>
            <a:xfrm rot="16073400">
              <a:off x="5622840" y="27363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 rot="20757000">
              <a:off x="5547240" y="27817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 rot="20757000">
              <a:off x="5867640" y="27432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 rot="20757000">
              <a:off x="5797080" y="2847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 rot="177600">
              <a:off x="5565600" y="261468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 rot="7860000">
              <a:off x="566892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 flipV="1" rot="17481000">
              <a:off x="5703120" y="2777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 rot="20757000">
              <a:off x="5897880" y="269208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 rot="11069400">
              <a:off x="5685120" y="26042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 rot="5089800">
              <a:off x="5721120" y="2559960"/>
              <a:ext cx="6300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 rot="5089800">
              <a:off x="5794200" y="26280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1"/>
            <p:cNvSpPr/>
            <p:nvPr/>
          </p:nvSpPr>
          <p:spPr>
            <a:xfrm rot="20757000">
              <a:off x="5856840" y="27025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2"/>
            <p:cNvSpPr/>
            <p:nvPr/>
          </p:nvSpPr>
          <p:spPr>
            <a:xfrm flipH="1" flipV="1" rot="5089800">
              <a:off x="5649120" y="28792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 flipH="1" flipV="1" rot="11069400">
              <a:off x="5746320" y="2909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 flipH="1" flipV="1" rot="15889800">
              <a:off x="5589360" y="29811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 flipH="1" flipV="1" rot="16073400">
              <a:off x="5766480" y="272520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 flipH="1" flipV="1" rot="20757000">
              <a:off x="5754960" y="2681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 flipH="1" flipV="1" rot="20757000">
              <a:off x="5617080" y="2833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 flipH="1" flipV="1" rot="5136600">
              <a:off x="5567760" y="28598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 flipH="1" rot="17481000">
              <a:off x="5654520" y="286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 flipH="1" flipV="1" rot="5089800">
              <a:off x="5635800" y="2985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 rot="5089800">
              <a:off x="5497200" y="22845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 rot="11069400">
              <a:off x="5448960" y="2212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3"/>
            <p:cNvSpPr/>
            <p:nvPr/>
          </p:nvSpPr>
          <p:spPr>
            <a:xfrm flipV="1" rot="19213800">
              <a:off x="5411520" y="2087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4"/>
            <p:cNvSpPr/>
            <p:nvPr/>
          </p:nvSpPr>
          <p:spPr>
            <a:xfrm flipV="1" rot="15825000">
              <a:off x="5347080" y="21877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 rot="9957000">
              <a:off x="5347440" y="2103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 rot="269400">
              <a:off x="5550480" y="2311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 rot="15889800">
              <a:off x="5321520" y="2328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 rot="15889800">
              <a:off x="5609520" y="21697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 rot="16073400">
              <a:off x="5383800" y="22478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 rot="20757000">
              <a:off x="5308200" y="2293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 rot="20757000">
              <a:off x="5628960" y="2254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 rot="20757000">
              <a:off x="5558040" y="23587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 rot="177600">
              <a:off x="5326560" y="21258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 rot="7860000">
              <a:off x="5429880" y="215028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5"/>
            <p:cNvSpPr/>
            <p:nvPr/>
          </p:nvSpPr>
          <p:spPr>
            <a:xfrm flipV="1" rot="17481000">
              <a:off x="5465160" y="2288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6"/>
            <p:cNvSpPr/>
            <p:nvPr/>
          </p:nvSpPr>
          <p:spPr>
            <a:xfrm rot="20757000">
              <a:off x="5659560" y="2203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 rot="11069400">
              <a:off x="5446440" y="211572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 rot="5089800">
              <a:off x="5482440" y="20718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 rot="5089800">
              <a:off x="5555520" y="213912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 rot="20757000">
              <a:off x="5618880" y="22140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 flipH="1" flipV="1" rot="5089800">
              <a:off x="5410440" y="2390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 flipH="1" flipV="1" rot="11069400">
              <a:off x="5507280" y="242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 flipH="1" flipV="1" rot="15889800">
              <a:off x="5350680" y="24919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 flipH="1" flipV="1" rot="16073400">
              <a:off x="5527800" y="223668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 flipH="1" flipV="1" rot="20757000">
              <a:off x="5516280" y="21927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 flipH="1" flipV="1" rot="20757000">
              <a:off x="5379120" y="2345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7"/>
            <p:cNvSpPr/>
            <p:nvPr/>
          </p:nvSpPr>
          <p:spPr>
            <a:xfrm flipH="1" flipV="1" rot="5136600">
              <a:off x="5328720" y="237132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8"/>
            <p:cNvSpPr/>
            <p:nvPr/>
          </p:nvSpPr>
          <p:spPr>
            <a:xfrm flipH="1" rot="17481000">
              <a:off x="5415480" y="23713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 flipH="1" flipV="1" rot="5089800">
              <a:off x="5397840" y="2497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 rot="15889800">
              <a:off x="5751720" y="2391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 rot="269400">
              <a:off x="5744520" y="2448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 flipV="1" rot="8413200">
              <a:off x="5782680" y="2483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 flipV="1" rot="5025000">
              <a:off x="5862960" y="23608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 rot="20757000">
              <a:off x="5892120" y="2580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 rot="11069400">
              <a:off x="5644080" y="2349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 rot="5089800">
              <a:off x="5928120" y="23472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 rot="5089800">
              <a:off x="5641560" y="25059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 rot="5273400">
              <a:off x="5821920" y="239940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9"/>
            <p:cNvSpPr/>
            <p:nvPr/>
          </p:nvSpPr>
          <p:spPr>
            <a:xfrm rot="9957000">
              <a:off x="5913360" y="238788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0"/>
            <p:cNvSpPr/>
            <p:nvPr/>
          </p:nvSpPr>
          <p:spPr>
            <a:xfrm rot="9957000">
              <a:off x="5614560" y="24022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 rot="9957000">
              <a:off x="5683320" y="23245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 rot="10977600">
              <a:off x="5830920" y="244944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 rot="18660000">
              <a:off x="5778000" y="246672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 flipV="1" rot="6681000">
              <a:off x="5743800" y="22611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 rot="9957000">
              <a:off x="5581800" y="247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 rot="269400">
              <a:off x="5746320" y="25430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 rot="15889800">
              <a:off x="5767560" y="26046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 rot="15889800">
              <a:off x="5694120" y="253476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 rot="9957000">
              <a:off x="5624640" y="24433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 flipH="1" flipV="1" rot="15889800">
              <a:off x="5837400" y="22820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1"/>
            <p:cNvSpPr/>
            <p:nvPr/>
          </p:nvSpPr>
          <p:spPr>
            <a:xfrm flipH="1" flipV="1" rot="269400">
              <a:off x="5684400" y="2237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 flipH="1" flipV="1" rot="5089800">
              <a:off x="5899320" y="218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3"/>
            <p:cNvSpPr/>
            <p:nvPr/>
          </p:nvSpPr>
          <p:spPr>
            <a:xfrm flipH="1" flipV="1" rot="5273400">
              <a:off x="5677200" y="24109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4"/>
            <p:cNvSpPr/>
            <p:nvPr/>
          </p:nvSpPr>
          <p:spPr>
            <a:xfrm flipH="1" flipV="1" rot="9957000">
              <a:off x="5704200" y="2485800"/>
              <a:ext cx="9180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5"/>
            <p:cNvSpPr/>
            <p:nvPr/>
          </p:nvSpPr>
          <p:spPr>
            <a:xfrm flipH="1" flipV="1" rot="9957000">
              <a:off x="5861880" y="2338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6"/>
            <p:cNvSpPr/>
            <p:nvPr/>
          </p:nvSpPr>
          <p:spPr>
            <a:xfrm flipH="1" flipV="1" rot="15936600">
              <a:off x="5879520" y="227700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7"/>
            <p:cNvSpPr/>
            <p:nvPr/>
          </p:nvSpPr>
          <p:spPr>
            <a:xfrm flipH="1" rot="6681000">
              <a:off x="5791320" y="21790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8"/>
            <p:cNvSpPr/>
            <p:nvPr/>
          </p:nvSpPr>
          <p:spPr>
            <a:xfrm flipH="1" flipV="1" rot="15889800">
              <a:off x="5851440" y="21769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9"/>
            <p:cNvSpPr/>
            <p:nvPr/>
          </p:nvSpPr>
          <p:spPr>
            <a:xfrm rot="269400">
              <a:off x="5740200" y="2093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0"/>
            <p:cNvSpPr/>
            <p:nvPr/>
          </p:nvSpPr>
          <p:spPr>
            <a:xfrm flipV="1" rot="8413200">
              <a:off x="5778000" y="21286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1"/>
            <p:cNvSpPr/>
            <p:nvPr/>
          </p:nvSpPr>
          <p:spPr>
            <a:xfrm flipV="1" rot="5025000">
              <a:off x="5857920" y="20059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2"/>
            <p:cNvSpPr/>
            <p:nvPr/>
          </p:nvSpPr>
          <p:spPr>
            <a:xfrm rot="20757000">
              <a:off x="5887080" y="22255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3"/>
            <p:cNvSpPr/>
            <p:nvPr/>
          </p:nvSpPr>
          <p:spPr>
            <a:xfrm rot="5089800">
              <a:off x="5636520" y="21510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4"/>
            <p:cNvSpPr/>
            <p:nvPr/>
          </p:nvSpPr>
          <p:spPr>
            <a:xfrm rot="5273400">
              <a:off x="5816880" y="2044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5"/>
            <p:cNvSpPr/>
            <p:nvPr/>
          </p:nvSpPr>
          <p:spPr>
            <a:xfrm rot="9957000">
              <a:off x="5609520" y="2047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6"/>
            <p:cNvSpPr/>
            <p:nvPr/>
          </p:nvSpPr>
          <p:spPr>
            <a:xfrm rot="10977600">
              <a:off x="5826600" y="20944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7"/>
            <p:cNvSpPr/>
            <p:nvPr/>
          </p:nvSpPr>
          <p:spPr>
            <a:xfrm rot="18660000">
              <a:off x="5772600" y="21121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8"/>
            <p:cNvSpPr/>
            <p:nvPr/>
          </p:nvSpPr>
          <p:spPr>
            <a:xfrm rot="9957000">
              <a:off x="5577120" y="21240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9"/>
            <p:cNvSpPr/>
            <p:nvPr/>
          </p:nvSpPr>
          <p:spPr>
            <a:xfrm rot="269400">
              <a:off x="5741280" y="21884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0"/>
            <p:cNvSpPr/>
            <p:nvPr/>
          </p:nvSpPr>
          <p:spPr>
            <a:xfrm rot="15889800">
              <a:off x="5763240" y="224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1"/>
            <p:cNvSpPr/>
            <p:nvPr/>
          </p:nvSpPr>
          <p:spPr>
            <a:xfrm rot="15889800">
              <a:off x="5689080" y="21794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2"/>
            <p:cNvSpPr/>
            <p:nvPr/>
          </p:nvSpPr>
          <p:spPr>
            <a:xfrm rot="9957000">
              <a:off x="5619600" y="2088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3"/>
            <p:cNvSpPr/>
            <p:nvPr/>
          </p:nvSpPr>
          <p:spPr>
            <a:xfrm flipH="1" flipV="1" rot="5273400">
              <a:off x="5672160" y="20559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4"/>
            <p:cNvSpPr/>
            <p:nvPr/>
          </p:nvSpPr>
          <p:spPr>
            <a:xfrm flipH="1" flipV="1" rot="9957000">
              <a:off x="5699160" y="2131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5"/>
            <p:cNvSpPr/>
            <p:nvPr/>
          </p:nvSpPr>
          <p:spPr>
            <a:xfrm flipV="1" rot="10425000">
              <a:off x="5468760" y="19310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6"/>
            <p:cNvSpPr/>
            <p:nvPr/>
          </p:nvSpPr>
          <p:spPr>
            <a:xfrm rot="15357000">
              <a:off x="5514840" y="204012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7"/>
            <p:cNvSpPr/>
            <p:nvPr/>
          </p:nvSpPr>
          <p:spPr>
            <a:xfrm flipV="1" rot="17481000">
              <a:off x="5596560" y="218052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8"/>
            <p:cNvSpPr/>
            <p:nvPr/>
          </p:nvSpPr>
          <p:spPr>
            <a:xfrm flipH="1" flipV="1" rot="5089800">
              <a:off x="5415120" y="243900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9"/>
            <p:cNvSpPr/>
            <p:nvPr/>
          </p:nvSpPr>
          <p:spPr>
            <a:xfrm flipH="1" flipV="1" rot="15889800">
              <a:off x="5514840" y="199512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0"/>
            <p:cNvSpPr/>
            <p:nvPr/>
          </p:nvSpPr>
          <p:spPr>
            <a:xfrm flipH="1" flipV="1" rot="11069400">
              <a:off x="5742720" y="256104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91"/>
            <p:cNvSpPr/>
            <p:nvPr/>
          </p:nvSpPr>
          <p:spPr>
            <a:xfrm flipH="1" rot="21330600">
              <a:off x="5845680" y="191592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2"/>
            <p:cNvSpPr/>
            <p:nvPr/>
          </p:nvSpPr>
          <p:spPr>
            <a:xfrm flipH="1" rot="13740000">
              <a:off x="6012360" y="300060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93"/>
            <p:cNvSpPr/>
            <p:nvPr/>
          </p:nvSpPr>
          <p:spPr>
            <a:xfrm flipH="1" rot="843000">
              <a:off x="5963760" y="3186360"/>
              <a:ext cx="169560" cy="15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4"/>
            <p:cNvSpPr/>
            <p:nvPr/>
          </p:nvSpPr>
          <p:spPr>
            <a:xfrm flipH="1" rot="10530600">
              <a:off x="6216480" y="295020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95"/>
            <p:cNvSpPr/>
            <p:nvPr/>
          </p:nvSpPr>
          <p:spPr>
            <a:xfrm flipH="1" rot="16510200">
              <a:off x="6094080" y="310356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6"/>
            <p:cNvSpPr/>
            <p:nvPr/>
          </p:nvSpPr>
          <p:spPr>
            <a:xfrm flipV="1" rot="843000">
              <a:off x="6238440" y="315612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7"/>
            <p:cNvSpPr/>
            <p:nvPr/>
          </p:nvSpPr>
          <p:spPr>
            <a:xfrm flipH="1" rot="16510200">
              <a:off x="6240960" y="2829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8"/>
            <p:cNvSpPr/>
            <p:nvPr/>
          </p:nvSpPr>
          <p:spPr>
            <a:xfrm flipH="1" rot="10530600">
              <a:off x="6232680" y="2757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9"/>
            <p:cNvSpPr/>
            <p:nvPr/>
          </p:nvSpPr>
          <p:spPr>
            <a:xfrm flipH="1" flipV="1" rot="2386200">
              <a:off x="6273000" y="263412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00"/>
            <p:cNvSpPr/>
            <p:nvPr/>
          </p:nvSpPr>
          <p:spPr>
            <a:xfrm flipH="1" flipV="1" rot="5775000">
              <a:off x="6351120" y="27338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1"/>
            <p:cNvSpPr/>
            <p:nvPr/>
          </p:nvSpPr>
          <p:spPr>
            <a:xfrm flipH="1" rot="11643000">
              <a:off x="6381360" y="264816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02"/>
            <p:cNvSpPr/>
            <p:nvPr/>
          </p:nvSpPr>
          <p:spPr>
            <a:xfrm flipH="1" rot="21330600">
              <a:off x="6132600" y="2857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3"/>
            <p:cNvSpPr/>
            <p:nvPr/>
          </p:nvSpPr>
          <p:spPr>
            <a:xfrm flipH="1" rot="5710200">
              <a:off x="6417720" y="28738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4"/>
            <p:cNvSpPr/>
            <p:nvPr/>
          </p:nvSpPr>
          <p:spPr>
            <a:xfrm flipH="1" rot="5710200">
              <a:off x="6130440" y="27154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5"/>
            <p:cNvSpPr/>
            <p:nvPr/>
          </p:nvSpPr>
          <p:spPr>
            <a:xfrm flipH="1" rot="5526600">
              <a:off x="6311160" y="27939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6"/>
            <p:cNvSpPr/>
            <p:nvPr/>
          </p:nvSpPr>
          <p:spPr>
            <a:xfrm flipH="1" rot="843000">
              <a:off x="6401880" y="28389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7"/>
            <p:cNvSpPr/>
            <p:nvPr/>
          </p:nvSpPr>
          <p:spPr>
            <a:xfrm flipH="1" rot="843000">
              <a:off x="6103440" y="2800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8"/>
            <p:cNvSpPr/>
            <p:nvPr/>
          </p:nvSpPr>
          <p:spPr>
            <a:xfrm flipH="1" rot="843000">
              <a:off x="6173640" y="2904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9"/>
            <p:cNvSpPr/>
            <p:nvPr/>
          </p:nvSpPr>
          <p:spPr>
            <a:xfrm flipH="1" rot="21422400">
              <a:off x="6320160" y="267192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0"/>
            <p:cNvSpPr/>
            <p:nvPr/>
          </p:nvSpPr>
          <p:spPr>
            <a:xfrm flipH="1" rot="13740000">
              <a:off x="6266520" y="269604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11"/>
            <p:cNvSpPr/>
            <p:nvPr/>
          </p:nvSpPr>
          <p:spPr>
            <a:xfrm flipH="1" flipV="1" rot="4119000">
              <a:off x="6233400" y="28342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12"/>
            <p:cNvSpPr/>
            <p:nvPr/>
          </p:nvSpPr>
          <p:spPr>
            <a:xfrm flipH="1" rot="843000">
              <a:off x="6072120" y="274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3"/>
            <p:cNvSpPr/>
            <p:nvPr/>
          </p:nvSpPr>
          <p:spPr>
            <a:xfrm flipH="1" rot="10530600">
              <a:off x="6235560" y="266148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4"/>
            <p:cNvSpPr/>
            <p:nvPr/>
          </p:nvSpPr>
          <p:spPr>
            <a:xfrm flipH="1" rot="16510200">
              <a:off x="6256440" y="26172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5"/>
            <p:cNvSpPr/>
            <p:nvPr/>
          </p:nvSpPr>
          <p:spPr>
            <a:xfrm flipH="1" rot="16510200">
              <a:off x="6183360" y="2685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6"/>
            <p:cNvSpPr/>
            <p:nvPr/>
          </p:nvSpPr>
          <p:spPr>
            <a:xfrm flipH="1" rot="843000">
              <a:off x="6114600" y="2759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7"/>
            <p:cNvSpPr/>
            <p:nvPr/>
          </p:nvSpPr>
          <p:spPr>
            <a:xfrm flipV="1" rot="16510200">
              <a:off x="6328080" y="2937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8"/>
            <p:cNvSpPr/>
            <p:nvPr/>
          </p:nvSpPr>
          <p:spPr>
            <a:xfrm flipV="1" rot="10530600">
              <a:off x="6174720" y="2966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9"/>
            <p:cNvSpPr/>
            <p:nvPr/>
          </p:nvSpPr>
          <p:spPr>
            <a:xfrm flipV="1" rot="5710200">
              <a:off x="6388560" y="3038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20"/>
            <p:cNvSpPr/>
            <p:nvPr/>
          </p:nvSpPr>
          <p:spPr>
            <a:xfrm flipV="1" rot="5526600">
              <a:off x="6167160" y="27813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1"/>
            <p:cNvSpPr/>
            <p:nvPr/>
          </p:nvSpPr>
          <p:spPr>
            <a:xfrm flipV="1" rot="843000">
              <a:off x="6193080" y="273852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22"/>
            <p:cNvSpPr/>
            <p:nvPr/>
          </p:nvSpPr>
          <p:spPr>
            <a:xfrm flipV="1" rot="843000">
              <a:off x="6352560" y="28911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23"/>
            <p:cNvSpPr/>
            <p:nvPr/>
          </p:nvSpPr>
          <p:spPr>
            <a:xfrm flipV="1" rot="16463400">
              <a:off x="6368400" y="291708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24"/>
            <p:cNvSpPr/>
            <p:nvPr/>
          </p:nvSpPr>
          <p:spPr>
            <a:xfrm rot="4119000">
              <a:off x="6281280" y="291672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5"/>
            <p:cNvSpPr/>
            <p:nvPr/>
          </p:nvSpPr>
          <p:spPr>
            <a:xfrm flipV="1" rot="16510200">
              <a:off x="6342480" y="3042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6"/>
            <p:cNvSpPr/>
            <p:nvPr/>
          </p:nvSpPr>
          <p:spPr>
            <a:xfrm flipH="1" rot="16510200">
              <a:off x="5990040" y="29440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7"/>
            <p:cNvSpPr/>
            <p:nvPr/>
          </p:nvSpPr>
          <p:spPr>
            <a:xfrm flipH="1" rot="10530600">
              <a:off x="5981760" y="2871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8"/>
            <p:cNvSpPr/>
            <p:nvPr/>
          </p:nvSpPr>
          <p:spPr>
            <a:xfrm flipH="1" flipV="1" rot="2386200">
              <a:off x="6021000" y="274788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9"/>
            <p:cNvSpPr/>
            <p:nvPr/>
          </p:nvSpPr>
          <p:spPr>
            <a:xfrm flipH="1" flipV="1" rot="5775000">
              <a:off x="6100560" y="28486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30"/>
            <p:cNvSpPr/>
            <p:nvPr/>
          </p:nvSpPr>
          <p:spPr>
            <a:xfrm flipH="1" rot="11643000">
              <a:off x="6130440" y="27630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1"/>
            <p:cNvSpPr/>
            <p:nvPr/>
          </p:nvSpPr>
          <p:spPr>
            <a:xfrm flipH="1" rot="21330600">
              <a:off x="5881680" y="29721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2"/>
            <p:cNvSpPr/>
            <p:nvPr/>
          </p:nvSpPr>
          <p:spPr>
            <a:xfrm flipH="1" rot="5710200">
              <a:off x="6165360" y="29883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3"/>
            <p:cNvSpPr/>
            <p:nvPr/>
          </p:nvSpPr>
          <p:spPr>
            <a:xfrm flipH="1" rot="5710200">
              <a:off x="5878440" y="28299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4"/>
            <p:cNvSpPr/>
            <p:nvPr/>
          </p:nvSpPr>
          <p:spPr>
            <a:xfrm flipH="1" rot="5526600">
              <a:off x="6058800" y="2908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5"/>
            <p:cNvSpPr/>
            <p:nvPr/>
          </p:nvSpPr>
          <p:spPr>
            <a:xfrm flipH="1" rot="843000">
              <a:off x="6150960" y="29534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6"/>
            <p:cNvSpPr/>
            <p:nvPr/>
          </p:nvSpPr>
          <p:spPr>
            <a:xfrm flipH="1" rot="843000">
              <a:off x="5852520" y="29149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37"/>
            <p:cNvSpPr/>
            <p:nvPr/>
          </p:nvSpPr>
          <p:spPr>
            <a:xfrm flipH="1" rot="843000">
              <a:off x="5921640" y="30193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8"/>
            <p:cNvSpPr/>
            <p:nvPr/>
          </p:nvSpPr>
          <p:spPr>
            <a:xfrm flipH="1" rot="21422400">
              <a:off x="6069240" y="2786040"/>
              <a:ext cx="155160" cy="172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39"/>
            <p:cNvSpPr/>
            <p:nvPr/>
          </p:nvSpPr>
          <p:spPr>
            <a:xfrm flipH="1" rot="13740000">
              <a:off x="6014160" y="28105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0"/>
            <p:cNvSpPr/>
            <p:nvPr/>
          </p:nvSpPr>
          <p:spPr>
            <a:xfrm flipH="1" flipV="1" rot="4119000">
              <a:off x="5981040" y="29494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1"/>
            <p:cNvSpPr/>
            <p:nvPr/>
          </p:nvSpPr>
          <p:spPr>
            <a:xfrm flipH="1" rot="843000">
              <a:off x="5820840" y="2863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2"/>
            <p:cNvSpPr/>
            <p:nvPr/>
          </p:nvSpPr>
          <p:spPr>
            <a:xfrm flipH="1" rot="10530600">
              <a:off x="5984640" y="277596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3"/>
            <p:cNvSpPr/>
            <p:nvPr/>
          </p:nvSpPr>
          <p:spPr>
            <a:xfrm flipH="1" rot="16510200">
              <a:off x="6005520" y="27316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4"/>
            <p:cNvSpPr/>
            <p:nvPr/>
          </p:nvSpPr>
          <p:spPr>
            <a:xfrm flipH="1" rot="16510200">
              <a:off x="5932080" y="27997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5"/>
            <p:cNvSpPr/>
            <p:nvPr/>
          </p:nvSpPr>
          <p:spPr>
            <a:xfrm flipH="1" rot="843000">
              <a:off x="5863320" y="28742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46"/>
            <p:cNvSpPr/>
            <p:nvPr/>
          </p:nvSpPr>
          <p:spPr>
            <a:xfrm flipV="1" rot="16510200">
              <a:off x="6077520" y="305064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47"/>
            <p:cNvSpPr/>
            <p:nvPr/>
          </p:nvSpPr>
          <p:spPr>
            <a:xfrm flipV="1" rot="10530600">
              <a:off x="5923440" y="3081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8"/>
            <p:cNvSpPr/>
            <p:nvPr/>
          </p:nvSpPr>
          <p:spPr>
            <a:xfrm flipV="1" rot="5710200">
              <a:off x="6137280" y="315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9"/>
            <p:cNvSpPr/>
            <p:nvPr/>
          </p:nvSpPr>
          <p:spPr>
            <a:xfrm flipV="1" rot="5526600">
              <a:off x="5915520" y="28969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0"/>
            <p:cNvSpPr/>
            <p:nvPr/>
          </p:nvSpPr>
          <p:spPr>
            <a:xfrm flipV="1" rot="843000">
              <a:off x="5942160" y="28530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1"/>
            <p:cNvSpPr/>
            <p:nvPr/>
          </p:nvSpPr>
          <p:spPr>
            <a:xfrm flipV="1" rot="843000">
              <a:off x="6101640" y="30056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2"/>
            <p:cNvSpPr/>
            <p:nvPr/>
          </p:nvSpPr>
          <p:spPr>
            <a:xfrm flipV="1" rot="16463400">
              <a:off x="6117120" y="3031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3"/>
            <p:cNvSpPr/>
            <p:nvPr/>
          </p:nvSpPr>
          <p:spPr>
            <a:xfrm rot="4119000">
              <a:off x="6030000" y="3031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4"/>
            <p:cNvSpPr/>
            <p:nvPr/>
          </p:nvSpPr>
          <p:spPr>
            <a:xfrm flipV="1" rot="16510200">
              <a:off x="6091560" y="3156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5"/>
            <p:cNvSpPr/>
            <p:nvPr/>
          </p:nvSpPr>
          <p:spPr>
            <a:xfrm flipH="1" rot="16510200">
              <a:off x="6228720" y="2456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56"/>
            <p:cNvSpPr/>
            <p:nvPr/>
          </p:nvSpPr>
          <p:spPr>
            <a:xfrm flipH="1" rot="10530600">
              <a:off x="6220440" y="2383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57"/>
            <p:cNvSpPr/>
            <p:nvPr/>
          </p:nvSpPr>
          <p:spPr>
            <a:xfrm flipH="1" flipV="1" rot="2386200">
              <a:off x="6259680" y="2259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8"/>
            <p:cNvSpPr/>
            <p:nvPr/>
          </p:nvSpPr>
          <p:spPr>
            <a:xfrm flipH="1" flipV="1" rot="5775000">
              <a:off x="6338520" y="23601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9"/>
            <p:cNvSpPr/>
            <p:nvPr/>
          </p:nvSpPr>
          <p:spPr>
            <a:xfrm flipH="1" rot="11643000">
              <a:off x="6369120" y="22752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0"/>
            <p:cNvSpPr/>
            <p:nvPr/>
          </p:nvSpPr>
          <p:spPr>
            <a:xfrm flipH="1" rot="21330600">
              <a:off x="6120000" y="2483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1"/>
            <p:cNvSpPr/>
            <p:nvPr/>
          </p:nvSpPr>
          <p:spPr>
            <a:xfrm flipH="1" rot="5710200">
              <a:off x="6404760" y="2499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2"/>
            <p:cNvSpPr/>
            <p:nvPr/>
          </p:nvSpPr>
          <p:spPr>
            <a:xfrm flipH="1" rot="5710200">
              <a:off x="6117480" y="234144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3"/>
            <p:cNvSpPr/>
            <p:nvPr/>
          </p:nvSpPr>
          <p:spPr>
            <a:xfrm flipH="1" rot="5526600">
              <a:off x="6298560" y="24195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4"/>
            <p:cNvSpPr/>
            <p:nvPr/>
          </p:nvSpPr>
          <p:spPr>
            <a:xfrm flipH="1" rot="843000">
              <a:off x="6388920" y="24645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5"/>
            <p:cNvSpPr/>
            <p:nvPr/>
          </p:nvSpPr>
          <p:spPr>
            <a:xfrm flipH="1" rot="843000">
              <a:off x="6091200" y="2426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66"/>
            <p:cNvSpPr/>
            <p:nvPr/>
          </p:nvSpPr>
          <p:spPr>
            <a:xfrm flipH="1" rot="843000">
              <a:off x="6160320" y="2530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67"/>
            <p:cNvSpPr/>
            <p:nvPr/>
          </p:nvSpPr>
          <p:spPr>
            <a:xfrm flipH="1" rot="21422400">
              <a:off x="6307920" y="22978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8"/>
            <p:cNvSpPr/>
            <p:nvPr/>
          </p:nvSpPr>
          <p:spPr>
            <a:xfrm flipH="1" rot="13740000">
              <a:off x="6253920" y="23220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9"/>
            <p:cNvSpPr/>
            <p:nvPr/>
          </p:nvSpPr>
          <p:spPr>
            <a:xfrm flipH="1" flipV="1" rot="4119000">
              <a:off x="6219000" y="24609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0"/>
            <p:cNvSpPr/>
            <p:nvPr/>
          </p:nvSpPr>
          <p:spPr>
            <a:xfrm flipH="1" rot="843000">
              <a:off x="6059160" y="237528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1"/>
            <p:cNvSpPr/>
            <p:nvPr/>
          </p:nvSpPr>
          <p:spPr>
            <a:xfrm flipH="1" rot="10530600">
              <a:off x="6223320" y="228708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2"/>
            <p:cNvSpPr/>
            <p:nvPr/>
          </p:nvSpPr>
          <p:spPr>
            <a:xfrm flipH="1" rot="16510200">
              <a:off x="6244200" y="22428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3"/>
            <p:cNvSpPr/>
            <p:nvPr/>
          </p:nvSpPr>
          <p:spPr>
            <a:xfrm flipH="1" rot="16510200">
              <a:off x="6170760" y="23112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4"/>
            <p:cNvSpPr/>
            <p:nvPr/>
          </p:nvSpPr>
          <p:spPr>
            <a:xfrm flipH="1" rot="843000">
              <a:off x="6101640" y="2385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5"/>
            <p:cNvSpPr/>
            <p:nvPr/>
          </p:nvSpPr>
          <p:spPr>
            <a:xfrm flipV="1" rot="16510200">
              <a:off x="6315840" y="25632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76"/>
            <p:cNvSpPr/>
            <p:nvPr/>
          </p:nvSpPr>
          <p:spPr>
            <a:xfrm flipV="1" rot="10530600">
              <a:off x="6162480" y="2592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77"/>
            <p:cNvSpPr/>
            <p:nvPr/>
          </p:nvSpPr>
          <p:spPr>
            <a:xfrm flipV="1" rot="5710200">
              <a:off x="6375960" y="26636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8"/>
            <p:cNvSpPr/>
            <p:nvPr/>
          </p:nvSpPr>
          <p:spPr>
            <a:xfrm flipV="1" rot="5526600">
              <a:off x="6154560" y="240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9"/>
            <p:cNvSpPr/>
            <p:nvPr/>
          </p:nvSpPr>
          <p:spPr>
            <a:xfrm flipV="1" rot="843000">
              <a:off x="6180840" y="23644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0"/>
            <p:cNvSpPr/>
            <p:nvPr/>
          </p:nvSpPr>
          <p:spPr>
            <a:xfrm flipV="1" rot="843000">
              <a:off x="6339600" y="25171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1"/>
            <p:cNvSpPr/>
            <p:nvPr/>
          </p:nvSpPr>
          <p:spPr>
            <a:xfrm flipV="1" rot="16463400">
              <a:off x="6356520" y="2541960"/>
              <a:ext cx="10404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2"/>
            <p:cNvSpPr/>
            <p:nvPr/>
          </p:nvSpPr>
          <p:spPr>
            <a:xfrm rot="4119000">
              <a:off x="6268680" y="2543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3"/>
            <p:cNvSpPr/>
            <p:nvPr/>
          </p:nvSpPr>
          <p:spPr>
            <a:xfrm flipV="1" rot="16510200">
              <a:off x="6328800" y="2668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4"/>
            <p:cNvSpPr/>
            <p:nvPr/>
          </p:nvSpPr>
          <p:spPr>
            <a:xfrm flipH="1" rot="5710200">
              <a:off x="5974560" y="2562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5"/>
            <p:cNvSpPr/>
            <p:nvPr/>
          </p:nvSpPr>
          <p:spPr>
            <a:xfrm flipH="1" rot="21330600">
              <a:off x="5925600" y="26200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86"/>
            <p:cNvSpPr/>
            <p:nvPr/>
          </p:nvSpPr>
          <p:spPr>
            <a:xfrm flipH="1" flipV="1" rot="13186800">
              <a:off x="5887080" y="2655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87"/>
            <p:cNvSpPr/>
            <p:nvPr/>
          </p:nvSpPr>
          <p:spPr>
            <a:xfrm flipH="1" flipV="1" rot="16575000">
              <a:off x="5822640" y="25322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8"/>
            <p:cNvSpPr/>
            <p:nvPr/>
          </p:nvSpPr>
          <p:spPr>
            <a:xfrm flipH="1" rot="843000">
              <a:off x="5825880" y="27518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9"/>
            <p:cNvSpPr/>
            <p:nvPr/>
          </p:nvSpPr>
          <p:spPr>
            <a:xfrm flipH="1" rot="10530600">
              <a:off x="6025680" y="25203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0"/>
            <p:cNvSpPr/>
            <p:nvPr/>
          </p:nvSpPr>
          <p:spPr>
            <a:xfrm flipH="1" rot="16510200">
              <a:off x="5797800" y="2519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1"/>
            <p:cNvSpPr/>
            <p:nvPr/>
          </p:nvSpPr>
          <p:spPr>
            <a:xfrm flipH="1" rot="16510200">
              <a:off x="6085440" y="2677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2"/>
            <p:cNvSpPr/>
            <p:nvPr/>
          </p:nvSpPr>
          <p:spPr>
            <a:xfrm flipH="1" rot="16326600">
              <a:off x="5859360" y="2571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3"/>
            <p:cNvSpPr/>
            <p:nvPr/>
          </p:nvSpPr>
          <p:spPr>
            <a:xfrm flipH="1" rot="11643000">
              <a:off x="5784480" y="25592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4"/>
            <p:cNvSpPr/>
            <p:nvPr/>
          </p:nvSpPr>
          <p:spPr>
            <a:xfrm flipH="1" rot="11643000">
              <a:off x="6104520" y="2574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5"/>
            <p:cNvSpPr/>
            <p:nvPr/>
          </p:nvSpPr>
          <p:spPr>
            <a:xfrm flipH="1" rot="11643000">
              <a:off x="6033240" y="249696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96"/>
            <p:cNvSpPr/>
            <p:nvPr/>
          </p:nvSpPr>
          <p:spPr>
            <a:xfrm flipH="1" rot="10622400">
              <a:off x="5802120" y="262116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97"/>
            <p:cNvSpPr/>
            <p:nvPr/>
          </p:nvSpPr>
          <p:spPr>
            <a:xfrm flipH="1" rot="2940000">
              <a:off x="590580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8"/>
            <p:cNvSpPr/>
            <p:nvPr/>
          </p:nvSpPr>
          <p:spPr>
            <a:xfrm flipH="1" flipV="1" rot="14919000">
              <a:off x="5941080" y="24328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99"/>
            <p:cNvSpPr/>
            <p:nvPr/>
          </p:nvSpPr>
          <p:spPr>
            <a:xfrm flipH="1" rot="11643000">
              <a:off x="6134400" y="2651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0"/>
            <p:cNvSpPr/>
            <p:nvPr/>
          </p:nvSpPr>
          <p:spPr>
            <a:xfrm flipH="1" rot="21330600">
              <a:off x="5922720" y="2714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1"/>
            <p:cNvSpPr/>
            <p:nvPr/>
          </p:nvSpPr>
          <p:spPr>
            <a:xfrm flipH="1" rot="5710200">
              <a:off x="5959080" y="2776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2"/>
            <p:cNvSpPr/>
            <p:nvPr/>
          </p:nvSpPr>
          <p:spPr>
            <a:xfrm flipH="1" rot="5710200">
              <a:off x="6032160" y="27068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3"/>
            <p:cNvSpPr/>
            <p:nvPr/>
          </p:nvSpPr>
          <p:spPr>
            <a:xfrm flipH="1" rot="11643000">
              <a:off x="6094440" y="2615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4"/>
            <p:cNvSpPr/>
            <p:nvPr/>
          </p:nvSpPr>
          <p:spPr>
            <a:xfrm flipV="1" rot="5710200">
              <a:off x="5888520" y="2453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5"/>
            <p:cNvSpPr/>
            <p:nvPr/>
          </p:nvSpPr>
          <p:spPr>
            <a:xfrm flipV="1" rot="21330600">
              <a:off x="5985360" y="2409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6"/>
            <p:cNvSpPr/>
            <p:nvPr/>
          </p:nvSpPr>
          <p:spPr>
            <a:xfrm flipV="1" rot="16510200">
              <a:off x="5826600" y="2354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7"/>
            <p:cNvSpPr/>
            <p:nvPr/>
          </p:nvSpPr>
          <p:spPr>
            <a:xfrm flipV="1" rot="16326600">
              <a:off x="6003720" y="25826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8"/>
            <p:cNvSpPr/>
            <p:nvPr/>
          </p:nvSpPr>
          <p:spPr>
            <a:xfrm flipV="1" rot="11643000">
              <a:off x="5994000" y="265860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9"/>
            <p:cNvSpPr/>
            <p:nvPr/>
          </p:nvSpPr>
          <p:spPr>
            <a:xfrm flipV="1" rot="11643000">
              <a:off x="5854680" y="2509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0"/>
            <p:cNvSpPr/>
            <p:nvPr/>
          </p:nvSpPr>
          <p:spPr>
            <a:xfrm flipV="1" rot="5663400">
              <a:off x="5806800" y="24483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1"/>
            <p:cNvSpPr/>
            <p:nvPr/>
          </p:nvSpPr>
          <p:spPr>
            <a:xfrm rot="14919000">
              <a:off x="5893560" y="235080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2"/>
            <p:cNvSpPr/>
            <p:nvPr/>
          </p:nvSpPr>
          <p:spPr>
            <a:xfrm flipV="1" rot="5710200">
              <a:off x="5875200" y="234900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3"/>
            <p:cNvSpPr/>
            <p:nvPr/>
          </p:nvSpPr>
          <p:spPr>
            <a:xfrm flipH="1" rot="5710200">
              <a:off x="5978520" y="220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4"/>
            <p:cNvSpPr/>
            <p:nvPr/>
          </p:nvSpPr>
          <p:spPr>
            <a:xfrm flipH="1" rot="21330600">
              <a:off x="5929920" y="22654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5"/>
            <p:cNvSpPr/>
            <p:nvPr/>
          </p:nvSpPr>
          <p:spPr>
            <a:xfrm flipH="1" flipV="1" rot="13186800">
              <a:off x="5892120" y="23007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6"/>
            <p:cNvSpPr/>
            <p:nvPr/>
          </p:nvSpPr>
          <p:spPr>
            <a:xfrm flipH="1" flipV="1" rot="16575000">
              <a:off x="5827680" y="21776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7"/>
            <p:cNvSpPr/>
            <p:nvPr/>
          </p:nvSpPr>
          <p:spPr>
            <a:xfrm flipH="1" rot="843000">
              <a:off x="5830920" y="23972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18"/>
            <p:cNvSpPr/>
            <p:nvPr/>
          </p:nvSpPr>
          <p:spPr>
            <a:xfrm flipH="1" rot="10530600">
              <a:off x="6030720" y="21650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19"/>
            <p:cNvSpPr/>
            <p:nvPr/>
          </p:nvSpPr>
          <p:spPr>
            <a:xfrm flipH="1" rot="16510200">
              <a:off x="5802840" y="21643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0"/>
            <p:cNvSpPr/>
            <p:nvPr/>
          </p:nvSpPr>
          <p:spPr>
            <a:xfrm flipH="1" rot="16510200">
              <a:off x="6090480" y="2322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1"/>
            <p:cNvSpPr/>
            <p:nvPr/>
          </p:nvSpPr>
          <p:spPr>
            <a:xfrm flipH="1" rot="16326600">
              <a:off x="5864760" y="22165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2"/>
            <p:cNvSpPr/>
            <p:nvPr/>
          </p:nvSpPr>
          <p:spPr>
            <a:xfrm flipH="1" rot="11643000">
              <a:off x="5789160" y="2204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3"/>
            <p:cNvSpPr/>
            <p:nvPr/>
          </p:nvSpPr>
          <p:spPr>
            <a:xfrm flipH="1" rot="11643000">
              <a:off x="6109560" y="2219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4"/>
            <p:cNvSpPr/>
            <p:nvPr/>
          </p:nvSpPr>
          <p:spPr>
            <a:xfrm flipH="1" rot="11643000">
              <a:off x="6038280" y="2141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5"/>
            <p:cNvSpPr/>
            <p:nvPr/>
          </p:nvSpPr>
          <p:spPr>
            <a:xfrm flipH="1" rot="10622400">
              <a:off x="5806440" y="22662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6"/>
            <p:cNvSpPr/>
            <p:nvPr/>
          </p:nvSpPr>
          <p:spPr>
            <a:xfrm flipH="1" rot="2940000">
              <a:off x="5911920" y="228348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27"/>
            <p:cNvSpPr/>
            <p:nvPr/>
          </p:nvSpPr>
          <p:spPr>
            <a:xfrm flipH="1" flipV="1" rot="14919000">
              <a:off x="5946120" y="20779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8"/>
            <p:cNvSpPr/>
            <p:nvPr/>
          </p:nvSpPr>
          <p:spPr>
            <a:xfrm flipH="1" rot="11643000">
              <a:off x="6139440" y="2296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29"/>
            <p:cNvSpPr/>
            <p:nvPr/>
          </p:nvSpPr>
          <p:spPr>
            <a:xfrm flipH="1" rot="21330600">
              <a:off x="5928840" y="235980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0"/>
            <p:cNvSpPr/>
            <p:nvPr/>
          </p:nvSpPr>
          <p:spPr>
            <a:xfrm flipH="1" rot="5710200">
              <a:off x="5963400" y="2421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1"/>
            <p:cNvSpPr/>
            <p:nvPr/>
          </p:nvSpPr>
          <p:spPr>
            <a:xfrm flipH="1" rot="5710200">
              <a:off x="6037560" y="23515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2"/>
            <p:cNvSpPr/>
            <p:nvPr/>
          </p:nvSpPr>
          <p:spPr>
            <a:xfrm flipH="1" rot="11643000">
              <a:off x="6099120" y="22600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3"/>
            <p:cNvSpPr/>
            <p:nvPr/>
          </p:nvSpPr>
          <p:spPr>
            <a:xfrm flipV="1" rot="5710200">
              <a:off x="5892840" y="20988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4"/>
            <p:cNvSpPr/>
            <p:nvPr/>
          </p:nvSpPr>
          <p:spPr>
            <a:xfrm flipV="1" rot="21330600">
              <a:off x="5989680" y="20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5"/>
            <p:cNvSpPr/>
            <p:nvPr/>
          </p:nvSpPr>
          <p:spPr>
            <a:xfrm flipV="1" rot="16326600">
              <a:off x="6008760" y="222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6"/>
            <p:cNvSpPr/>
            <p:nvPr/>
          </p:nvSpPr>
          <p:spPr>
            <a:xfrm flipV="1" rot="11643000">
              <a:off x="5998680" y="23032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37"/>
            <p:cNvSpPr/>
            <p:nvPr/>
          </p:nvSpPr>
          <p:spPr>
            <a:xfrm flipV="1" rot="11643000">
              <a:off x="5859720" y="215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8"/>
            <p:cNvSpPr/>
            <p:nvPr/>
          </p:nvSpPr>
          <p:spPr>
            <a:xfrm flipV="1" rot="5663400">
              <a:off x="5811120" y="20937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9"/>
            <p:cNvSpPr/>
            <p:nvPr/>
          </p:nvSpPr>
          <p:spPr>
            <a:xfrm rot="14919000">
              <a:off x="5898600" y="1995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0"/>
            <p:cNvSpPr/>
            <p:nvPr/>
          </p:nvSpPr>
          <p:spPr>
            <a:xfrm flipH="1" rot="15930600">
              <a:off x="6241680" y="204624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1"/>
            <p:cNvSpPr/>
            <p:nvPr/>
          </p:nvSpPr>
          <p:spPr>
            <a:xfrm flipH="1" flipV="1" rot="7786200">
              <a:off x="6321240" y="20415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2"/>
            <p:cNvSpPr/>
            <p:nvPr/>
          </p:nvSpPr>
          <p:spPr>
            <a:xfrm flipH="1" flipV="1" rot="11175000">
              <a:off x="6217200" y="210276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3"/>
            <p:cNvSpPr/>
            <p:nvPr/>
          </p:nvSpPr>
          <p:spPr>
            <a:xfrm flipH="1" rot="17043000">
              <a:off x="6386760" y="21816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4"/>
            <p:cNvSpPr/>
            <p:nvPr/>
          </p:nvSpPr>
          <p:spPr>
            <a:xfrm flipH="1" rot="11110200">
              <a:off x="6159600" y="221004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5"/>
            <p:cNvSpPr/>
            <p:nvPr/>
          </p:nvSpPr>
          <p:spPr>
            <a:xfrm flipH="1" rot="10926600">
              <a:off x="6203160" y="211212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6"/>
            <p:cNvSpPr/>
            <p:nvPr/>
          </p:nvSpPr>
          <p:spPr>
            <a:xfrm flipH="1" rot="6243000">
              <a:off x="6183720" y="2211480"/>
              <a:ext cx="9144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7"/>
            <p:cNvSpPr/>
            <p:nvPr/>
          </p:nvSpPr>
          <p:spPr>
            <a:xfrm flipH="1" rot="5222400">
              <a:off x="6266520" y="2108160"/>
              <a:ext cx="154440" cy="1728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48"/>
            <p:cNvSpPr/>
            <p:nvPr/>
          </p:nvSpPr>
          <p:spPr>
            <a:xfrm flipH="1" rot="19140000">
              <a:off x="6287400" y="2052000"/>
              <a:ext cx="10656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9"/>
            <p:cNvSpPr/>
            <p:nvPr/>
          </p:nvSpPr>
          <p:spPr>
            <a:xfrm flipH="1" flipV="1" rot="9519000">
              <a:off x="6114600" y="19839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0"/>
            <p:cNvSpPr/>
            <p:nvPr/>
          </p:nvSpPr>
          <p:spPr>
            <a:xfrm flipH="1" rot="15930600">
              <a:off x="6337080" y="2048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1"/>
            <p:cNvSpPr/>
            <p:nvPr/>
          </p:nvSpPr>
          <p:spPr>
            <a:xfrm flipH="1" rot="310200">
              <a:off x="6417720" y="204948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2"/>
            <p:cNvSpPr/>
            <p:nvPr/>
          </p:nvSpPr>
          <p:spPr>
            <a:xfrm flipV="1" rot="310200">
              <a:off x="6095520" y="211896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3"/>
            <p:cNvSpPr/>
            <p:nvPr/>
          </p:nvSpPr>
          <p:spPr>
            <a:xfrm flipV="1" rot="11110200">
              <a:off x="5994000" y="218088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4"/>
            <p:cNvSpPr/>
            <p:nvPr/>
          </p:nvSpPr>
          <p:spPr>
            <a:xfrm flipV="1" rot="6243000">
              <a:off x="6143040" y="215172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5"/>
            <p:cNvSpPr/>
            <p:nvPr/>
          </p:nvSpPr>
          <p:spPr>
            <a:xfrm flipV="1" rot="262800">
              <a:off x="6081840" y="216720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56"/>
            <p:cNvSpPr/>
            <p:nvPr/>
          </p:nvSpPr>
          <p:spPr>
            <a:xfrm rot="9519000">
              <a:off x="6032520" y="20325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57"/>
            <p:cNvSpPr/>
            <p:nvPr/>
          </p:nvSpPr>
          <p:spPr>
            <a:xfrm flipV="1" rot="310200">
              <a:off x="5988960" y="213228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58"/>
            <p:cNvSpPr/>
            <p:nvPr/>
          </p:nvSpPr>
          <p:spPr>
            <a:xfrm flipH="1" flipV="1" rot="4119000">
              <a:off x="5940360" y="2351520"/>
              <a:ext cx="253080" cy="46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59"/>
            <p:cNvSpPr/>
            <p:nvPr/>
          </p:nvSpPr>
          <p:spPr>
            <a:xfrm flipV="1" rot="16510200">
              <a:off x="6219360" y="261144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0"/>
            <p:cNvSpPr/>
            <p:nvPr/>
          </p:nvSpPr>
          <p:spPr>
            <a:xfrm flipV="1" rot="5710200">
              <a:off x="6121080" y="216684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1"/>
            <p:cNvSpPr/>
            <p:nvPr/>
          </p:nvSpPr>
          <p:spPr>
            <a:xfrm flipV="1" rot="10530600">
              <a:off x="5763600" y="2731680"/>
              <a:ext cx="28260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2"/>
            <p:cNvSpPr/>
            <p:nvPr/>
          </p:nvSpPr>
          <p:spPr>
            <a:xfrm rot="5089800">
              <a:off x="5455080" y="366588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3"/>
            <p:cNvSpPr/>
            <p:nvPr/>
          </p:nvSpPr>
          <p:spPr>
            <a:xfrm rot="5089800">
              <a:off x="6190920" y="3462120"/>
              <a:ext cx="1526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4"/>
            <p:cNvSpPr/>
            <p:nvPr/>
          </p:nvSpPr>
          <p:spPr>
            <a:xfrm flipV="1" rot="15825000">
              <a:off x="5408280" y="354240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5"/>
            <p:cNvSpPr/>
            <p:nvPr/>
          </p:nvSpPr>
          <p:spPr>
            <a:xfrm rot="20757000">
              <a:off x="5761440" y="37674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6"/>
            <p:cNvSpPr/>
            <p:nvPr/>
          </p:nvSpPr>
          <p:spPr>
            <a:xfrm rot="10977600">
              <a:off x="6263280" y="316656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7"/>
            <p:cNvSpPr/>
            <p:nvPr/>
          </p:nvSpPr>
          <p:spPr>
            <a:xfrm flipV="1" rot="6681000">
              <a:off x="5492880" y="36277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68"/>
            <p:cNvSpPr/>
            <p:nvPr/>
          </p:nvSpPr>
          <p:spPr>
            <a:xfrm rot="17121600">
              <a:off x="5522400" y="302364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69"/>
            <p:cNvSpPr/>
            <p:nvPr/>
          </p:nvSpPr>
          <p:spPr>
            <a:xfrm rot="8418000">
              <a:off x="5437800" y="304956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0"/>
            <p:cNvSpPr/>
            <p:nvPr/>
          </p:nvSpPr>
          <p:spPr>
            <a:xfrm rot="20331000">
              <a:off x="5749920" y="30740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1"/>
            <p:cNvSpPr/>
            <p:nvPr/>
          </p:nvSpPr>
          <p:spPr>
            <a:xfrm rot="14351400">
              <a:off x="5587560" y="305388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2"/>
            <p:cNvSpPr/>
            <p:nvPr/>
          </p:nvSpPr>
          <p:spPr>
            <a:xfrm flipH="1" flipV="1" rot="8418000">
              <a:off x="5693400" y="2941920"/>
              <a:ext cx="21744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3"/>
            <p:cNvSpPr/>
            <p:nvPr/>
          </p:nvSpPr>
          <p:spPr>
            <a:xfrm rot="14351400">
              <a:off x="5865480" y="335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4"/>
            <p:cNvSpPr/>
            <p:nvPr/>
          </p:nvSpPr>
          <p:spPr>
            <a:xfrm rot="20331000">
              <a:off x="5884560" y="3396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5"/>
            <p:cNvSpPr/>
            <p:nvPr/>
          </p:nvSpPr>
          <p:spPr>
            <a:xfrm flipV="1" rot="3486600">
              <a:off x="5978520" y="32630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6"/>
            <p:cNvSpPr/>
            <p:nvPr/>
          </p:nvSpPr>
          <p:spPr>
            <a:xfrm rot="9531000">
              <a:off x="5750640" y="3347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77"/>
            <p:cNvSpPr/>
            <p:nvPr/>
          </p:nvSpPr>
          <p:spPr>
            <a:xfrm rot="3551400">
              <a:off x="6005160" y="32374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78"/>
            <p:cNvSpPr/>
            <p:nvPr/>
          </p:nvSpPr>
          <p:spPr>
            <a:xfrm rot="3735000">
              <a:off x="5936400" y="33195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79"/>
            <p:cNvSpPr/>
            <p:nvPr/>
          </p:nvSpPr>
          <p:spPr>
            <a:xfrm rot="8418000">
              <a:off x="6006960" y="32749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0"/>
            <p:cNvSpPr/>
            <p:nvPr/>
          </p:nvSpPr>
          <p:spPr>
            <a:xfrm rot="8418000">
              <a:off x="5749920" y="3420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1"/>
            <p:cNvSpPr/>
            <p:nvPr/>
          </p:nvSpPr>
          <p:spPr>
            <a:xfrm rot="8418000">
              <a:off x="5772600" y="3320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2"/>
            <p:cNvSpPr/>
            <p:nvPr/>
          </p:nvSpPr>
          <p:spPr>
            <a:xfrm flipV="1" rot="5142600">
              <a:off x="5827320" y="3224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3"/>
            <p:cNvSpPr/>
            <p:nvPr/>
          </p:nvSpPr>
          <p:spPr>
            <a:xfrm rot="8418000">
              <a:off x="5748840" y="350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4"/>
            <p:cNvSpPr/>
            <p:nvPr/>
          </p:nvSpPr>
          <p:spPr>
            <a:xfrm rot="8418000">
              <a:off x="5777280" y="3452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5"/>
            <p:cNvSpPr/>
            <p:nvPr/>
          </p:nvSpPr>
          <p:spPr>
            <a:xfrm flipH="1" flipV="1" rot="14351400">
              <a:off x="5895720" y="321768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6"/>
            <p:cNvSpPr/>
            <p:nvPr/>
          </p:nvSpPr>
          <p:spPr>
            <a:xfrm flipH="1" flipV="1" rot="20331000">
              <a:off x="5739840" y="323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7"/>
            <p:cNvSpPr/>
            <p:nvPr/>
          </p:nvSpPr>
          <p:spPr>
            <a:xfrm flipH="1" flipV="1" rot="3551400">
              <a:off x="5907960" y="31017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8"/>
            <p:cNvSpPr/>
            <p:nvPr/>
          </p:nvSpPr>
          <p:spPr>
            <a:xfrm flipH="1" flipV="1" rot="3735000">
              <a:off x="5811120" y="3392280"/>
              <a:ext cx="108000" cy="99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9"/>
            <p:cNvSpPr/>
            <p:nvPr/>
          </p:nvSpPr>
          <p:spPr>
            <a:xfrm flipH="1" flipV="1" rot="8418000">
              <a:off x="5940360" y="32544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0"/>
            <p:cNvSpPr/>
            <p:nvPr/>
          </p:nvSpPr>
          <p:spPr>
            <a:xfrm flipH="1" flipV="1" rot="14397600">
              <a:off x="5934600" y="3184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91"/>
            <p:cNvSpPr/>
            <p:nvPr/>
          </p:nvSpPr>
          <p:spPr>
            <a:xfrm flipH="1" rot="5142600">
              <a:off x="5834520" y="313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92"/>
            <p:cNvSpPr/>
            <p:nvPr/>
          </p:nvSpPr>
          <p:spPr>
            <a:xfrm flipH="1" flipV="1" rot="14351400">
              <a:off x="5863320" y="31161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93"/>
            <p:cNvSpPr/>
            <p:nvPr/>
          </p:nvSpPr>
          <p:spPr>
            <a:xfrm rot="14351400">
              <a:off x="5589720" y="33577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94"/>
            <p:cNvSpPr/>
            <p:nvPr/>
          </p:nvSpPr>
          <p:spPr>
            <a:xfrm rot="20331000">
              <a:off x="5608080" y="3400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95"/>
            <p:cNvSpPr/>
            <p:nvPr/>
          </p:nvSpPr>
          <p:spPr>
            <a:xfrm flipV="1" rot="6875400">
              <a:off x="5677560" y="34113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6"/>
            <p:cNvSpPr/>
            <p:nvPr/>
          </p:nvSpPr>
          <p:spPr>
            <a:xfrm flipV="1" rot="3486600">
              <a:off x="5702400" y="32684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97"/>
            <p:cNvSpPr/>
            <p:nvPr/>
          </p:nvSpPr>
          <p:spPr>
            <a:xfrm rot="19218000">
              <a:off x="5796360" y="346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98"/>
            <p:cNvSpPr/>
            <p:nvPr/>
          </p:nvSpPr>
          <p:spPr>
            <a:xfrm rot="9531000">
              <a:off x="5474520" y="3352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99"/>
            <p:cNvSpPr/>
            <p:nvPr/>
          </p:nvSpPr>
          <p:spPr>
            <a:xfrm rot="3551400">
              <a:off x="5728680" y="32425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00"/>
            <p:cNvSpPr/>
            <p:nvPr/>
          </p:nvSpPr>
          <p:spPr>
            <a:xfrm rot="3551400">
              <a:off x="5539320" y="350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01"/>
            <p:cNvSpPr/>
            <p:nvPr/>
          </p:nvSpPr>
          <p:spPr>
            <a:xfrm rot="3735000">
              <a:off x="5659560" y="33249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02"/>
            <p:cNvSpPr/>
            <p:nvPr/>
          </p:nvSpPr>
          <p:spPr>
            <a:xfrm rot="8418000">
              <a:off x="5730120" y="327960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03"/>
            <p:cNvSpPr/>
            <p:nvPr/>
          </p:nvSpPr>
          <p:spPr>
            <a:xfrm rot="8418000">
              <a:off x="5473800" y="3425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04"/>
            <p:cNvSpPr/>
            <p:nvPr/>
          </p:nvSpPr>
          <p:spPr>
            <a:xfrm rot="8418000">
              <a:off x="5496480" y="33253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05"/>
            <p:cNvSpPr/>
            <p:nvPr/>
          </p:nvSpPr>
          <p:spPr>
            <a:xfrm rot="9439200">
              <a:off x="5703840" y="3351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06"/>
            <p:cNvSpPr/>
            <p:nvPr/>
          </p:nvSpPr>
          <p:spPr>
            <a:xfrm rot="17121600">
              <a:off x="5655600" y="340344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07"/>
            <p:cNvSpPr/>
            <p:nvPr/>
          </p:nvSpPr>
          <p:spPr>
            <a:xfrm flipV="1" rot="5142600">
              <a:off x="5551200" y="3228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8"/>
            <p:cNvSpPr/>
            <p:nvPr/>
          </p:nvSpPr>
          <p:spPr>
            <a:xfrm rot="8418000">
              <a:off x="5472720" y="3509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09"/>
            <p:cNvSpPr/>
            <p:nvPr/>
          </p:nvSpPr>
          <p:spPr>
            <a:xfrm rot="20331000">
              <a:off x="5650560" y="3484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10"/>
            <p:cNvSpPr/>
            <p:nvPr/>
          </p:nvSpPr>
          <p:spPr>
            <a:xfrm rot="14351400">
              <a:off x="5600160" y="35121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11"/>
            <p:cNvSpPr/>
            <p:nvPr/>
          </p:nvSpPr>
          <p:spPr>
            <a:xfrm rot="8418000">
              <a:off x="5501160" y="3457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2"/>
            <p:cNvSpPr/>
            <p:nvPr/>
          </p:nvSpPr>
          <p:spPr>
            <a:xfrm flipH="1" flipV="1" rot="14351400">
              <a:off x="5619600" y="322308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13"/>
            <p:cNvSpPr/>
            <p:nvPr/>
          </p:nvSpPr>
          <p:spPr>
            <a:xfrm flipH="1" flipV="1" rot="20331000">
              <a:off x="5463720" y="323640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14"/>
            <p:cNvSpPr/>
            <p:nvPr/>
          </p:nvSpPr>
          <p:spPr>
            <a:xfrm flipH="1" flipV="1" rot="3551400">
              <a:off x="5631120" y="31068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15"/>
            <p:cNvSpPr/>
            <p:nvPr/>
          </p:nvSpPr>
          <p:spPr>
            <a:xfrm flipH="1" flipV="1" rot="3735000">
              <a:off x="5534640" y="33976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16"/>
            <p:cNvSpPr/>
            <p:nvPr/>
          </p:nvSpPr>
          <p:spPr>
            <a:xfrm flipH="1" flipV="1" rot="8418000">
              <a:off x="5585040" y="34581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17"/>
            <p:cNvSpPr/>
            <p:nvPr/>
          </p:nvSpPr>
          <p:spPr>
            <a:xfrm flipH="1" flipV="1" rot="8418000">
              <a:off x="5663880" y="32594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18"/>
            <p:cNvSpPr/>
            <p:nvPr/>
          </p:nvSpPr>
          <p:spPr>
            <a:xfrm flipH="1" flipV="1" rot="14397600">
              <a:off x="5658120" y="318960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419"/>
            <p:cNvSpPr/>
            <p:nvPr/>
          </p:nvSpPr>
          <p:spPr>
            <a:xfrm flipH="1" rot="5142600">
              <a:off x="5558760" y="31348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20"/>
            <p:cNvSpPr/>
            <p:nvPr/>
          </p:nvSpPr>
          <p:spPr>
            <a:xfrm flipH="1" flipV="1" rot="14351400">
              <a:off x="5586480" y="312120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21"/>
            <p:cNvSpPr/>
            <p:nvPr/>
          </p:nvSpPr>
          <p:spPr>
            <a:xfrm rot="8418000">
              <a:off x="5525280" y="360792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22"/>
            <p:cNvSpPr/>
            <p:nvPr/>
          </p:nvSpPr>
          <p:spPr>
            <a:xfrm rot="3551400">
              <a:off x="5635080" y="3523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23"/>
            <p:cNvSpPr/>
            <p:nvPr/>
          </p:nvSpPr>
          <p:spPr>
            <a:xfrm rot="21289800">
              <a:off x="6365880" y="326772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24"/>
            <p:cNvSpPr/>
            <p:nvPr/>
          </p:nvSpPr>
          <p:spPr>
            <a:xfrm flipV="1" rot="4644000">
              <a:off x="5348880" y="364248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25"/>
            <p:cNvSpPr/>
            <p:nvPr/>
          </p:nvSpPr>
          <p:spPr>
            <a:xfrm flipH="1" flipV="1" rot="11069400">
              <a:off x="5343480" y="377568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6"/>
            <p:cNvSpPr/>
            <p:nvPr/>
          </p:nvSpPr>
          <p:spPr>
            <a:xfrm rot="3136200">
              <a:off x="6299640" y="3375000"/>
              <a:ext cx="17028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27"/>
            <p:cNvSpPr/>
            <p:nvPr/>
          </p:nvSpPr>
          <p:spPr>
            <a:xfrm flipV="1" rot="1593600">
              <a:off x="5536800" y="353592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28"/>
            <p:cNvSpPr/>
            <p:nvPr/>
          </p:nvSpPr>
          <p:spPr>
            <a:xfrm rot="13936200">
              <a:off x="5562720" y="34974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29"/>
            <p:cNvSpPr/>
            <p:nvPr/>
          </p:nvSpPr>
          <p:spPr>
            <a:xfrm rot="19869000">
              <a:off x="5604840" y="37548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30"/>
            <p:cNvSpPr/>
            <p:nvPr/>
          </p:nvSpPr>
          <p:spPr>
            <a:xfrm rot="4158000">
              <a:off x="5458320" y="349200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1"/>
            <p:cNvSpPr/>
            <p:nvPr/>
          </p:nvSpPr>
          <p:spPr>
            <a:xfrm rot="11839200">
              <a:off x="5511240" y="35859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32"/>
            <p:cNvSpPr/>
            <p:nvPr/>
          </p:nvSpPr>
          <p:spPr>
            <a:xfrm rot="15048600">
              <a:off x="5565240" y="3605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33"/>
            <p:cNvSpPr/>
            <p:nvPr/>
          </p:nvSpPr>
          <p:spPr>
            <a:xfrm rot="9069000">
              <a:off x="5644800" y="360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34"/>
            <p:cNvSpPr/>
            <p:nvPr/>
          </p:nvSpPr>
          <p:spPr>
            <a:xfrm rot="9069000">
              <a:off x="5609520" y="36943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35"/>
            <p:cNvSpPr/>
            <p:nvPr/>
          </p:nvSpPr>
          <p:spPr>
            <a:xfrm flipH="1" flipV="1" rot="3136200">
              <a:off x="5538960" y="36957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36"/>
            <p:cNvSpPr/>
            <p:nvPr/>
          </p:nvSpPr>
          <p:spPr>
            <a:xfrm rot="9069000">
              <a:off x="5803560" y="356112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37"/>
            <p:cNvSpPr/>
            <p:nvPr/>
          </p:nvSpPr>
          <p:spPr>
            <a:xfrm rot="15048600">
              <a:off x="5828400" y="35085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8"/>
            <p:cNvSpPr/>
            <p:nvPr/>
          </p:nvSpPr>
          <p:spPr>
            <a:xfrm flipV="1" rot="1593600">
              <a:off x="5886360" y="339768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39"/>
            <p:cNvSpPr/>
            <p:nvPr/>
          </p:nvSpPr>
          <p:spPr>
            <a:xfrm rot="13936200">
              <a:off x="5911920" y="335844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0"/>
            <p:cNvSpPr/>
            <p:nvPr/>
          </p:nvSpPr>
          <p:spPr>
            <a:xfrm rot="4248600">
              <a:off x="5775840" y="36406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1"/>
            <p:cNvSpPr/>
            <p:nvPr/>
          </p:nvSpPr>
          <p:spPr>
            <a:xfrm rot="19869000">
              <a:off x="5692320" y="341856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2"/>
            <p:cNvSpPr/>
            <p:nvPr/>
          </p:nvSpPr>
          <p:spPr>
            <a:xfrm rot="19869000">
              <a:off x="5955120" y="36165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3"/>
            <p:cNvSpPr/>
            <p:nvPr/>
          </p:nvSpPr>
          <p:spPr>
            <a:xfrm rot="20052600">
              <a:off x="5765400" y="345528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4"/>
            <p:cNvSpPr/>
            <p:nvPr/>
          </p:nvSpPr>
          <p:spPr>
            <a:xfrm rot="3136200">
              <a:off x="5873760" y="36658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45"/>
            <p:cNvSpPr/>
            <p:nvPr/>
          </p:nvSpPr>
          <p:spPr>
            <a:xfrm rot="3136200">
              <a:off x="5760360" y="365220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6"/>
            <p:cNvSpPr/>
            <p:nvPr/>
          </p:nvSpPr>
          <p:spPr>
            <a:xfrm rot="4158000">
              <a:off x="5807880" y="3353040"/>
              <a:ext cx="15444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47"/>
            <p:cNvSpPr/>
            <p:nvPr/>
          </p:nvSpPr>
          <p:spPr>
            <a:xfrm rot="11839200">
              <a:off x="5860800" y="344772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8"/>
            <p:cNvSpPr/>
            <p:nvPr/>
          </p:nvSpPr>
          <p:spPr>
            <a:xfrm flipV="1" rot="21460200">
              <a:off x="5716800" y="35143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49"/>
            <p:cNvSpPr/>
            <p:nvPr/>
          </p:nvSpPr>
          <p:spPr>
            <a:xfrm rot="15048600">
              <a:off x="5914800" y="346752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50"/>
            <p:cNvSpPr/>
            <p:nvPr/>
          </p:nvSpPr>
          <p:spPr>
            <a:xfrm rot="9069000">
              <a:off x="5994000" y="34617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1"/>
            <p:cNvSpPr/>
            <p:nvPr/>
          </p:nvSpPr>
          <p:spPr>
            <a:xfrm rot="9069000">
              <a:off x="5959440" y="3555720"/>
              <a:ext cx="6408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52"/>
            <p:cNvSpPr/>
            <p:nvPr/>
          </p:nvSpPr>
          <p:spPr>
            <a:xfrm rot="3136200">
              <a:off x="5907240" y="3640320"/>
              <a:ext cx="69120" cy="90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53"/>
            <p:cNvSpPr/>
            <p:nvPr/>
          </p:nvSpPr>
          <p:spPr>
            <a:xfrm flipH="1" flipV="1" rot="9069000">
              <a:off x="5668200" y="35251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54"/>
            <p:cNvSpPr/>
            <p:nvPr/>
          </p:nvSpPr>
          <p:spPr>
            <a:xfrm flipH="1" flipV="1" rot="15048600">
              <a:off x="5658480" y="364572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5"/>
            <p:cNvSpPr/>
            <p:nvPr/>
          </p:nvSpPr>
          <p:spPr>
            <a:xfrm flipH="1" flipV="1" rot="19869000">
              <a:off x="5551560" y="351108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56"/>
            <p:cNvSpPr/>
            <p:nvPr/>
          </p:nvSpPr>
          <p:spPr>
            <a:xfrm flipH="1" flipV="1" rot="20052600">
              <a:off x="5833440" y="358164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7"/>
            <p:cNvSpPr/>
            <p:nvPr/>
          </p:nvSpPr>
          <p:spPr>
            <a:xfrm flipH="1" flipV="1" rot="3136200">
              <a:off x="5888520" y="35571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58"/>
            <p:cNvSpPr/>
            <p:nvPr/>
          </p:nvSpPr>
          <p:spPr>
            <a:xfrm flipH="1" flipV="1" rot="3136200">
              <a:off x="5701680" y="34837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9"/>
            <p:cNvSpPr/>
            <p:nvPr/>
          </p:nvSpPr>
          <p:spPr>
            <a:xfrm flipH="1" flipV="1" rot="9115800">
              <a:off x="5630040" y="3453840"/>
              <a:ext cx="1047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0"/>
            <p:cNvSpPr/>
            <p:nvPr/>
          </p:nvSpPr>
          <p:spPr>
            <a:xfrm flipH="1" rot="21460200">
              <a:off x="5621400" y="35035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61"/>
            <p:cNvSpPr/>
            <p:nvPr/>
          </p:nvSpPr>
          <p:spPr>
            <a:xfrm flipH="1" flipV="1" rot="9069000">
              <a:off x="5567760" y="35557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62"/>
            <p:cNvSpPr/>
            <p:nvPr/>
          </p:nvSpPr>
          <p:spPr>
            <a:xfrm rot="9069000">
              <a:off x="5657760" y="378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3"/>
            <p:cNvSpPr/>
            <p:nvPr/>
          </p:nvSpPr>
          <p:spPr>
            <a:xfrm rot="13936200">
              <a:off x="5732280" y="37126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4"/>
            <p:cNvSpPr/>
            <p:nvPr/>
          </p:nvSpPr>
          <p:spPr>
            <a:xfrm rot="13936200">
              <a:off x="5659200" y="37231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65"/>
            <p:cNvSpPr/>
            <p:nvPr/>
          </p:nvSpPr>
          <p:spPr>
            <a:xfrm rot="13936200">
              <a:off x="5699160" y="373824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66"/>
            <p:cNvSpPr/>
            <p:nvPr/>
          </p:nvSpPr>
          <p:spPr>
            <a:xfrm rot="9069000">
              <a:off x="5983200" y="36342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67"/>
            <p:cNvSpPr/>
            <p:nvPr/>
          </p:nvSpPr>
          <p:spPr>
            <a:xfrm rot="13936200">
              <a:off x="6057720" y="35658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68"/>
            <p:cNvSpPr/>
            <p:nvPr/>
          </p:nvSpPr>
          <p:spPr>
            <a:xfrm rot="13936200">
              <a:off x="5984640" y="357624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69"/>
            <p:cNvSpPr/>
            <p:nvPr/>
          </p:nvSpPr>
          <p:spPr>
            <a:xfrm rot="13936200">
              <a:off x="6023880" y="35910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70"/>
            <p:cNvSpPr/>
            <p:nvPr/>
          </p:nvSpPr>
          <p:spPr>
            <a:xfrm rot="3669000">
              <a:off x="6202080" y="3414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1"/>
            <p:cNvSpPr/>
            <p:nvPr/>
          </p:nvSpPr>
          <p:spPr>
            <a:xfrm rot="9648600">
              <a:off x="6130080" y="3355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72"/>
            <p:cNvSpPr/>
            <p:nvPr/>
          </p:nvSpPr>
          <p:spPr>
            <a:xfrm flipV="1" rot="17793600">
              <a:off x="6062400" y="325368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73"/>
            <p:cNvSpPr/>
            <p:nvPr/>
          </p:nvSpPr>
          <p:spPr>
            <a:xfrm flipV="1" rot="14404200">
              <a:off x="6048720" y="337284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74"/>
            <p:cNvSpPr/>
            <p:nvPr/>
          </p:nvSpPr>
          <p:spPr>
            <a:xfrm rot="8536200">
              <a:off x="5990040" y="33062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75"/>
            <p:cNvSpPr/>
            <p:nvPr/>
          </p:nvSpPr>
          <p:spPr>
            <a:xfrm rot="20448600">
              <a:off x="6262560" y="3408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6"/>
            <p:cNvSpPr/>
            <p:nvPr/>
          </p:nvSpPr>
          <p:spPr>
            <a:xfrm rot="14469000">
              <a:off x="6059160" y="3525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77"/>
            <p:cNvSpPr/>
            <p:nvPr/>
          </p:nvSpPr>
          <p:spPr>
            <a:xfrm rot="14469000">
              <a:off x="6258600" y="32655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78"/>
            <p:cNvSpPr/>
            <p:nvPr/>
          </p:nvSpPr>
          <p:spPr>
            <a:xfrm rot="14652600">
              <a:off x="6087240" y="3417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79"/>
            <p:cNvSpPr/>
            <p:nvPr/>
          </p:nvSpPr>
          <p:spPr>
            <a:xfrm rot="19336800">
              <a:off x="6030000" y="34934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80"/>
            <p:cNvSpPr/>
            <p:nvPr/>
          </p:nvSpPr>
          <p:spPr>
            <a:xfrm rot="19336800">
              <a:off x="6313320" y="33339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81"/>
            <p:cNvSpPr/>
            <p:nvPr/>
          </p:nvSpPr>
          <p:spPr>
            <a:xfrm rot="19336800">
              <a:off x="6286320" y="34574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82"/>
            <p:cNvSpPr/>
            <p:nvPr/>
          </p:nvSpPr>
          <p:spPr>
            <a:xfrm rot="20357400">
              <a:off x="5998680" y="3315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83"/>
            <p:cNvSpPr/>
            <p:nvPr/>
          </p:nvSpPr>
          <p:spPr>
            <a:xfrm rot="6439200">
              <a:off x="6096240" y="33084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84"/>
            <p:cNvSpPr/>
            <p:nvPr/>
          </p:nvSpPr>
          <p:spPr>
            <a:xfrm flipV="1" rot="16060200">
              <a:off x="6197760" y="3418200"/>
              <a:ext cx="104400" cy="19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85"/>
            <p:cNvSpPr/>
            <p:nvPr/>
          </p:nvSpPr>
          <p:spPr>
            <a:xfrm rot="19336800">
              <a:off x="6316560" y="32749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86"/>
            <p:cNvSpPr/>
            <p:nvPr/>
          </p:nvSpPr>
          <p:spPr>
            <a:xfrm rot="9648600">
              <a:off x="6088320" y="3268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87"/>
            <p:cNvSpPr/>
            <p:nvPr/>
          </p:nvSpPr>
          <p:spPr>
            <a:xfrm rot="3669000">
              <a:off x="6197040" y="325944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88"/>
            <p:cNvSpPr/>
            <p:nvPr/>
          </p:nvSpPr>
          <p:spPr>
            <a:xfrm rot="19336800">
              <a:off x="6288120" y="33008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89"/>
            <p:cNvSpPr/>
            <p:nvPr/>
          </p:nvSpPr>
          <p:spPr>
            <a:xfrm flipH="1" flipV="1" rot="3669000">
              <a:off x="6166080" y="35470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90"/>
            <p:cNvSpPr/>
            <p:nvPr/>
          </p:nvSpPr>
          <p:spPr>
            <a:xfrm flipH="1" flipV="1" rot="14652600">
              <a:off x="6213600" y="33490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91"/>
            <p:cNvSpPr/>
            <p:nvPr/>
          </p:nvSpPr>
          <p:spPr>
            <a:xfrm flipH="1" flipV="1" rot="19336800">
              <a:off x="6180120" y="331776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92"/>
            <p:cNvSpPr/>
            <p:nvPr/>
          </p:nvSpPr>
          <p:spPr>
            <a:xfrm flipH="1" flipV="1" rot="19336800">
              <a:off x="6115680" y="35157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3"/>
            <p:cNvSpPr/>
            <p:nvPr/>
          </p:nvSpPr>
          <p:spPr>
            <a:xfrm flipH="1" flipV="1" rot="3715800">
              <a:off x="6087240" y="3552120"/>
              <a:ext cx="1040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94"/>
            <p:cNvSpPr/>
            <p:nvPr/>
          </p:nvSpPr>
          <p:spPr>
            <a:xfrm flipH="1" flipV="1" rot="9069000">
              <a:off x="5554800" y="3560400"/>
              <a:ext cx="1544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5"/>
            <p:cNvSpPr/>
            <p:nvPr/>
          </p:nvSpPr>
          <p:spPr>
            <a:xfrm flipH="1" flipV="1" rot="19869000">
              <a:off x="6003360" y="3472920"/>
              <a:ext cx="154440" cy="169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96"/>
            <p:cNvSpPr/>
            <p:nvPr/>
          </p:nvSpPr>
          <p:spPr>
            <a:xfrm rot="13936200">
              <a:off x="6166080" y="3199680"/>
              <a:ext cx="170280" cy="155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497"/>
            <p:cNvSpPr/>
            <p:nvPr/>
          </p:nvSpPr>
          <p:spPr>
            <a:xfrm flipH="1" rot="19523400">
              <a:off x="4802400" y="3959640"/>
              <a:ext cx="233640" cy="101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498"/>
            <p:cNvSpPr/>
            <p:nvPr/>
          </p:nvSpPr>
          <p:spPr>
            <a:xfrm flipH="1" rot="19523400">
              <a:off x="4845600" y="3985560"/>
              <a:ext cx="14724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499"/>
            <p:cNvSpPr/>
            <p:nvPr/>
          </p:nvSpPr>
          <p:spPr>
            <a:xfrm flipH="1" rot="19523400">
              <a:off x="4685760" y="4071240"/>
              <a:ext cx="23364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500"/>
            <p:cNvSpPr/>
            <p:nvPr/>
          </p:nvSpPr>
          <p:spPr>
            <a:xfrm flipH="1" rot="18672000">
              <a:off x="5007240" y="37587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501"/>
            <p:cNvSpPr/>
            <p:nvPr/>
          </p:nvSpPr>
          <p:spPr>
            <a:xfrm flipH="1" rot="18672000">
              <a:off x="5050080" y="3784680"/>
              <a:ext cx="146520" cy="4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02"/>
            <p:cNvSpPr/>
            <p:nvPr/>
          </p:nvSpPr>
          <p:spPr>
            <a:xfrm flipH="1" rot="18672000">
              <a:off x="4913640" y="389556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503"/>
            <p:cNvSpPr/>
            <p:nvPr/>
          </p:nvSpPr>
          <p:spPr>
            <a:xfrm flipH="1" rot="17227800">
              <a:off x="5098680" y="3494520"/>
              <a:ext cx="232200" cy="1022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504"/>
            <p:cNvSpPr/>
            <p:nvPr/>
          </p:nvSpPr>
          <p:spPr>
            <a:xfrm flipH="1" rot="17227800">
              <a:off x="5140800" y="3520800"/>
              <a:ext cx="14652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505"/>
            <p:cNvSpPr/>
            <p:nvPr/>
          </p:nvSpPr>
          <p:spPr>
            <a:xfrm flipH="1" rot="17227800">
              <a:off x="5056920" y="3660480"/>
              <a:ext cx="23220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506"/>
            <p:cNvSpPr/>
            <p:nvPr/>
          </p:nvSpPr>
          <p:spPr>
            <a:xfrm flipH="1" rot="16733400">
              <a:off x="5139360" y="32223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507"/>
            <p:cNvSpPr/>
            <p:nvPr/>
          </p:nvSpPr>
          <p:spPr>
            <a:xfrm flipH="1" rot="16733400">
              <a:off x="5181840" y="3247920"/>
              <a:ext cx="14652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508"/>
            <p:cNvSpPr/>
            <p:nvPr/>
          </p:nvSpPr>
          <p:spPr>
            <a:xfrm flipH="1" rot="16733400">
              <a:off x="5117400" y="339120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509"/>
            <p:cNvGrpSpPr/>
            <p:nvPr/>
          </p:nvGrpSpPr>
          <p:grpSpPr>
            <a:xfrm>
              <a:off x="5142240" y="2849040"/>
              <a:ext cx="371520" cy="1153800"/>
              <a:chOff x="5142240" y="2849040"/>
              <a:chExt cx="371520" cy="1153800"/>
            </a:xfrm>
          </p:grpSpPr>
          <p:grpSp>
            <p:nvGrpSpPr>
              <p:cNvPr id="1047" name="Group 510"/>
              <p:cNvGrpSpPr/>
              <p:nvPr/>
            </p:nvGrpSpPr>
            <p:grpSpPr>
              <a:xfrm>
                <a:off x="5142240" y="3655080"/>
                <a:ext cx="272520" cy="347760"/>
                <a:chOff x="5142240" y="3655080"/>
                <a:chExt cx="272520" cy="347760"/>
              </a:xfrm>
            </p:grpSpPr>
            <p:grpSp>
              <p:nvGrpSpPr>
                <p:cNvPr id="1048" name="Group 511"/>
                <p:cNvGrpSpPr/>
                <p:nvPr/>
              </p:nvGrpSpPr>
              <p:grpSpPr>
                <a:xfrm>
                  <a:off x="5198400" y="3655080"/>
                  <a:ext cx="216360" cy="249120"/>
                  <a:chOff x="5198400" y="3655080"/>
                  <a:chExt cx="216360" cy="249120"/>
                </a:xfrm>
              </p:grpSpPr>
              <p:sp>
                <p:nvSpPr>
                  <p:cNvPr id="1049" name="AutoShape 512"/>
                  <p:cNvSpPr/>
                  <p:nvPr/>
                </p:nvSpPr>
                <p:spPr>
                  <a:xfrm flipH="1" rot="18288600">
                    <a:off x="5189760" y="3728160"/>
                    <a:ext cx="232200" cy="102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513"/>
                  <p:cNvSpPr/>
                  <p:nvPr/>
                </p:nvSpPr>
                <p:spPr>
                  <a:xfrm flipH="1" rot="18288600">
                    <a:off x="5234040" y="3754080"/>
                    <a:ext cx="146520" cy="47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AutoShape 514"/>
                <p:cNvSpPr/>
                <p:nvPr/>
              </p:nvSpPr>
              <p:spPr>
                <a:xfrm flipH="1" rot="18288600">
                  <a:off x="5108760" y="3875400"/>
                  <a:ext cx="23220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515"/>
              <p:cNvGrpSpPr/>
              <p:nvPr/>
            </p:nvGrpSpPr>
            <p:grpSpPr>
              <a:xfrm>
                <a:off x="5316120" y="3394800"/>
                <a:ext cx="197640" cy="374760"/>
                <a:chOff x="5316120" y="3394800"/>
                <a:chExt cx="197640" cy="374760"/>
              </a:xfrm>
            </p:grpSpPr>
            <p:grpSp>
              <p:nvGrpSpPr>
                <p:cNvPr id="1053" name="Group 516"/>
                <p:cNvGrpSpPr/>
                <p:nvPr/>
              </p:nvGrpSpPr>
              <p:grpSpPr>
                <a:xfrm>
                  <a:off x="5336640" y="3394800"/>
                  <a:ext cx="177120" cy="253440"/>
                  <a:chOff x="5336640" y="3394800"/>
                  <a:chExt cx="177120" cy="253440"/>
                </a:xfrm>
              </p:grpSpPr>
              <p:sp>
                <p:nvSpPr>
                  <p:cNvPr id="1054" name="AutoShape 517"/>
                  <p:cNvSpPr/>
                  <p:nvPr/>
                </p:nvSpPr>
                <p:spPr>
                  <a:xfrm flipH="1" rot="17437200">
                    <a:off x="5308920" y="347040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518"/>
                  <p:cNvSpPr/>
                  <p:nvPr/>
                </p:nvSpPr>
                <p:spPr>
                  <a:xfrm flipH="1" rot="17437200">
                    <a:off x="5351040" y="349632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6" name="AutoShape 519"/>
                <p:cNvSpPr/>
                <p:nvPr/>
              </p:nvSpPr>
              <p:spPr>
                <a:xfrm flipH="1" rot="17437200">
                  <a:off x="5259960" y="3632760"/>
                  <a:ext cx="232200" cy="4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520"/>
              <p:cNvGrpSpPr/>
              <p:nvPr/>
            </p:nvGrpSpPr>
            <p:grpSpPr>
              <a:xfrm>
                <a:off x="5361120" y="3122640"/>
                <a:ext cx="115560" cy="377280"/>
                <a:chOff x="5361120" y="3122640"/>
                <a:chExt cx="115560" cy="377280"/>
              </a:xfrm>
            </p:grpSpPr>
            <p:grpSp>
              <p:nvGrpSpPr>
                <p:cNvPr id="1058" name="Group 521"/>
                <p:cNvGrpSpPr/>
                <p:nvPr/>
              </p:nvGrpSpPr>
              <p:grpSpPr>
                <a:xfrm>
                  <a:off x="5361120" y="3122640"/>
                  <a:ext cx="115560" cy="237960"/>
                  <a:chOff x="5361120" y="3122640"/>
                  <a:chExt cx="115560" cy="237960"/>
                </a:xfrm>
              </p:grpSpPr>
              <p:sp>
                <p:nvSpPr>
                  <p:cNvPr id="1059" name="AutoShape 522"/>
                  <p:cNvSpPr/>
                  <p:nvPr/>
                </p:nvSpPr>
                <p:spPr>
                  <a:xfrm flipH="1" rot="15992400">
                    <a:off x="5302080" y="319032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523"/>
                  <p:cNvSpPr/>
                  <p:nvPr/>
                </p:nvSpPr>
                <p:spPr>
                  <a:xfrm flipH="1" rot="15992400">
                    <a:off x="5344200" y="321624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AutoShape 524"/>
                <p:cNvSpPr/>
                <p:nvPr/>
              </p:nvSpPr>
              <p:spPr>
                <a:xfrm flipH="1" rot="15992400">
                  <a:off x="5310720" y="3362040"/>
                  <a:ext cx="23256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Group 525"/>
              <p:cNvGrpSpPr/>
              <p:nvPr/>
            </p:nvGrpSpPr>
            <p:grpSpPr>
              <a:xfrm>
                <a:off x="5286600" y="2849040"/>
                <a:ext cx="146880" cy="379080"/>
                <a:chOff x="5286600" y="2849040"/>
                <a:chExt cx="146880" cy="379080"/>
              </a:xfrm>
            </p:grpSpPr>
            <p:grpSp>
              <p:nvGrpSpPr>
                <p:cNvPr id="1063" name="Group 526"/>
                <p:cNvGrpSpPr/>
                <p:nvPr/>
              </p:nvGrpSpPr>
              <p:grpSpPr>
                <a:xfrm>
                  <a:off x="5286600" y="2849040"/>
                  <a:ext cx="146880" cy="248040"/>
                  <a:chOff x="5286600" y="2849040"/>
                  <a:chExt cx="146880" cy="248040"/>
                </a:xfrm>
              </p:grpSpPr>
              <p:sp>
                <p:nvSpPr>
                  <p:cNvPr id="1064" name="AutoShape 527"/>
                  <p:cNvSpPr/>
                  <p:nvPr/>
                </p:nvSpPr>
                <p:spPr>
                  <a:xfrm flipH="1" rot="15498000">
                    <a:off x="5243760" y="292176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28"/>
                  <p:cNvSpPr/>
                  <p:nvPr/>
                </p:nvSpPr>
                <p:spPr>
                  <a:xfrm flipH="1" rot="15498000">
                    <a:off x="5284800" y="2947320"/>
                    <a:ext cx="146880" cy="47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utoShape 529"/>
                <p:cNvSpPr/>
                <p:nvPr/>
              </p:nvSpPr>
              <p:spPr>
                <a:xfrm flipH="1" rot="15498000">
                  <a:off x="5272200" y="3089880"/>
                  <a:ext cx="232200" cy="4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7" name="Freeform 530"/>
            <p:cNvSpPr/>
            <p:nvPr/>
          </p:nvSpPr>
          <p:spPr>
            <a:xfrm rot="7007400">
              <a:off x="3409560" y="4738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31"/>
            <p:cNvSpPr/>
            <p:nvPr/>
          </p:nvSpPr>
          <p:spPr>
            <a:xfrm rot="1074000">
              <a:off x="3548160" y="44060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32"/>
            <p:cNvSpPr/>
            <p:nvPr/>
          </p:nvSpPr>
          <p:spPr>
            <a:xfrm flipV="1" rot="10331400">
              <a:off x="3470400" y="471240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33"/>
            <p:cNvSpPr/>
            <p:nvPr/>
          </p:nvSpPr>
          <p:spPr>
            <a:xfrm rot="12987000">
              <a:off x="3448080" y="4531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34"/>
            <p:cNvSpPr/>
            <p:nvPr/>
          </p:nvSpPr>
          <p:spPr>
            <a:xfrm rot="11874000">
              <a:off x="3504240" y="4521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35"/>
            <p:cNvSpPr/>
            <p:nvPr/>
          </p:nvSpPr>
          <p:spPr>
            <a:xfrm rot="20577600">
              <a:off x="3488040" y="469620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36"/>
            <p:cNvSpPr/>
            <p:nvPr/>
          </p:nvSpPr>
          <p:spPr>
            <a:xfrm rot="2187000">
              <a:off x="3430800" y="47516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537"/>
            <p:cNvSpPr/>
            <p:nvPr/>
          </p:nvSpPr>
          <p:spPr>
            <a:xfrm rot="17807400">
              <a:off x="3399840" y="47034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538"/>
            <p:cNvSpPr/>
            <p:nvPr/>
          </p:nvSpPr>
          <p:spPr>
            <a:xfrm flipH="1" flipV="1" rot="2187000">
              <a:off x="3541680" y="4459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39"/>
            <p:cNvSpPr/>
            <p:nvPr/>
          </p:nvSpPr>
          <p:spPr>
            <a:xfrm flipH="1" flipV="1" rot="7190400">
              <a:off x="3440160" y="45986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40"/>
            <p:cNvSpPr/>
            <p:nvPr/>
          </p:nvSpPr>
          <p:spPr>
            <a:xfrm flipH="1" flipV="1" rot="11874000">
              <a:off x="3433320" y="467424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41"/>
            <p:cNvSpPr/>
            <p:nvPr/>
          </p:nvSpPr>
          <p:spPr>
            <a:xfrm rot="17807400">
              <a:off x="3584520" y="43981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42"/>
            <p:cNvSpPr/>
            <p:nvPr/>
          </p:nvSpPr>
          <p:spPr>
            <a:xfrm flipH="1" flipV="1" rot="11874000">
              <a:off x="3618000" y="437148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3"/>
            <p:cNvSpPr/>
            <p:nvPr/>
          </p:nvSpPr>
          <p:spPr>
            <a:xfrm flipH="1" flipV="1" rot="5669400">
              <a:off x="3285000" y="4602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44"/>
            <p:cNvSpPr/>
            <p:nvPr/>
          </p:nvSpPr>
          <p:spPr>
            <a:xfrm flipH="1" rot="12081000">
              <a:off x="3504240" y="448704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45"/>
            <p:cNvSpPr/>
            <p:nvPr/>
          </p:nvSpPr>
          <p:spPr>
            <a:xfrm rot="11069400">
              <a:off x="3198240" y="47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6"/>
            <p:cNvSpPr/>
            <p:nvPr/>
          </p:nvSpPr>
          <p:spPr>
            <a:xfrm rot="9957000">
              <a:off x="3237840" y="4731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47"/>
            <p:cNvSpPr/>
            <p:nvPr/>
          </p:nvSpPr>
          <p:spPr>
            <a:xfrm flipV="1" rot="6681000">
              <a:off x="3298320" y="466776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48"/>
            <p:cNvSpPr/>
            <p:nvPr/>
          </p:nvSpPr>
          <p:spPr>
            <a:xfrm flipH="1" flipV="1" rot="15889800">
              <a:off x="3392280" y="468900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49"/>
            <p:cNvSpPr/>
            <p:nvPr/>
          </p:nvSpPr>
          <p:spPr>
            <a:xfrm flipH="1" flipV="1" rot="269400">
              <a:off x="3239640" y="4644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50"/>
            <p:cNvSpPr/>
            <p:nvPr/>
          </p:nvSpPr>
          <p:spPr>
            <a:xfrm flipH="1" flipV="1" rot="5089800">
              <a:off x="3453480" y="45892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51"/>
            <p:cNvSpPr/>
            <p:nvPr/>
          </p:nvSpPr>
          <p:spPr>
            <a:xfrm flipH="1" flipV="1" rot="15936600">
              <a:off x="3434760" y="46832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552"/>
            <p:cNvSpPr/>
            <p:nvPr/>
          </p:nvSpPr>
          <p:spPr>
            <a:xfrm flipH="1" flipV="1" rot="15889800">
              <a:off x="3405960" y="45835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53"/>
            <p:cNvSpPr/>
            <p:nvPr/>
          </p:nvSpPr>
          <p:spPr>
            <a:xfrm flipH="1" flipV="1" rot="10489800">
              <a:off x="3291480" y="477036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54"/>
            <p:cNvSpPr/>
            <p:nvPr/>
          </p:nvSpPr>
          <p:spPr>
            <a:xfrm flipH="1" flipV="1" rot="21289800">
              <a:off x="3296520" y="47221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555"/>
            <p:cNvSpPr/>
            <p:nvPr/>
          </p:nvSpPr>
          <p:spPr>
            <a:xfrm>
              <a:off x="24030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556"/>
            <p:cNvSpPr/>
            <p:nvPr/>
          </p:nvSpPr>
          <p:spPr>
            <a:xfrm>
              <a:off x="266868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557"/>
            <p:cNvSpPr/>
            <p:nvPr/>
          </p:nvSpPr>
          <p:spPr>
            <a:xfrm>
              <a:off x="2934000" y="4791600"/>
              <a:ext cx="26604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58"/>
            <p:cNvSpPr/>
            <p:nvPr/>
          </p:nvSpPr>
          <p:spPr>
            <a:xfrm>
              <a:off x="32004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59"/>
            <p:cNvSpPr/>
            <p:nvPr/>
          </p:nvSpPr>
          <p:spPr>
            <a:xfrm>
              <a:off x="346572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60"/>
            <p:cNvSpPr/>
            <p:nvPr/>
          </p:nvSpPr>
          <p:spPr>
            <a:xfrm>
              <a:off x="2390040" y="4992840"/>
              <a:ext cx="1328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61"/>
            <p:cNvSpPr/>
            <p:nvPr/>
          </p:nvSpPr>
          <p:spPr>
            <a:xfrm>
              <a:off x="2390040" y="5192280"/>
              <a:ext cx="1328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62"/>
            <p:cNvSpPr/>
            <p:nvPr/>
          </p:nvSpPr>
          <p:spPr>
            <a:xfrm>
              <a:off x="2415960" y="5428440"/>
              <a:ext cx="1306440" cy="39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63"/>
            <p:cNvSpPr/>
            <p:nvPr/>
          </p:nvSpPr>
          <p:spPr>
            <a:xfrm>
              <a:off x="238176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4"/>
            <p:cNvSpPr/>
            <p:nvPr/>
          </p:nvSpPr>
          <p:spPr>
            <a:xfrm>
              <a:off x="2635560" y="5546160"/>
              <a:ext cx="6480" cy="158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65"/>
            <p:cNvSpPr/>
            <p:nvPr/>
          </p:nvSpPr>
          <p:spPr>
            <a:xfrm>
              <a:off x="264204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66"/>
            <p:cNvSpPr/>
            <p:nvPr/>
          </p:nvSpPr>
          <p:spPr>
            <a:xfrm flipH="1">
              <a:off x="320904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67"/>
            <p:cNvSpPr/>
            <p:nvPr/>
          </p:nvSpPr>
          <p:spPr>
            <a:xfrm>
              <a:off x="347076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68"/>
            <p:cNvSpPr/>
            <p:nvPr/>
          </p:nvSpPr>
          <p:spPr>
            <a:xfrm>
              <a:off x="2665080" y="5819760"/>
              <a:ext cx="7826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569"/>
            <p:cNvSpPr/>
            <p:nvPr/>
          </p:nvSpPr>
          <p:spPr>
            <a:xfrm>
              <a:off x="2922840" y="5668560"/>
              <a:ext cx="260280" cy="26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70"/>
            <p:cNvSpPr/>
            <p:nvPr/>
          </p:nvSpPr>
          <p:spPr>
            <a:xfrm>
              <a:off x="3076560" y="5989680"/>
              <a:ext cx="684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71"/>
            <p:cNvSpPr/>
            <p:nvPr/>
          </p:nvSpPr>
          <p:spPr>
            <a:xfrm>
              <a:off x="3473640" y="5556960"/>
              <a:ext cx="792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572"/>
            <p:cNvSpPr/>
            <p:nvPr/>
          </p:nvSpPr>
          <p:spPr>
            <a:xfrm>
              <a:off x="243612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3"/>
            <p:cNvSpPr/>
            <p:nvPr/>
          </p:nvSpPr>
          <p:spPr>
            <a:xfrm>
              <a:off x="251316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74"/>
            <p:cNvSpPr/>
            <p:nvPr/>
          </p:nvSpPr>
          <p:spPr>
            <a:xfrm>
              <a:off x="258948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75"/>
            <p:cNvSpPr/>
            <p:nvPr/>
          </p:nvSpPr>
          <p:spPr>
            <a:xfrm>
              <a:off x="266580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6"/>
            <p:cNvSpPr/>
            <p:nvPr/>
          </p:nvSpPr>
          <p:spPr>
            <a:xfrm flipH="1">
              <a:off x="24746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77"/>
            <p:cNvSpPr/>
            <p:nvPr/>
          </p:nvSpPr>
          <p:spPr>
            <a:xfrm flipH="1">
              <a:off x="248328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78"/>
            <p:cNvSpPr/>
            <p:nvPr/>
          </p:nvSpPr>
          <p:spPr>
            <a:xfrm flipH="1">
              <a:off x="363204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79"/>
            <p:cNvSpPr/>
            <p:nvPr/>
          </p:nvSpPr>
          <p:spPr>
            <a:xfrm flipH="1">
              <a:off x="355572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80"/>
            <p:cNvSpPr/>
            <p:nvPr/>
          </p:nvSpPr>
          <p:spPr>
            <a:xfrm flipH="1">
              <a:off x="348012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81"/>
            <p:cNvSpPr/>
            <p:nvPr/>
          </p:nvSpPr>
          <p:spPr>
            <a:xfrm flipH="1">
              <a:off x="340236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82"/>
            <p:cNvSpPr/>
            <p:nvPr/>
          </p:nvSpPr>
          <p:spPr>
            <a:xfrm>
              <a:off x="34412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83"/>
            <p:cNvSpPr/>
            <p:nvPr/>
          </p:nvSpPr>
          <p:spPr>
            <a:xfrm>
              <a:off x="343260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84"/>
            <p:cNvSpPr/>
            <p:nvPr/>
          </p:nvSpPr>
          <p:spPr>
            <a:xfrm>
              <a:off x="2909520" y="5564160"/>
              <a:ext cx="29772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85"/>
            <p:cNvSpPr/>
            <p:nvPr/>
          </p:nvSpPr>
          <p:spPr>
            <a:xfrm>
              <a:off x="2958480" y="5612760"/>
              <a:ext cx="198360" cy="84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6"/>
            <p:cNvSpPr/>
            <p:nvPr/>
          </p:nvSpPr>
          <p:spPr>
            <a:xfrm>
              <a:off x="3008880" y="5619960"/>
              <a:ext cx="9900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87"/>
            <p:cNvSpPr/>
            <p:nvPr/>
          </p:nvSpPr>
          <p:spPr>
            <a:xfrm>
              <a:off x="234000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588"/>
            <p:cNvSpPr/>
            <p:nvPr/>
          </p:nvSpPr>
          <p:spPr>
            <a:xfrm>
              <a:off x="367524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buzones corresponden a sistemas de carguío estacionarios que se ubican en el extremo inferior de las chime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emplazan al sistema tradicional de carguío mediante cargadores frontales, permitiendo ob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tiem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es requerimientos de ventil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yor seguridad en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- Descrip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IMENS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del buzón queda definida por la distancia mínima medida diagonalmente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 a la proyección de la inclinación del pis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amaño máx. de colp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1,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co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sección de la boca de descarga debe estar en relación con el diámetro máximo del bolón que va a fluir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5"/>
          <p:cNvSpPr/>
          <p:nvPr/>
        </p:nvSpPr>
        <p:spPr>
          <a:xfrm flipV="1">
            <a:off x="2590920" y="3428640"/>
            <a:ext cx="1523880" cy="12193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>
            <a:off x="2666880" y="3048120"/>
            <a:ext cx="914400" cy="838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7"/>
          <p:cNvSpPr/>
          <p:nvPr/>
        </p:nvSpPr>
        <p:spPr>
          <a:xfrm>
            <a:off x="2556000" y="407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2390760" y="35812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 flipV="1">
            <a:off x="259092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0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33526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3124080" y="3022560"/>
            <a:ext cx="1447920" cy="330120"/>
          </a:xfrm>
          <a:prstGeom prst="pie">
            <a:avLst/>
          </a:prstGeom>
          <a:noFill/>
          <a:ln w="15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rc 14"/>
          <p:cNvSpPr/>
          <p:nvPr/>
        </p:nvSpPr>
        <p:spPr>
          <a:xfrm>
            <a:off x="3276720" y="4114800"/>
            <a:ext cx="3045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3032280" y="4191120"/>
            <a:ext cx="3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2669040" y="320040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4876920" y="2971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ancia mí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9"/>
          <p:cNvSpPr/>
          <p:nvPr/>
        </p:nvSpPr>
        <p:spPr>
          <a:xfrm>
            <a:off x="2705040" y="3486240"/>
            <a:ext cx="343080" cy="11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H="1">
            <a:off x="1828800" y="2514600"/>
            <a:ext cx="1371600" cy="14479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 flipH="1">
            <a:off x="3124080" y="2514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 flipH="1">
            <a:off x="33526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 flipH="1">
            <a:off x="3581280" y="2895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 flipV="1">
            <a:off x="3200400" y="1981080"/>
            <a:ext cx="0" cy="5335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4114800" y="1904760"/>
            <a:ext cx="0" cy="152388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RESTRICCIÓ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inclinación del piso del buzón debe ser tal, que los esfuerzos sobre la compuerta sean mínimos y por otra parte no se produzca reposo del material, lo cual alteraría la buena relación D/d pudiendose producir colgadu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TRANCADURAS EN BUZ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que el buzón resista el trabajo de los explosivos dentro de el para resolver problemas de trancad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llevar un control de la vida del buzón para tener previamente fabricadas las partes que se dañan más frecuentemente y que deben ser camb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sistemas de traspas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1: Glory Hole en Esc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468360" y="1844640"/>
          <a:ext cx="482436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824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"/>
          <p:cNvSpPr/>
          <p:nvPr/>
        </p:nvSpPr>
        <p:spPr>
          <a:xfrm>
            <a:off x="5724360" y="2421000"/>
            <a:ext cx="26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n de 50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de 3.8 m no recu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robusto tipo Apron feeder a correa de 200o ton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2: El Ten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042920" y="1700280"/>
          <a:ext cx="3651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3651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"/>
          <p:cNvSpPr/>
          <p:nvPr/>
        </p:nvSpPr>
        <p:spPr>
          <a:xfrm>
            <a:off x="5724360" y="1628640"/>
            <a:ext cx="30243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9 piques de traspaso desde diferentes mi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5 y 16 a sala de chancado (100% &lt; 200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20-21 material chancado a trenes, capacidad de cada pique de 3000 tone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´s 12 y 13 directo a ferrocar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7-18 directo a trenes (sectores inferio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metro 3 m sin recubierto, a 5 -10 metros por d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hesion reduce piques a 1 m efectivo (OP 15 se mantiene operativo en cada tu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resnillo Glory Hole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1763640" y="1844640"/>
          <a:ext cx="4681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4681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unswick Mines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755640" y="1773360"/>
          <a:ext cx="4968720" cy="42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496872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6156360" y="1916280"/>
            <a:ext cx="2376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alto es chancado en superficie (&lt; 200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es 67 x 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bierto con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ute es recubierto de acero 1.3 m de ancho y 2 metros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en la base a 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uio desde piques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890640" y="2281320"/>
          <a:ext cx="3171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281320"/>
                    <a:ext cx="3171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"/>
          <p:cNvGraphicFramePr/>
          <p:nvPr/>
        </p:nvGraphicFramePr>
        <p:xfrm>
          <a:off x="5153040" y="2009880"/>
          <a:ext cx="302904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3040" y="2009880"/>
                    <a:ext cx="30290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guio desde 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1187280" y="1773360"/>
          <a:ext cx="65534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553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ONES - d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rol del flujo del material a través de una chimenea se efectúa mediante una válvula de descarga, llamada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buzón debe cumplir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mitir el paso del flujo sin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mplir con las condicione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iseño una estrecha relación con las dimensiones de los traspasos, tamaños granulométricos y equipos de carguío y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buzones están compuestos básicamente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móvi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 fuerza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s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fij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uctura de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móvil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na de ca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uzón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dad de fuerza y contro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Instalaciones requeridas para el accionamiento de los cilindros hidráulicos y en ocasiones ventiladores auxiliares y semaforización.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64000" y="27813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867280" y="299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99cc"/>
                </a:solidFill>
                <a:latin typeface="Times New Roman"/>
              </a:rPr>
              <a:t>Ancladas al c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39337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867280" y="386064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Accionados por cilin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hidráulicos o neu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22520" y="947880"/>
            <a:ext cx="5541840" cy="4928760"/>
            <a:chOff x="1622520" y="947880"/>
            <a:chExt cx="5541840" cy="4928760"/>
          </a:xfrm>
        </p:grpSpPr>
        <p:sp>
          <p:nvSpPr>
            <p:cNvPr id="127" name="Line 3"/>
            <p:cNvSpPr/>
            <p:nvPr/>
          </p:nvSpPr>
          <p:spPr>
            <a:xfrm flipH="1">
              <a:off x="4923360" y="2429640"/>
              <a:ext cx="825480" cy="74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 flipH="1">
              <a:off x="3980160" y="3417480"/>
              <a:ext cx="58932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3479040" y="1812240"/>
              <a:ext cx="2476800" cy="2554200"/>
              <a:chOff x="3479040" y="1812240"/>
              <a:chExt cx="2476800" cy="255420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4334040" y="2799720"/>
                <a:ext cx="234000" cy="75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rot="10800000">
                <a:off x="4334040" y="2799720"/>
                <a:ext cx="62856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924440" y="2297160"/>
                <a:ext cx="628200" cy="987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rot="10800000">
                <a:off x="4924080" y="2297160"/>
                <a:ext cx="62820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5551560" y="280332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319000" y="1831320"/>
                <a:ext cx="628200" cy="987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rot="10800000">
                <a:off x="5327280" y="1820520"/>
                <a:ext cx="628560" cy="987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 flipV="1">
                <a:off x="4334040" y="230580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H="1">
                <a:off x="3626280" y="3417120"/>
                <a:ext cx="70740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4450320" y="3777480"/>
                <a:ext cx="502920" cy="351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3631680" y="3900960"/>
                <a:ext cx="312120" cy="184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4442040" y="3170520"/>
                <a:ext cx="524520" cy="52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3626640" y="2799720"/>
                <a:ext cx="707400" cy="1095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4588200" y="356688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3479040" y="4172040"/>
                <a:ext cx="383400" cy="194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 flipV="1">
                <a:off x="3479040" y="392148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 flipV="1">
                <a:off x="3851640" y="410904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3852720" y="3737160"/>
                <a:ext cx="605880" cy="626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3479040" y="3858840"/>
                <a:ext cx="132840" cy="321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3479040" y="3302640"/>
                <a:ext cx="257040" cy="634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3852720" y="3746160"/>
                <a:ext cx="605880" cy="373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4309200" y="386784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3609360" y="344340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3887280" y="406080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266720" y="3789360"/>
                <a:ext cx="135360" cy="467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 flipV="1">
                <a:off x="4334040" y="2923200"/>
                <a:ext cx="589320" cy="49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 flipV="1">
                <a:off x="4973400" y="3276000"/>
                <a:ext cx="589320" cy="49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 flipV="1">
                <a:off x="4958640" y="267624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4257720" y="4128480"/>
                <a:ext cx="200880" cy="1249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546520" y="2182320"/>
                <a:ext cx="403200" cy="487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4923720" y="181224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4923720" y="2436480"/>
                <a:ext cx="403200" cy="4867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38"/>
            <p:cNvSpPr/>
            <p:nvPr/>
          </p:nvSpPr>
          <p:spPr>
            <a:xfrm>
              <a:off x="4334400" y="3885480"/>
              <a:ext cx="589320" cy="1631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686760" y="4268160"/>
              <a:ext cx="589320" cy="904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3703320" y="4529160"/>
              <a:ext cx="630720" cy="36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3703320" y="4899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3686760" y="4529160"/>
              <a:ext cx="655920" cy="982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3695040" y="4287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3935880" y="4355280"/>
              <a:ext cx="398160" cy="5439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4334400" y="4149720"/>
              <a:ext cx="589320" cy="1361880"/>
              <a:chOff x="4334400" y="4149720"/>
              <a:chExt cx="589320" cy="136188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4334400" y="47757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4334400" y="475488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4334400" y="414972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4334400" y="41583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Freeform 50"/>
            <p:cNvSpPr/>
            <p:nvPr/>
          </p:nvSpPr>
          <p:spPr>
            <a:xfrm>
              <a:off x="3695040" y="4414320"/>
              <a:ext cx="589320" cy="123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1"/>
            <p:cNvSpPr/>
            <p:nvPr/>
          </p:nvSpPr>
          <p:spPr>
            <a:xfrm>
              <a:off x="3695040" y="4393440"/>
              <a:ext cx="572760" cy="756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695040" y="4355280"/>
              <a:ext cx="165960" cy="189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45920" y="4937760"/>
              <a:ext cx="1785240" cy="712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362760" y="5137560"/>
              <a:ext cx="921600" cy="739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4301280" y="5450760"/>
              <a:ext cx="976320" cy="417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4407480" y="2406960"/>
              <a:ext cx="1096920" cy="13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4415760" y="2711520"/>
              <a:ext cx="815040" cy="878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5438880" y="1502640"/>
              <a:ext cx="1336680" cy="203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4533840" y="1215720"/>
              <a:ext cx="2225160" cy="118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5422320" y="1676520"/>
              <a:ext cx="805320" cy="100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5388840" y="1659240"/>
              <a:ext cx="846720" cy="1069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2"/>
            <p:cNvSpPr/>
            <p:nvPr/>
          </p:nvSpPr>
          <p:spPr>
            <a:xfrm>
              <a:off x="2690280" y="3409560"/>
              <a:ext cx="3271320" cy="196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3"/>
            <p:cNvSpPr/>
            <p:nvPr/>
          </p:nvSpPr>
          <p:spPr>
            <a:xfrm>
              <a:off x="3229920" y="3189960"/>
              <a:ext cx="2250360" cy="999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2582280" y="4763880"/>
              <a:ext cx="2092320" cy="31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674600" y="4163760"/>
              <a:ext cx="846720" cy="1386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6103080" y="947880"/>
              <a:ext cx="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273120" y="2553120"/>
              <a:ext cx="943200" cy="86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4334400" y="2306160"/>
              <a:ext cx="353520" cy="24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4688280" y="1441800"/>
              <a:ext cx="117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2448000" y="3047040"/>
              <a:ext cx="1178640" cy="11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1622520" y="280008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oca mó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2448000" y="230616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3155400" y="205920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cuc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3508920" y="126612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hime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5631480" y="415836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tructura so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H="1">
              <a:off x="4923360" y="4281840"/>
              <a:ext cx="7074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87280" y="907920"/>
            <a:ext cx="6624720" cy="5441760"/>
            <a:chOff x="1187280" y="907920"/>
            <a:chExt cx="6624720" cy="5441760"/>
          </a:xfrm>
        </p:grpSpPr>
        <p:sp>
          <p:nvSpPr>
            <p:cNvPr id="202" name="Freeform 3"/>
            <p:cNvSpPr/>
            <p:nvPr/>
          </p:nvSpPr>
          <p:spPr>
            <a:xfrm>
              <a:off x="2372760" y="4889520"/>
              <a:ext cx="2189520" cy="67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361400" y="569484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327640" y="48355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6155640" y="4099320"/>
              <a:ext cx="16563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rtina de cad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2015280" y="213516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71280" y="1644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2567160" y="3485520"/>
              <a:ext cx="1103760" cy="98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1692360" y="321048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zón o Bo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 flipV="1">
              <a:off x="5465520" y="4098960"/>
              <a:ext cx="689760" cy="736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 flipV="1">
              <a:off x="6017760" y="3240000"/>
              <a:ext cx="828000" cy="85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187280" y="4713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apas late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2015280" y="4344120"/>
              <a:ext cx="689760" cy="36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2153160" y="907920"/>
              <a:ext cx="5561280" cy="5441760"/>
              <a:chOff x="2153160" y="907920"/>
              <a:chExt cx="5561280" cy="5441760"/>
            </a:xfrm>
          </p:grpSpPr>
          <p:sp>
            <p:nvSpPr>
              <p:cNvPr id="215" name="Freeform 16"/>
              <p:cNvSpPr/>
              <p:nvPr/>
            </p:nvSpPr>
            <p:spPr>
              <a:xfrm>
                <a:off x="2153160" y="907920"/>
                <a:ext cx="5106240" cy="245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7"/>
              <p:cNvGrpSpPr/>
              <p:nvPr/>
            </p:nvGrpSpPr>
            <p:grpSpPr>
              <a:xfrm>
                <a:off x="2421000" y="3853800"/>
                <a:ext cx="2215800" cy="1192320"/>
                <a:chOff x="2421000" y="3853800"/>
                <a:chExt cx="2215800" cy="1192320"/>
              </a:xfrm>
            </p:grpSpPr>
            <p:grpSp>
              <p:nvGrpSpPr>
                <p:cNvPr id="217" name="Group 18"/>
                <p:cNvGrpSpPr/>
                <p:nvPr/>
              </p:nvGrpSpPr>
              <p:grpSpPr>
                <a:xfrm>
                  <a:off x="2421000" y="3853800"/>
                  <a:ext cx="2215800" cy="1069560"/>
                  <a:chOff x="2421000" y="3853800"/>
                  <a:chExt cx="2215800" cy="1069560"/>
                </a:xfrm>
              </p:grpSpPr>
              <p:grpSp>
                <p:nvGrpSpPr>
                  <p:cNvPr id="218" name="Group 19"/>
                  <p:cNvGrpSpPr/>
                  <p:nvPr/>
                </p:nvGrpSpPr>
                <p:grpSpPr>
                  <a:xfrm>
                    <a:off x="3249000" y="3853800"/>
                    <a:ext cx="1387800" cy="947160"/>
                    <a:chOff x="3249000" y="3853800"/>
                    <a:chExt cx="1387800" cy="947160"/>
                  </a:xfrm>
                </p:grpSpPr>
                <p:sp>
                  <p:nvSpPr>
                    <p:cNvPr id="219" name="Freeform 20"/>
                    <p:cNvSpPr/>
                    <p:nvPr/>
                  </p:nvSpPr>
                  <p:spPr>
                    <a:xfrm>
                      <a:off x="3249000" y="3853800"/>
                      <a:ext cx="1387800" cy="9471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1"/>
                    <p:cNvSpPr/>
                    <p:nvPr/>
                  </p:nvSpPr>
                  <p:spPr>
                    <a:xfrm>
                      <a:off x="3800160" y="4064400"/>
                      <a:ext cx="720" cy="73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22"/>
                    <p:cNvSpPr/>
                    <p:nvPr/>
                  </p:nvSpPr>
                  <p:spPr>
                    <a:xfrm>
                      <a:off x="4077000" y="4009320"/>
                      <a:ext cx="720" cy="7916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23"/>
                    <p:cNvSpPr/>
                    <p:nvPr/>
                  </p:nvSpPr>
                  <p:spPr>
                    <a:xfrm>
                      <a:off x="4352760" y="3926160"/>
                      <a:ext cx="3960" cy="8744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24"/>
                    <p:cNvSpPr/>
                    <p:nvPr/>
                  </p:nvSpPr>
                  <p:spPr>
                    <a:xfrm>
                      <a:off x="3525840" y="4123440"/>
                      <a:ext cx="2520" cy="67752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Line 25"/>
                  <p:cNvSpPr/>
                  <p:nvPr/>
                </p:nvSpPr>
                <p:spPr>
                  <a:xfrm>
                    <a:off x="3249000" y="4555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6"/>
                  <p:cNvSpPr/>
                  <p:nvPr/>
                </p:nvSpPr>
                <p:spPr>
                  <a:xfrm>
                    <a:off x="3249000" y="4186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7"/>
                  <p:cNvSpPr/>
                  <p:nvPr/>
                </p:nvSpPr>
                <p:spPr>
                  <a:xfrm flipH="1" flipV="1">
                    <a:off x="2421000" y="4309560"/>
                    <a:ext cx="827640" cy="490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28"/>
                  <p:cNvSpPr/>
                  <p:nvPr/>
                </p:nvSpPr>
                <p:spPr>
                  <a:xfrm>
                    <a:off x="2736000" y="3884760"/>
                    <a:ext cx="513000" cy="3024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9"/>
                  <p:cNvSpPr/>
                  <p:nvPr/>
                </p:nvSpPr>
                <p:spPr>
                  <a:xfrm>
                    <a:off x="2421360" y="38847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30"/>
                  <p:cNvSpPr/>
                  <p:nvPr/>
                </p:nvSpPr>
                <p:spPr>
                  <a:xfrm>
                    <a:off x="2596320" y="4081680"/>
                    <a:ext cx="501480" cy="3006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31"/>
                  <p:cNvSpPr/>
                  <p:nvPr/>
                </p:nvSpPr>
                <p:spPr>
                  <a:xfrm>
                    <a:off x="3249000" y="4800960"/>
                    <a:ext cx="1379880" cy="122400"/>
                  </a:xfrm>
                  <a:prstGeom prst="pi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2"/>
                  <p:cNvSpPr/>
                  <p:nvPr/>
                </p:nvSpPr>
                <p:spPr>
                  <a:xfrm>
                    <a:off x="2934360" y="41871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3"/>
                <p:cNvGrpSpPr/>
                <p:nvPr/>
              </p:nvGrpSpPr>
              <p:grpSpPr>
                <a:xfrm>
                  <a:off x="4352760" y="4923720"/>
                  <a:ext cx="275400" cy="122400"/>
                  <a:chOff x="4352760" y="4923720"/>
                  <a:chExt cx="275400" cy="12240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352760" y="4923720"/>
                    <a:ext cx="275400" cy="122400"/>
                    <a:chOff x="4352760" y="4923720"/>
                    <a:chExt cx="275400" cy="122400"/>
                  </a:xfrm>
                </p:grpSpPr>
                <p:sp>
                  <p:nvSpPr>
                    <p:cNvPr id="234" name="Arc 35"/>
                    <p:cNvSpPr/>
                    <p:nvPr/>
                  </p:nvSpPr>
                  <p:spPr>
                    <a:xfrm flipH="1" rot="10800000">
                      <a:off x="448992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rc 36"/>
                    <p:cNvSpPr/>
                    <p:nvPr/>
                  </p:nvSpPr>
                  <p:spPr>
                    <a:xfrm rot="10800000">
                      <a:off x="435276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Oval 37"/>
                  <p:cNvSpPr/>
                  <p:nvPr/>
                </p:nvSpPr>
                <p:spPr>
                  <a:xfrm rot="10800000">
                    <a:off x="4445280" y="4944240"/>
                    <a:ext cx="9216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Freeform 38"/>
              <p:cNvSpPr/>
              <p:nvPr/>
            </p:nvSpPr>
            <p:spPr>
              <a:xfrm>
                <a:off x="4223160" y="1338120"/>
                <a:ext cx="3456000" cy="3443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39"/>
              <p:cNvGrpSpPr/>
              <p:nvPr/>
            </p:nvGrpSpPr>
            <p:grpSpPr>
              <a:xfrm>
                <a:off x="4167720" y="1004400"/>
                <a:ext cx="2174040" cy="1228320"/>
                <a:chOff x="4167720" y="1004400"/>
                <a:chExt cx="2174040" cy="122832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5945400" y="1004400"/>
                  <a:ext cx="396360" cy="1228320"/>
                  <a:chOff x="5945400" y="1004400"/>
                  <a:chExt cx="396360" cy="1228320"/>
                </a:xfrm>
              </p:grpSpPr>
              <p:sp>
                <p:nvSpPr>
                  <p:cNvPr id="240" name="Rectangle 41"/>
                  <p:cNvSpPr/>
                  <p:nvPr/>
                </p:nvSpPr>
                <p:spPr>
                  <a:xfrm rot="645000">
                    <a:off x="6044760" y="1145160"/>
                    <a:ext cx="142920" cy="108360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Group 42"/>
                  <p:cNvGrpSpPr/>
                  <p:nvPr/>
                </p:nvGrpSpPr>
                <p:grpSpPr>
                  <a:xfrm>
                    <a:off x="6128280" y="1004400"/>
                    <a:ext cx="213480" cy="202320"/>
                    <a:chOff x="6128280" y="1004400"/>
                    <a:chExt cx="213480" cy="202320"/>
                  </a:xfrm>
                </p:grpSpPr>
                <p:sp>
                  <p:nvSpPr>
                    <p:cNvPr id="242" name="Oval 43"/>
                    <p:cNvSpPr/>
                    <p:nvPr/>
                  </p:nvSpPr>
                  <p:spPr>
                    <a:xfrm rot="645000">
                      <a:off x="6142680" y="1019880"/>
                      <a:ext cx="184680" cy="1710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44"/>
                    <p:cNvSpPr/>
                    <p:nvPr/>
                  </p:nvSpPr>
                  <p:spPr>
                    <a:xfrm rot="645000">
                      <a:off x="6179760" y="1056600"/>
                      <a:ext cx="11052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45"/>
                <p:cNvGrpSpPr/>
                <p:nvPr/>
              </p:nvGrpSpPr>
              <p:grpSpPr>
                <a:xfrm>
                  <a:off x="4167720" y="1155240"/>
                  <a:ext cx="1831680" cy="1028520"/>
                  <a:chOff x="4167720" y="1155240"/>
                  <a:chExt cx="1831680" cy="1028520"/>
                </a:xfrm>
              </p:grpSpPr>
              <p:sp>
                <p:nvSpPr>
                  <p:cNvPr id="245" name="Rectangle 46"/>
                  <p:cNvSpPr/>
                  <p:nvPr/>
                </p:nvSpPr>
                <p:spPr>
                  <a:xfrm rot="17984400">
                    <a:off x="5455800" y="1400400"/>
                    <a:ext cx="75240" cy="9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Group 47"/>
                  <p:cNvGrpSpPr/>
                  <p:nvPr/>
                </p:nvGrpSpPr>
                <p:grpSpPr>
                  <a:xfrm>
                    <a:off x="5865120" y="2056320"/>
                    <a:ext cx="134280" cy="127440"/>
                    <a:chOff x="5865120" y="2056320"/>
                    <a:chExt cx="134280" cy="127440"/>
                  </a:xfrm>
                </p:grpSpPr>
                <p:sp>
                  <p:nvSpPr>
                    <p:cNvPr id="247" name="Oval 48"/>
                    <p:cNvSpPr/>
                    <p:nvPr/>
                  </p:nvSpPr>
                  <p:spPr>
                    <a:xfrm rot="17984400">
                      <a:off x="5888520" y="2067480"/>
                      <a:ext cx="87120" cy="10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Oval 49"/>
                    <p:cNvSpPr/>
                    <p:nvPr/>
                  </p:nvSpPr>
                  <p:spPr>
                    <a:xfrm rot="17984400">
                      <a:off x="5913360" y="2097720"/>
                      <a:ext cx="37080" cy="44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Rectangle 50"/>
                  <p:cNvSpPr/>
                  <p:nvPr/>
                </p:nvSpPr>
                <p:spPr>
                  <a:xfrm rot="17984400">
                    <a:off x="4721400" y="1042200"/>
                    <a:ext cx="113040" cy="99216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51"/>
                  <p:cNvGrpSpPr/>
                  <p:nvPr/>
                </p:nvGrpSpPr>
                <p:grpSpPr>
                  <a:xfrm>
                    <a:off x="4167720" y="1155240"/>
                    <a:ext cx="248400" cy="237960"/>
                    <a:chOff x="4167720" y="1155240"/>
                    <a:chExt cx="248400" cy="237960"/>
                  </a:xfrm>
                </p:grpSpPr>
                <p:sp>
                  <p:nvSpPr>
                    <p:cNvPr id="251" name="Oval 52"/>
                    <p:cNvSpPr/>
                    <p:nvPr/>
                  </p:nvSpPr>
                  <p:spPr>
                    <a:xfrm rot="17984400">
                      <a:off x="4209480" y="1177920"/>
                      <a:ext cx="164160" cy="192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53"/>
                    <p:cNvSpPr/>
                    <p:nvPr/>
                  </p:nvSpPr>
                  <p:spPr>
                    <a:xfrm rot="17984400">
                      <a:off x="4244400" y="1216800"/>
                      <a:ext cx="98280" cy="115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3" name="Rectangle 54"/>
              <p:cNvSpPr/>
              <p:nvPr/>
            </p:nvSpPr>
            <p:spPr>
              <a:xfrm rot="18622800">
                <a:off x="4506840" y="1868040"/>
                <a:ext cx="122760" cy="20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5"/>
              <p:cNvSpPr/>
              <p:nvPr/>
            </p:nvSpPr>
            <p:spPr>
              <a:xfrm rot="18622800">
                <a:off x="3846240" y="1684440"/>
                <a:ext cx="160560" cy="1477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 rot="18661200">
                <a:off x="2939040" y="876960"/>
                <a:ext cx="196200" cy="1719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57"/>
              <p:cNvGrpSpPr/>
              <p:nvPr/>
            </p:nvGrpSpPr>
            <p:grpSpPr>
              <a:xfrm>
                <a:off x="2207520" y="1068480"/>
                <a:ext cx="339480" cy="340920"/>
                <a:chOff x="2207520" y="1068480"/>
                <a:chExt cx="339480" cy="340920"/>
              </a:xfrm>
            </p:grpSpPr>
            <p:sp>
              <p:nvSpPr>
                <p:cNvPr id="257" name="Oval 58"/>
                <p:cNvSpPr/>
                <p:nvPr/>
              </p:nvSpPr>
              <p:spPr>
                <a:xfrm rot="18661200">
                  <a:off x="2253600" y="1121400"/>
                  <a:ext cx="246960" cy="235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59"/>
                <p:cNvSpPr/>
                <p:nvPr/>
              </p:nvSpPr>
              <p:spPr>
                <a:xfrm rot="18661200">
                  <a:off x="2305440" y="1170000"/>
                  <a:ext cx="147600" cy="140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60"/>
              <p:cNvGrpSpPr/>
              <p:nvPr/>
            </p:nvGrpSpPr>
            <p:grpSpPr>
              <a:xfrm>
                <a:off x="4801320" y="3884400"/>
                <a:ext cx="393840" cy="456480"/>
                <a:chOff x="4801320" y="3884400"/>
                <a:chExt cx="393840" cy="456480"/>
              </a:xfrm>
            </p:grpSpPr>
            <p:sp>
              <p:nvSpPr>
                <p:cNvPr id="260" name="AutoShape 61"/>
                <p:cNvSpPr/>
                <p:nvPr/>
              </p:nvSpPr>
              <p:spPr>
                <a:xfrm rot="2292600">
                  <a:off x="4944960" y="3903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62"/>
                <p:cNvSpPr/>
                <p:nvPr/>
              </p:nvSpPr>
              <p:spPr>
                <a:xfrm rot="2292600">
                  <a:off x="4993200" y="395784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63"/>
                <p:cNvSpPr/>
                <p:nvPr/>
              </p:nvSpPr>
              <p:spPr>
                <a:xfrm rot="2292600">
                  <a:off x="4891680" y="4044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64"/>
              <p:cNvGrpSpPr/>
              <p:nvPr/>
            </p:nvGrpSpPr>
            <p:grpSpPr>
              <a:xfrm>
                <a:off x="5046120" y="3597120"/>
                <a:ext cx="394200" cy="456480"/>
                <a:chOff x="5046120" y="3597120"/>
                <a:chExt cx="394200" cy="456480"/>
              </a:xfrm>
            </p:grpSpPr>
            <p:sp>
              <p:nvSpPr>
                <p:cNvPr id="264" name="AutoShape 65"/>
                <p:cNvSpPr/>
                <p:nvPr/>
              </p:nvSpPr>
              <p:spPr>
                <a:xfrm rot="2292600">
                  <a:off x="5189760" y="361656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6"/>
                <p:cNvSpPr/>
                <p:nvPr/>
              </p:nvSpPr>
              <p:spPr>
                <a:xfrm rot="2292600">
                  <a:off x="5238360" y="367056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67"/>
                <p:cNvSpPr/>
                <p:nvPr/>
              </p:nvSpPr>
              <p:spPr>
                <a:xfrm rot="2292600">
                  <a:off x="5136480" y="37569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8"/>
              <p:cNvGrpSpPr/>
              <p:nvPr/>
            </p:nvGrpSpPr>
            <p:grpSpPr>
              <a:xfrm>
                <a:off x="5256000" y="3337920"/>
                <a:ext cx="472320" cy="451080"/>
                <a:chOff x="5256000" y="3337920"/>
                <a:chExt cx="472320" cy="451080"/>
              </a:xfrm>
            </p:grpSpPr>
            <p:sp>
              <p:nvSpPr>
                <p:cNvPr id="268" name="AutoShape 69"/>
                <p:cNvSpPr/>
                <p:nvPr/>
              </p:nvSpPr>
              <p:spPr>
                <a:xfrm rot="2812200">
                  <a:off x="5471280" y="333792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70"/>
                <p:cNvSpPr/>
                <p:nvPr/>
              </p:nvSpPr>
              <p:spPr>
                <a:xfrm rot="2812200">
                  <a:off x="5514840" y="339804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1"/>
                <p:cNvSpPr/>
                <p:nvPr/>
              </p:nvSpPr>
              <p:spPr>
                <a:xfrm rot="2812200">
                  <a:off x="5375880" y="347472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72"/>
              <p:cNvGrpSpPr/>
              <p:nvPr/>
            </p:nvGrpSpPr>
            <p:grpSpPr>
              <a:xfrm>
                <a:off x="5545440" y="3082680"/>
                <a:ext cx="472320" cy="451080"/>
                <a:chOff x="5545440" y="3082680"/>
                <a:chExt cx="472320" cy="451080"/>
              </a:xfrm>
            </p:grpSpPr>
            <p:sp>
              <p:nvSpPr>
                <p:cNvPr id="272" name="AutoShape 73"/>
                <p:cNvSpPr/>
                <p:nvPr/>
              </p:nvSpPr>
              <p:spPr>
                <a:xfrm rot="2812200">
                  <a:off x="5760720" y="308268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74"/>
                <p:cNvSpPr/>
                <p:nvPr/>
              </p:nvSpPr>
              <p:spPr>
                <a:xfrm rot="2812200">
                  <a:off x="5804280" y="314280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75"/>
                <p:cNvSpPr/>
                <p:nvPr/>
              </p:nvSpPr>
              <p:spPr>
                <a:xfrm rot="2812200">
                  <a:off x="5665320" y="321948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76"/>
              <p:cNvGrpSpPr/>
              <p:nvPr/>
            </p:nvGrpSpPr>
            <p:grpSpPr>
              <a:xfrm>
                <a:off x="5862240" y="2774880"/>
                <a:ext cx="345240" cy="482040"/>
                <a:chOff x="5862240" y="2774880"/>
                <a:chExt cx="345240" cy="482040"/>
              </a:xfrm>
            </p:grpSpPr>
            <p:sp>
              <p:nvSpPr>
                <p:cNvPr id="276" name="AutoShape 77"/>
                <p:cNvSpPr/>
                <p:nvPr/>
              </p:nvSpPr>
              <p:spPr>
                <a:xfrm rot="1806000">
                  <a:off x="5968800" y="2796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78"/>
                <p:cNvSpPr/>
                <p:nvPr/>
              </p:nvSpPr>
              <p:spPr>
                <a:xfrm rot="1806000">
                  <a:off x="6017040" y="2850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79"/>
                <p:cNvSpPr/>
                <p:nvPr/>
              </p:nvSpPr>
              <p:spPr>
                <a:xfrm rot="1806000">
                  <a:off x="5936400" y="29509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0"/>
              <p:cNvGrpSpPr/>
              <p:nvPr/>
            </p:nvGrpSpPr>
            <p:grpSpPr>
              <a:xfrm>
                <a:off x="6049440" y="2419560"/>
                <a:ext cx="236520" cy="504360"/>
                <a:chOff x="6049440" y="2419560"/>
                <a:chExt cx="236520" cy="504360"/>
              </a:xfrm>
            </p:grpSpPr>
            <p:sp>
              <p:nvSpPr>
                <p:cNvPr id="280" name="AutoShape 81"/>
                <p:cNvSpPr/>
                <p:nvPr/>
              </p:nvSpPr>
              <p:spPr>
                <a:xfrm rot="764400">
                  <a:off x="6081480" y="243468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82"/>
                <p:cNvSpPr/>
                <p:nvPr/>
              </p:nvSpPr>
              <p:spPr>
                <a:xfrm rot="764400">
                  <a:off x="6129360" y="24883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83"/>
                <p:cNvSpPr/>
                <p:nvPr/>
              </p:nvSpPr>
              <p:spPr>
                <a:xfrm rot="764400">
                  <a:off x="6099480" y="26085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6119640" y="2073600"/>
                <a:ext cx="225000" cy="503640"/>
                <a:chOff x="6119640" y="2073600"/>
                <a:chExt cx="225000" cy="503640"/>
              </a:xfrm>
            </p:grpSpPr>
            <p:sp>
              <p:nvSpPr>
                <p:cNvPr id="284" name="AutoShape 85"/>
                <p:cNvSpPr/>
                <p:nvPr/>
              </p:nvSpPr>
              <p:spPr>
                <a:xfrm rot="622200">
                  <a:off x="6145920" y="208620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86"/>
                <p:cNvSpPr/>
                <p:nvPr/>
              </p:nvSpPr>
              <p:spPr>
                <a:xfrm rot="622200">
                  <a:off x="6193800" y="214020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87"/>
                <p:cNvSpPr/>
                <p:nvPr/>
              </p:nvSpPr>
              <p:spPr>
                <a:xfrm rot="622200">
                  <a:off x="6171120" y="2262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88"/>
              <p:cNvGrpSpPr/>
              <p:nvPr/>
            </p:nvGrpSpPr>
            <p:grpSpPr>
              <a:xfrm>
                <a:off x="6171120" y="1716840"/>
                <a:ext cx="208800" cy="501480"/>
                <a:chOff x="6171120" y="1716840"/>
                <a:chExt cx="208800" cy="501480"/>
              </a:xfrm>
            </p:grpSpPr>
            <p:sp>
              <p:nvSpPr>
                <p:cNvPr id="288" name="AutoShape 89"/>
                <p:cNvSpPr/>
                <p:nvPr/>
              </p:nvSpPr>
              <p:spPr>
                <a:xfrm rot="421200">
                  <a:off x="6189480" y="172584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90"/>
                <p:cNvSpPr/>
                <p:nvPr/>
              </p:nvSpPr>
              <p:spPr>
                <a:xfrm rot="421200">
                  <a:off x="6237000" y="1779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91"/>
                <p:cNvSpPr/>
                <p:nvPr/>
              </p:nvSpPr>
              <p:spPr>
                <a:xfrm rot="421200">
                  <a:off x="6224760" y="19033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2"/>
              <p:cNvGrpSpPr/>
              <p:nvPr/>
            </p:nvGrpSpPr>
            <p:grpSpPr>
              <a:xfrm>
                <a:off x="6235920" y="1356120"/>
                <a:ext cx="226800" cy="503640"/>
                <a:chOff x="6235920" y="1356120"/>
                <a:chExt cx="226800" cy="503640"/>
              </a:xfrm>
            </p:grpSpPr>
            <p:sp>
              <p:nvSpPr>
                <p:cNvPr id="292" name="AutoShape 93"/>
                <p:cNvSpPr/>
                <p:nvPr/>
              </p:nvSpPr>
              <p:spPr>
                <a:xfrm rot="642600">
                  <a:off x="6263280" y="136908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94"/>
                <p:cNvSpPr/>
                <p:nvPr/>
              </p:nvSpPr>
              <p:spPr>
                <a:xfrm rot="642600">
                  <a:off x="6310800" y="14227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95"/>
                <p:cNvSpPr/>
                <p:nvPr/>
              </p:nvSpPr>
              <p:spPr>
                <a:xfrm rot="642600">
                  <a:off x="6287040" y="15447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6"/>
              <p:cNvGrpSpPr/>
              <p:nvPr/>
            </p:nvGrpSpPr>
            <p:grpSpPr>
              <a:xfrm>
                <a:off x="6305400" y="1001880"/>
                <a:ext cx="223560" cy="503280"/>
                <a:chOff x="6305400" y="1001880"/>
                <a:chExt cx="223560" cy="503280"/>
              </a:xfrm>
            </p:grpSpPr>
            <p:sp>
              <p:nvSpPr>
                <p:cNvPr id="296" name="AutoShape 97"/>
                <p:cNvSpPr/>
                <p:nvPr/>
              </p:nvSpPr>
              <p:spPr>
                <a:xfrm rot="595800">
                  <a:off x="6330960" y="101412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8"/>
                <p:cNvSpPr/>
                <p:nvPr/>
              </p:nvSpPr>
              <p:spPr>
                <a:xfrm rot="595800">
                  <a:off x="6378840" y="10681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99"/>
                <p:cNvSpPr/>
                <p:nvPr/>
              </p:nvSpPr>
              <p:spPr>
                <a:xfrm rot="595800">
                  <a:off x="6357240" y="11901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100"/>
              <p:cNvSpPr/>
              <p:nvPr/>
            </p:nvSpPr>
            <p:spPr>
              <a:xfrm>
                <a:off x="4623840" y="3120840"/>
                <a:ext cx="3090600" cy="1711440"/>
              </a:xfrm>
              <a:prstGeom prst="pie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01"/>
              <p:cNvGrpSpPr/>
              <p:nvPr/>
            </p:nvGrpSpPr>
            <p:grpSpPr>
              <a:xfrm>
                <a:off x="4946040" y="3285720"/>
                <a:ext cx="617760" cy="640800"/>
                <a:chOff x="4946040" y="3285720"/>
                <a:chExt cx="617760" cy="640800"/>
              </a:xfrm>
            </p:grpSpPr>
            <p:sp>
              <p:nvSpPr>
                <p:cNvPr id="301" name="Oval 102"/>
                <p:cNvSpPr/>
                <p:nvPr/>
              </p:nvSpPr>
              <p:spPr>
                <a:xfrm rot="2481600">
                  <a:off x="4967280" y="3781800"/>
                  <a:ext cx="133920" cy="114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3"/>
                <p:cNvSpPr/>
                <p:nvPr/>
              </p:nvSpPr>
              <p:spPr>
                <a:xfrm rot="2481600">
                  <a:off x="5222520" y="3247920"/>
                  <a:ext cx="137880" cy="66780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04"/>
                <p:cNvSpPr/>
                <p:nvPr/>
              </p:nvSpPr>
              <p:spPr>
                <a:xfrm rot="2481600">
                  <a:off x="5297400" y="3479400"/>
                  <a:ext cx="10260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05"/>
                <p:cNvSpPr/>
                <p:nvPr/>
              </p:nvSpPr>
              <p:spPr>
                <a:xfrm rot="2481600">
                  <a:off x="4979520" y="3801600"/>
                  <a:ext cx="10368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06"/>
              <p:cNvSpPr/>
              <p:nvPr/>
            </p:nvSpPr>
            <p:spPr>
              <a:xfrm>
                <a:off x="2302560" y="93888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07"/>
              <p:cNvSpPr/>
              <p:nvPr/>
            </p:nvSpPr>
            <p:spPr>
              <a:xfrm>
                <a:off x="4223160" y="94932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08"/>
              <p:cNvSpPr/>
              <p:nvPr/>
            </p:nvSpPr>
            <p:spPr>
              <a:xfrm>
                <a:off x="616680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09"/>
              <p:cNvSpPr/>
              <p:nvPr/>
            </p:nvSpPr>
            <p:spPr>
              <a:xfrm>
                <a:off x="636516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10"/>
              <p:cNvGrpSpPr/>
              <p:nvPr/>
            </p:nvGrpSpPr>
            <p:grpSpPr>
              <a:xfrm>
                <a:off x="3719520" y="4821480"/>
                <a:ext cx="1057680" cy="1528200"/>
                <a:chOff x="3719520" y="4821480"/>
                <a:chExt cx="1057680" cy="1528200"/>
              </a:xfrm>
            </p:grpSpPr>
            <p:sp>
              <p:nvSpPr>
                <p:cNvPr id="310" name="Rectangle 111"/>
                <p:cNvSpPr/>
                <p:nvPr/>
              </p:nvSpPr>
              <p:spPr>
                <a:xfrm rot="8985000">
                  <a:off x="3994920" y="4835520"/>
                  <a:ext cx="8460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12"/>
                <p:cNvGrpSpPr/>
                <p:nvPr/>
              </p:nvGrpSpPr>
              <p:grpSpPr>
                <a:xfrm>
                  <a:off x="3719520" y="4821480"/>
                  <a:ext cx="128160" cy="134280"/>
                  <a:chOff x="3719520" y="4821480"/>
                  <a:chExt cx="128160" cy="134280"/>
                </a:xfrm>
              </p:grpSpPr>
              <p:sp>
                <p:nvSpPr>
                  <p:cNvPr id="312" name="Oval 113"/>
                  <p:cNvSpPr/>
                  <p:nvPr/>
                </p:nvSpPr>
                <p:spPr>
                  <a:xfrm rot="8985000">
                    <a:off x="3740040" y="4835880"/>
                    <a:ext cx="87120" cy="10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14"/>
                  <p:cNvSpPr/>
                  <p:nvPr/>
                </p:nvSpPr>
                <p:spPr>
                  <a:xfrm rot="8985000">
                    <a:off x="3764520" y="4866120"/>
                    <a:ext cx="37080" cy="44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Rectangle 115"/>
                <p:cNvSpPr/>
                <p:nvPr/>
              </p:nvSpPr>
              <p:spPr>
                <a:xfrm rot="8985000">
                  <a:off x="4341600" y="5382720"/>
                  <a:ext cx="127080" cy="882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Group 116"/>
                <p:cNvGrpSpPr/>
                <p:nvPr/>
              </p:nvGrpSpPr>
              <p:grpSpPr>
                <a:xfrm>
                  <a:off x="4538520" y="6100920"/>
                  <a:ext cx="238680" cy="248760"/>
                  <a:chOff x="4538520" y="6100920"/>
                  <a:chExt cx="238680" cy="248760"/>
                </a:xfrm>
              </p:grpSpPr>
              <p:sp>
                <p:nvSpPr>
                  <p:cNvPr id="316" name="Oval 117"/>
                  <p:cNvSpPr/>
                  <p:nvPr/>
                </p:nvSpPr>
                <p:spPr>
                  <a:xfrm rot="8985000">
                    <a:off x="4575600" y="6129000"/>
                    <a:ext cx="164160" cy="192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18"/>
                  <p:cNvSpPr/>
                  <p:nvPr/>
                </p:nvSpPr>
                <p:spPr>
                  <a:xfrm rot="8985000">
                    <a:off x="4607280" y="6166080"/>
                    <a:ext cx="98280" cy="11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Arc 119"/>
              <p:cNvSpPr/>
              <p:nvPr/>
            </p:nvSpPr>
            <p:spPr>
              <a:xfrm rot="16200000">
                <a:off x="4066200" y="4471560"/>
                <a:ext cx="604800" cy="842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122 Conector recto"/>
          <p:cNvSpPr/>
          <p:nvPr/>
        </p:nvSpPr>
        <p:spPr>
          <a:xfrm>
            <a:off x="7715160" y="314316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3 CuadroTexto"/>
          <p:cNvSpPr/>
          <p:nvPr/>
        </p:nvSpPr>
        <p:spPr>
          <a:xfrm>
            <a:off x="8143920" y="2857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25 Conector recto"/>
          <p:cNvSpPr/>
          <p:nvPr/>
        </p:nvSpPr>
        <p:spPr>
          <a:xfrm flipV="1">
            <a:off x="7715160" y="264276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7 Conector recto"/>
          <p:cNvSpPr/>
          <p:nvPr/>
        </p:nvSpPr>
        <p:spPr>
          <a:xfrm flipV="1">
            <a:off x="6572160" y="499680"/>
            <a:ext cx="1285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28 CuadroTexto"/>
          <p:cNvSpPr/>
          <p:nvPr/>
        </p:nvSpPr>
        <p:spPr>
          <a:xfrm>
            <a:off x="7143840" y="1214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cto metálico o de hormigón generalmente de sección rectangular que va anclado directamente al ce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 el tramo de unión entre la chimenea y los demás elementos del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fondo del socucho tiene una inclinación tal que permita el escurrimiento gravitacional del mineral, desde la chimenea a la tol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leva planchas de desg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02:45Z</dcterms:created>
  <dc:creator>Raul Castro</dc:creator>
  <dc:description/>
  <dc:language>en-US</dc:language>
  <cp:lastModifiedBy>Raul Castro</cp:lastModifiedBy>
  <dcterms:modified xsi:type="dcterms:W3CDTF">2007-08-30T13:27:43Z</dcterms:modified>
  <cp:revision>11</cp:revision>
  <dc:subject/>
  <dc:title>Diseño de Buzones</dc:title>
</cp:coreProperties>
</file>