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52D6D-9CB8-47AE-AEB5-2EEB36904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8B49E-69F3-4E21-BDC4-D256F546F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9CE51-DE95-4E0E-BEE4-CFF7CDB89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3B59B-2706-4ED1-A7E1-171DA463E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E00C8-1941-4665-9C45-FD3356350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8F388-FEE0-4ECD-A65F-435AD779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578E-F9E9-4035-95C8-5E94E6F64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9264-6DEA-4C63-8267-54E1CD89B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6253A-EBC7-4012-AFAF-C11F9C504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47404-DC88-43C0-9BF0-F14A143C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53FF-E16F-4B57-B741-55877EB9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24AE-2A68-4CF7-8F56-D7841586B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BB2C-7C26-4855-8100-3B8B0A48E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finiciones Básicas Introducción a Carguío y Transporte en minería subterránea</a:t>
            </a:r>
            <a:endParaRPr b="0" lang="en-US" sz="3200" spc="-1" strike="noStrike">
              <a:solidFill>
                <a:srgbClr val="000000"/>
              </a:solidFill>
              <a:latin typeface="Arial"/>
            </a:endParaRPr>
          </a:p>
        </p:txBody>
      </p:sp>
      <p:sp>
        <p:nvSpPr>
          <p:cNvPr id="42" name=""/>
          <p:cNvSpPr/>
          <p:nvPr/>
        </p:nvSpPr>
        <p:spPr>
          <a:xfrm>
            <a:off x="4500720" y="537372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47"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49" name="" descr=""/>
          <p:cNvPicPr/>
          <p:nvPr/>
        </p:nvPicPr>
        <p:blipFill>
          <a:blip r:embed="rId1"/>
          <a:srcRect l="42945" t="26580" r="20118" b="30586"/>
          <a:stretch/>
        </p:blipFill>
        <p:spPr>
          <a:xfrm>
            <a:off x="1692360" y="1700280"/>
            <a:ext cx="6408720" cy="4645080"/>
          </a:xfrm>
          <a:prstGeom prst="rect">
            <a:avLst/>
          </a:prstGeom>
          <a:ln w="0">
            <a:noFill/>
          </a:ln>
        </p:spPr>
      </p:pic>
      <p:sp>
        <p:nvSpPr>
          <p:cNvPr id="150"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51"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47640" y="981000"/>
            <a:ext cx="5683320" cy="5643720"/>
          </a:xfrm>
          <a:prstGeom prst="rect">
            <a:avLst/>
          </a:prstGeom>
          <a:ln w="0">
            <a:noFill/>
          </a:ln>
        </p:spPr>
      </p:pic>
      <p:sp>
        <p:nvSpPr>
          <p:cNvPr id="153"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55" name=""/>
          <p:cNvGrpSpPr/>
          <p:nvPr/>
        </p:nvGrpSpPr>
        <p:grpSpPr>
          <a:xfrm>
            <a:off x="5491080" y="2408400"/>
            <a:ext cx="641520" cy="1830240"/>
            <a:chOff x="5491080" y="2408400"/>
            <a:chExt cx="641520" cy="1830240"/>
          </a:xfrm>
        </p:grpSpPr>
        <p:grpSp>
          <p:nvGrpSpPr>
            <p:cNvPr id="156" name=""/>
            <p:cNvGrpSpPr/>
            <p:nvPr/>
          </p:nvGrpSpPr>
          <p:grpSpPr>
            <a:xfrm>
              <a:off x="5491080" y="2408400"/>
              <a:ext cx="641520" cy="1830240"/>
              <a:chOff x="5491080" y="2408400"/>
              <a:chExt cx="641520" cy="1830240"/>
            </a:xfrm>
          </p:grpSpPr>
          <p:sp>
            <p:nvSpPr>
              <p:cNvPr id="157"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60" name=""/>
          <p:cNvGrpSpPr/>
          <p:nvPr/>
        </p:nvGrpSpPr>
        <p:grpSpPr>
          <a:xfrm>
            <a:off x="3936960" y="2408400"/>
            <a:ext cx="1281240" cy="823680"/>
            <a:chOff x="3936960" y="2408400"/>
            <a:chExt cx="1281240" cy="823680"/>
          </a:xfrm>
        </p:grpSpPr>
        <p:sp>
          <p:nvSpPr>
            <p:cNvPr id="161"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65" name=""/>
          <p:cNvGrpSpPr/>
          <p:nvPr/>
        </p:nvGrpSpPr>
        <p:grpSpPr>
          <a:xfrm>
            <a:off x="826920" y="2408400"/>
            <a:ext cx="3476880" cy="2195280"/>
            <a:chOff x="826920" y="2408400"/>
            <a:chExt cx="3476880" cy="2195280"/>
          </a:xfrm>
        </p:grpSpPr>
        <p:sp>
          <p:nvSpPr>
            <p:cNvPr id="166"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194"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198"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199"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Forma de galerías</a:t>
            </a:r>
            <a:endParaRPr b="0" lang="en-US" sz="4400" spc="-1" strike="noStrike">
              <a:solidFill>
                <a:srgbClr val="000000"/>
              </a:solidFill>
              <a:latin typeface="Arial"/>
            </a:endParaRPr>
          </a:p>
        </p:txBody>
      </p:sp>
      <p:sp>
        <p:nvSpPr>
          <p:cNvPr id="202"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06"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07"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08"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10"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11"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19"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20"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23"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25" name=""/>
          <p:cNvGrpSpPr/>
          <p:nvPr/>
        </p:nvGrpSpPr>
        <p:grpSpPr>
          <a:xfrm>
            <a:off x="324000" y="2221920"/>
            <a:ext cx="2615400" cy="1259280"/>
            <a:chOff x="324000" y="2221920"/>
            <a:chExt cx="2615400" cy="1259280"/>
          </a:xfrm>
        </p:grpSpPr>
        <p:sp>
          <p:nvSpPr>
            <p:cNvPr id="226"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32" name=""/>
          <p:cNvGrpSpPr/>
          <p:nvPr/>
        </p:nvGrpSpPr>
        <p:grpSpPr>
          <a:xfrm>
            <a:off x="3933720" y="1888200"/>
            <a:ext cx="1885680" cy="1910880"/>
            <a:chOff x="3933720" y="1888200"/>
            <a:chExt cx="1885680" cy="1910880"/>
          </a:xfrm>
        </p:grpSpPr>
        <p:sp>
          <p:nvSpPr>
            <p:cNvPr id="233"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40" name=""/>
          <p:cNvGrpSpPr/>
          <p:nvPr/>
        </p:nvGrpSpPr>
        <p:grpSpPr>
          <a:xfrm>
            <a:off x="493920" y="3367800"/>
            <a:ext cx="4998600" cy="2668680"/>
            <a:chOff x="493920" y="3367800"/>
            <a:chExt cx="4998600" cy="2668680"/>
          </a:xfrm>
        </p:grpSpPr>
        <p:sp>
          <p:nvSpPr>
            <p:cNvPr id="241"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52"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54" name=""/>
          <p:cNvGrpSpPr/>
          <p:nvPr/>
        </p:nvGrpSpPr>
        <p:grpSpPr>
          <a:xfrm>
            <a:off x="900000" y="1341360"/>
            <a:ext cx="4778640" cy="2193840"/>
            <a:chOff x="900000" y="1341360"/>
            <a:chExt cx="4778640" cy="2193840"/>
          </a:xfrm>
        </p:grpSpPr>
        <p:sp>
          <p:nvSpPr>
            <p:cNvPr id="255"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59"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3"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89"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2"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294" name=""/>
          <p:cNvGrpSpPr/>
          <p:nvPr/>
        </p:nvGrpSpPr>
        <p:grpSpPr>
          <a:xfrm>
            <a:off x="1042920" y="4221000"/>
            <a:ext cx="4687560" cy="2194200"/>
            <a:chOff x="1042920" y="4221000"/>
            <a:chExt cx="4687560" cy="2194200"/>
          </a:xfrm>
        </p:grpSpPr>
        <p:sp>
          <p:nvSpPr>
            <p:cNvPr id="295"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98"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6"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21"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5"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26"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29" name=""/>
          <p:cNvGrpSpPr/>
          <p:nvPr/>
        </p:nvGrpSpPr>
        <p:grpSpPr>
          <a:xfrm>
            <a:off x="2252520" y="5560920"/>
            <a:ext cx="2971080" cy="496800"/>
            <a:chOff x="2252520" y="5560920"/>
            <a:chExt cx="2971080" cy="496800"/>
          </a:xfrm>
        </p:grpSpPr>
        <p:grpSp>
          <p:nvGrpSpPr>
            <p:cNvPr id="330" name=""/>
            <p:cNvGrpSpPr/>
            <p:nvPr/>
          </p:nvGrpSpPr>
          <p:grpSpPr>
            <a:xfrm>
              <a:off x="2252520" y="5690520"/>
              <a:ext cx="1546920" cy="367200"/>
              <a:chOff x="2252520" y="5690520"/>
              <a:chExt cx="1546920" cy="367200"/>
            </a:xfrm>
          </p:grpSpPr>
          <p:sp>
            <p:nvSpPr>
              <p:cNvPr id="331"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2"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43" name=""/>
            <p:cNvGrpSpPr/>
            <p:nvPr/>
          </p:nvGrpSpPr>
          <p:grpSpPr>
            <a:xfrm>
              <a:off x="3676680" y="5560920"/>
              <a:ext cx="1546920" cy="367560"/>
              <a:chOff x="3676680" y="5560920"/>
              <a:chExt cx="1546920" cy="367560"/>
            </a:xfrm>
          </p:grpSpPr>
          <p:sp>
            <p:nvSpPr>
              <p:cNvPr id="344"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5"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56" name=""/>
          <p:cNvGrpSpPr/>
          <p:nvPr/>
        </p:nvGrpSpPr>
        <p:grpSpPr>
          <a:xfrm>
            <a:off x="2050920" y="1197000"/>
            <a:ext cx="3912840" cy="3313800"/>
            <a:chOff x="2050920" y="1197000"/>
            <a:chExt cx="3912840" cy="3313800"/>
          </a:xfrm>
        </p:grpSpPr>
        <p:grpSp>
          <p:nvGrpSpPr>
            <p:cNvPr id="357" name=""/>
            <p:cNvGrpSpPr/>
            <p:nvPr/>
          </p:nvGrpSpPr>
          <p:grpSpPr>
            <a:xfrm>
              <a:off x="2050920" y="1197000"/>
              <a:ext cx="3240000" cy="1656720"/>
              <a:chOff x="2050920" y="1197000"/>
              <a:chExt cx="3240000" cy="1656720"/>
            </a:xfrm>
          </p:grpSpPr>
          <p:sp>
            <p:nvSpPr>
              <p:cNvPr id="358"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2319840" y="1456200"/>
                <a:ext cx="120600" cy="237240"/>
                <a:chOff x="2319840" y="1456200"/>
                <a:chExt cx="120600" cy="237240"/>
              </a:xfrm>
            </p:grpSpPr>
            <p:sp>
              <p:nvSpPr>
                <p:cNvPr id="367"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70"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0"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6"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3059640" y="2312280"/>
                <a:ext cx="941760" cy="541080"/>
                <a:chOff x="3059640" y="2312280"/>
                <a:chExt cx="941760" cy="541080"/>
              </a:xfrm>
            </p:grpSpPr>
            <p:sp>
              <p:nvSpPr>
                <p:cNvPr id="399"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50920" y="2389680"/>
              <a:ext cx="3912840" cy="2121120"/>
              <a:chOff x="2050920" y="2389680"/>
              <a:chExt cx="3912840" cy="2121120"/>
            </a:xfrm>
          </p:grpSpPr>
          <p:sp>
            <p:nvSpPr>
              <p:cNvPr id="405"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5"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7"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1"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2"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3"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8"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9"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1"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4"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5"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7" name=""/>
          <p:cNvGrpSpPr/>
          <p:nvPr/>
        </p:nvGrpSpPr>
        <p:grpSpPr>
          <a:xfrm>
            <a:off x="3397320" y="4775040"/>
            <a:ext cx="2476080" cy="400320"/>
            <a:chOff x="3397320" y="4775040"/>
            <a:chExt cx="2476080" cy="400320"/>
          </a:xfrm>
        </p:grpSpPr>
        <p:grpSp>
          <p:nvGrpSpPr>
            <p:cNvPr id="468" name=""/>
            <p:cNvGrpSpPr/>
            <p:nvPr/>
          </p:nvGrpSpPr>
          <p:grpSpPr>
            <a:xfrm>
              <a:off x="3397320" y="4943160"/>
              <a:ext cx="873720" cy="232200"/>
              <a:chOff x="3397320" y="4943160"/>
              <a:chExt cx="873720" cy="232200"/>
            </a:xfrm>
          </p:grpSpPr>
          <p:sp>
            <p:nvSpPr>
              <p:cNvPr id="469"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2"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3"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0"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1" name=""/>
            <p:cNvGrpSpPr/>
            <p:nvPr/>
          </p:nvGrpSpPr>
          <p:grpSpPr>
            <a:xfrm>
              <a:off x="4198320" y="4858920"/>
              <a:ext cx="873720" cy="232200"/>
              <a:chOff x="4198320" y="4858920"/>
              <a:chExt cx="873720" cy="232200"/>
            </a:xfrm>
          </p:grpSpPr>
          <p:sp>
            <p:nvSpPr>
              <p:cNvPr id="482"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5"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7"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4" name=""/>
            <p:cNvGrpSpPr/>
            <p:nvPr/>
          </p:nvGrpSpPr>
          <p:grpSpPr>
            <a:xfrm>
              <a:off x="4999680" y="4775040"/>
              <a:ext cx="873720" cy="232200"/>
              <a:chOff x="4999680" y="4775040"/>
              <a:chExt cx="873720" cy="232200"/>
            </a:xfrm>
          </p:grpSpPr>
          <p:sp>
            <p:nvSpPr>
              <p:cNvPr id="495"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0"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6"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07" name=""/>
          <p:cNvGrpSpPr/>
          <p:nvPr/>
        </p:nvGrpSpPr>
        <p:grpSpPr>
          <a:xfrm>
            <a:off x="2050920" y="4181400"/>
            <a:ext cx="538200" cy="1650960"/>
            <a:chOff x="2050920" y="4181400"/>
            <a:chExt cx="538200" cy="1650960"/>
          </a:xfrm>
        </p:grpSpPr>
        <p:sp>
          <p:nvSpPr>
            <p:cNvPr id="508"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0"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2"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5"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24" name=""/>
            <p:cNvGrpSpPr/>
            <p:nvPr/>
          </p:nvGrpSpPr>
          <p:grpSpPr>
            <a:xfrm>
              <a:off x="2050920" y="4515120"/>
              <a:ext cx="284760" cy="142920"/>
              <a:chOff x="2050920" y="4515120"/>
              <a:chExt cx="284760" cy="142920"/>
            </a:xfrm>
          </p:grpSpPr>
          <p:grpSp>
            <p:nvGrpSpPr>
              <p:cNvPr id="525" name=""/>
              <p:cNvGrpSpPr/>
              <p:nvPr/>
            </p:nvGrpSpPr>
            <p:grpSpPr>
              <a:xfrm>
                <a:off x="2050920" y="4572360"/>
                <a:ext cx="181080" cy="85680"/>
                <a:chOff x="2050920" y="4572360"/>
                <a:chExt cx="181080" cy="85680"/>
              </a:xfrm>
            </p:grpSpPr>
            <p:sp>
              <p:nvSpPr>
                <p:cNvPr id="526"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28"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4"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5"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03720" y="5730840"/>
            <a:ext cx="270000" cy="217440"/>
            <a:chOff x="4203720" y="5730840"/>
            <a:chExt cx="270000" cy="217440"/>
          </a:xfrm>
        </p:grpSpPr>
        <p:sp>
          <p:nvSpPr>
            <p:cNvPr id="540"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1"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2"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4203720" y="4246560"/>
            <a:ext cx="270000" cy="216000"/>
            <a:chOff x="4203720" y="4246560"/>
            <a:chExt cx="270000" cy="216000"/>
          </a:xfrm>
        </p:grpSpPr>
        <p:sp>
          <p:nvSpPr>
            <p:cNvPr id="547"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9"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5"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57"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60"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3"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71"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72"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73"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74"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75"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76"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77"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78"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79"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81" name=""/>
          <p:cNvGrpSpPr/>
          <p:nvPr/>
        </p:nvGrpSpPr>
        <p:grpSpPr>
          <a:xfrm>
            <a:off x="1116000" y="1197000"/>
            <a:ext cx="2075040" cy="3336840"/>
            <a:chOff x="1116000" y="1197000"/>
            <a:chExt cx="2075040" cy="3336840"/>
          </a:xfrm>
        </p:grpSpPr>
        <p:grpSp>
          <p:nvGrpSpPr>
            <p:cNvPr id="582" name=""/>
            <p:cNvGrpSpPr/>
            <p:nvPr/>
          </p:nvGrpSpPr>
          <p:grpSpPr>
            <a:xfrm>
              <a:off x="1116000" y="1197000"/>
              <a:ext cx="1400400" cy="3336840"/>
              <a:chOff x="1116000" y="1197000"/>
              <a:chExt cx="1400400" cy="3336840"/>
            </a:xfrm>
          </p:grpSpPr>
          <p:sp>
            <p:nvSpPr>
              <p:cNvPr id="583"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9"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90"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116000" y="1871640"/>
                <a:ext cx="740520" cy="289440"/>
                <a:chOff x="1116000" y="1871640"/>
                <a:chExt cx="740520" cy="289440"/>
              </a:xfrm>
            </p:grpSpPr>
            <p:grpSp>
              <p:nvGrpSpPr>
                <p:cNvPr id="600" name=""/>
                <p:cNvGrpSpPr/>
                <p:nvPr/>
              </p:nvGrpSpPr>
              <p:grpSpPr>
                <a:xfrm>
                  <a:off x="1116000" y="1987560"/>
                  <a:ext cx="471240" cy="173160"/>
                  <a:chOff x="1116000" y="1987560"/>
                  <a:chExt cx="471240" cy="173160"/>
                </a:xfrm>
              </p:grpSpPr>
              <p:sp>
                <p:nvSpPr>
                  <p:cNvPr id="601"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03"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06"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07"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4211640" y="1628640"/>
            <a:ext cx="4238640" cy="2691000"/>
            <a:chOff x="4211640" y="1628640"/>
            <a:chExt cx="4238640" cy="2691000"/>
          </a:xfrm>
        </p:grpSpPr>
        <p:sp>
          <p:nvSpPr>
            <p:cNvPr id="609"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1"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15" name=""/>
            <p:cNvGrpSpPr/>
            <p:nvPr/>
          </p:nvGrpSpPr>
          <p:grpSpPr>
            <a:xfrm>
              <a:off x="5608080" y="2723040"/>
              <a:ext cx="500040" cy="849240"/>
              <a:chOff x="5608080" y="2723040"/>
              <a:chExt cx="500040" cy="849240"/>
            </a:xfrm>
          </p:grpSpPr>
          <p:grpSp>
            <p:nvGrpSpPr>
              <p:cNvPr id="616" name=""/>
              <p:cNvGrpSpPr/>
              <p:nvPr/>
            </p:nvGrpSpPr>
            <p:grpSpPr>
              <a:xfrm>
                <a:off x="5608080" y="2723040"/>
                <a:ext cx="500040" cy="282600"/>
                <a:chOff x="5608080" y="2723040"/>
                <a:chExt cx="500040" cy="282600"/>
              </a:xfrm>
            </p:grpSpPr>
            <p:sp>
              <p:nvSpPr>
                <p:cNvPr id="617"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5608080" y="3006360"/>
                <a:ext cx="500040" cy="282600"/>
                <a:chOff x="5608080" y="3006360"/>
                <a:chExt cx="500040" cy="282600"/>
              </a:xfrm>
            </p:grpSpPr>
            <p:sp>
              <p:nvSpPr>
                <p:cNvPr id="622"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5608080" y="3289680"/>
                <a:ext cx="500040" cy="282600"/>
                <a:chOff x="5608080" y="3289680"/>
                <a:chExt cx="500040" cy="282600"/>
              </a:xfrm>
            </p:grpSpPr>
            <p:sp>
              <p:nvSpPr>
                <p:cNvPr id="627"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1" name=""/>
            <p:cNvGrpSpPr/>
            <p:nvPr/>
          </p:nvGrpSpPr>
          <p:grpSpPr>
            <a:xfrm>
              <a:off x="5608080" y="3561840"/>
              <a:ext cx="500040" cy="282600"/>
              <a:chOff x="5608080" y="3561840"/>
              <a:chExt cx="500040" cy="282600"/>
            </a:xfrm>
          </p:grpSpPr>
          <p:sp>
            <p:nvSpPr>
              <p:cNvPr id="632"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54"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59"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60"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62" name=""/>
          <p:cNvGrpSpPr/>
          <p:nvPr/>
        </p:nvGrpSpPr>
        <p:grpSpPr>
          <a:xfrm>
            <a:off x="756360" y="1557360"/>
            <a:ext cx="4943520" cy="4010760"/>
            <a:chOff x="756360" y="1557360"/>
            <a:chExt cx="4943520" cy="4010760"/>
          </a:xfrm>
        </p:grpSpPr>
        <p:grpSp>
          <p:nvGrpSpPr>
            <p:cNvPr id="663" name=""/>
            <p:cNvGrpSpPr/>
            <p:nvPr/>
          </p:nvGrpSpPr>
          <p:grpSpPr>
            <a:xfrm>
              <a:off x="3382560" y="2729520"/>
              <a:ext cx="1114920" cy="1569960"/>
              <a:chOff x="3382560" y="2729520"/>
              <a:chExt cx="1114920" cy="1569960"/>
            </a:xfrm>
          </p:grpSpPr>
          <p:sp>
            <p:nvSpPr>
              <p:cNvPr id="664"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5"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6"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69" name=""/>
            <p:cNvGrpSpPr/>
            <p:nvPr/>
          </p:nvGrpSpPr>
          <p:grpSpPr>
            <a:xfrm>
              <a:off x="756360" y="1557360"/>
              <a:ext cx="4943520" cy="4010760"/>
              <a:chOff x="756360" y="1557360"/>
              <a:chExt cx="4943520" cy="4010760"/>
            </a:xfrm>
          </p:grpSpPr>
          <p:sp>
            <p:nvSpPr>
              <p:cNvPr id="670"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1"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72" name=""/>
              <p:cNvGrpSpPr/>
              <p:nvPr/>
            </p:nvGrpSpPr>
            <p:grpSpPr>
              <a:xfrm>
                <a:off x="776880" y="4780800"/>
                <a:ext cx="4923000" cy="787320"/>
                <a:chOff x="776880" y="4780800"/>
                <a:chExt cx="4923000" cy="787320"/>
              </a:xfrm>
            </p:grpSpPr>
            <p:grpSp>
              <p:nvGrpSpPr>
                <p:cNvPr id="673" name=""/>
                <p:cNvGrpSpPr/>
                <p:nvPr/>
              </p:nvGrpSpPr>
              <p:grpSpPr>
                <a:xfrm>
                  <a:off x="776880" y="4780800"/>
                  <a:ext cx="4373640" cy="704160"/>
                  <a:chOff x="776880" y="4780800"/>
                  <a:chExt cx="4373640" cy="704160"/>
                </a:xfrm>
              </p:grpSpPr>
              <p:sp>
                <p:nvSpPr>
                  <p:cNvPr id="674"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5"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6"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7"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8"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00" name=""/>
              <p:cNvGrpSpPr/>
              <p:nvPr/>
            </p:nvGrpSpPr>
            <p:grpSpPr>
              <a:xfrm>
                <a:off x="756360" y="1684080"/>
                <a:ext cx="1612080" cy="3492720"/>
                <a:chOff x="756360" y="1684080"/>
                <a:chExt cx="1612080" cy="3492720"/>
              </a:xfrm>
            </p:grpSpPr>
            <p:grpSp>
              <p:nvGrpSpPr>
                <p:cNvPr id="701" name=""/>
                <p:cNvGrpSpPr/>
                <p:nvPr/>
              </p:nvGrpSpPr>
              <p:grpSpPr>
                <a:xfrm>
                  <a:off x="1747080" y="1684080"/>
                  <a:ext cx="621360" cy="1366200"/>
                  <a:chOff x="1747080" y="1684080"/>
                  <a:chExt cx="621360" cy="1366200"/>
                </a:xfrm>
              </p:grpSpPr>
              <p:sp>
                <p:nvSpPr>
                  <p:cNvPr id="702"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3"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5"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8"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2159280" y="1743120"/>
                    <a:ext cx="209160" cy="88920"/>
                    <a:chOff x="2159280" y="1743120"/>
                    <a:chExt cx="209160" cy="88920"/>
                  </a:xfrm>
                </p:grpSpPr>
                <p:sp>
                  <p:nvSpPr>
                    <p:cNvPr id="716"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17"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18"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160640" y="4366080"/>
                  <a:ext cx="496080" cy="810720"/>
                  <a:chOff x="1160640" y="4366080"/>
                  <a:chExt cx="496080" cy="810720"/>
                </a:xfrm>
              </p:grpSpPr>
              <p:sp>
                <p:nvSpPr>
                  <p:cNvPr id="722"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4"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6"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7"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756360" y="1684080"/>
                  <a:ext cx="621360" cy="1366200"/>
                  <a:chOff x="756360" y="1684080"/>
                  <a:chExt cx="621360" cy="1366200"/>
                </a:xfrm>
              </p:grpSpPr>
              <p:sp>
                <p:nvSpPr>
                  <p:cNvPr id="733"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4"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6"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8"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39"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756360" y="1743120"/>
                    <a:ext cx="209160" cy="88920"/>
                    <a:chOff x="756360" y="1743120"/>
                    <a:chExt cx="209160" cy="88920"/>
                  </a:xfrm>
                </p:grpSpPr>
                <p:sp>
                  <p:nvSpPr>
                    <p:cNvPr id="747"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8"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49"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3"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4"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57"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60" name=""/>
              <p:cNvGrpSpPr/>
              <p:nvPr/>
            </p:nvGrpSpPr>
            <p:grpSpPr>
              <a:xfrm>
                <a:off x="3257280" y="1557360"/>
                <a:ext cx="1428120" cy="3432960"/>
                <a:chOff x="3257280" y="1557360"/>
                <a:chExt cx="1428120" cy="3432960"/>
              </a:xfrm>
            </p:grpSpPr>
            <p:grpSp>
              <p:nvGrpSpPr>
                <p:cNvPr id="761" name=""/>
                <p:cNvGrpSpPr/>
                <p:nvPr/>
              </p:nvGrpSpPr>
              <p:grpSpPr>
                <a:xfrm>
                  <a:off x="4063320" y="1557360"/>
                  <a:ext cx="622080" cy="1397160"/>
                  <a:chOff x="4063320" y="1557360"/>
                  <a:chExt cx="622080" cy="1397160"/>
                </a:xfrm>
              </p:grpSpPr>
              <p:sp>
                <p:nvSpPr>
                  <p:cNvPr id="762"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3"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5"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7"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8"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4475880" y="1616400"/>
                    <a:ext cx="209520" cy="88920"/>
                    <a:chOff x="4475880" y="1616400"/>
                    <a:chExt cx="209520" cy="88920"/>
                  </a:xfrm>
                </p:grpSpPr>
                <p:sp>
                  <p:nvSpPr>
                    <p:cNvPr id="776"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77"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8"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257280" y="4179600"/>
                  <a:ext cx="496080" cy="810720"/>
                  <a:chOff x="3257280" y="4179600"/>
                  <a:chExt cx="496080" cy="810720"/>
                </a:xfrm>
              </p:grpSpPr>
              <p:sp>
                <p:nvSpPr>
                  <p:cNvPr id="782"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84"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6"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7"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2"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00"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1"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02"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04" name=""/>
          <p:cNvGrpSpPr/>
          <p:nvPr/>
        </p:nvGrpSpPr>
        <p:grpSpPr>
          <a:xfrm>
            <a:off x="755640" y="2725560"/>
            <a:ext cx="5500800" cy="2732400"/>
            <a:chOff x="755640" y="2725560"/>
            <a:chExt cx="5500800" cy="2732400"/>
          </a:xfrm>
        </p:grpSpPr>
        <p:grpSp>
          <p:nvGrpSpPr>
            <p:cNvPr id="805" name=""/>
            <p:cNvGrpSpPr/>
            <p:nvPr/>
          </p:nvGrpSpPr>
          <p:grpSpPr>
            <a:xfrm>
              <a:off x="2012760" y="2725560"/>
              <a:ext cx="1165320" cy="682200"/>
              <a:chOff x="2012760" y="2725560"/>
              <a:chExt cx="1165320" cy="682200"/>
            </a:xfrm>
          </p:grpSpPr>
          <p:sp>
            <p:nvSpPr>
              <p:cNvPr id="806"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09"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0"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2"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3"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4"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16"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7"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0"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1"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22"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3"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7"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29" name=""/>
            <p:cNvGrpSpPr/>
            <p:nvPr/>
          </p:nvGrpSpPr>
          <p:grpSpPr>
            <a:xfrm>
              <a:off x="3498120" y="2842920"/>
              <a:ext cx="1164600" cy="682920"/>
              <a:chOff x="3498120" y="2842920"/>
              <a:chExt cx="1164600" cy="682920"/>
            </a:xfrm>
          </p:grpSpPr>
          <p:sp>
            <p:nvSpPr>
              <p:cNvPr id="830"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3"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5"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6"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8"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9"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0"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2"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3"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4"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45"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6"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0"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2"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53" name=""/>
            <p:cNvGrpSpPr/>
            <p:nvPr/>
          </p:nvGrpSpPr>
          <p:grpSpPr>
            <a:xfrm>
              <a:off x="2251440" y="3305520"/>
              <a:ext cx="1165320" cy="682200"/>
              <a:chOff x="2251440" y="3305520"/>
              <a:chExt cx="1165320" cy="682200"/>
            </a:xfrm>
          </p:grpSpPr>
          <p:sp>
            <p:nvSpPr>
              <p:cNvPr id="854"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7"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8"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9"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0"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1"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62"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3"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4"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5"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6"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8"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9"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70"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1"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2"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4"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5"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6"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77" name=""/>
            <p:cNvGrpSpPr/>
            <p:nvPr/>
          </p:nvGrpSpPr>
          <p:grpSpPr>
            <a:xfrm>
              <a:off x="5091120" y="2919600"/>
              <a:ext cx="1165320" cy="1212480"/>
              <a:chOff x="5091120" y="2919600"/>
              <a:chExt cx="1165320" cy="1212480"/>
            </a:xfrm>
          </p:grpSpPr>
          <p:sp>
            <p:nvSpPr>
              <p:cNvPr id="878"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1"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82" name=""/>
              <p:cNvGrpSpPr/>
              <p:nvPr/>
            </p:nvGrpSpPr>
            <p:grpSpPr>
              <a:xfrm>
                <a:off x="5131800" y="3245040"/>
                <a:ext cx="1077120" cy="307800"/>
                <a:chOff x="5131800" y="3245040"/>
                <a:chExt cx="1077120" cy="307800"/>
              </a:xfrm>
            </p:grpSpPr>
            <p:sp>
              <p:nvSpPr>
                <p:cNvPr id="883"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4"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85"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86"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7"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88"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9"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0"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1"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2"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5"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6"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7"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1"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2" name=""/>
              <p:cNvGrpSpPr/>
              <p:nvPr/>
            </p:nvGrpSpPr>
            <p:grpSpPr>
              <a:xfrm>
                <a:off x="5122080" y="3415680"/>
                <a:ext cx="1077120" cy="307800"/>
                <a:chOff x="5122080" y="3415680"/>
                <a:chExt cx="1077120" cy="307800"/>
              </a:xfrm>
            </p:grpSpPr>
            <p:sp>
              <p:nvSpPr>
                <p:cNvPr id="903"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4"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5"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8"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10"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3"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4"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5"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6"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0"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2" name=""/>
              <p:cNvGrpSpPr/>
              <p:nvPr/>
            </p:nvGrpSpPr>
            <p:grpSpPr>
              <a:xfrm>
                <a:off x="5120280" y="3701160"/>
                <a:ext cx="1077120" cy="307800"/>
                <a:chOff x="5120280" y="3701160"/>
                <a:chExt cx="1077120" cy="307800"/>
              </a:xfrm>
            </p:grpSpPr>
            <p:sp>
              <p:nvSpPr>
                <p:cNvPr id="923"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4"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5"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6"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7"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8"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0"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2"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33"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4"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5"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9"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1"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42" name=""/>
            <p:cNvGrpSpPr/>
            <p:nvPr/>
          </p:nvGrpSpPr>
          <p:grpSpPr>
            <a:xfrm>
              <a:off x="4546440" y="3512880"/>
              <a:ext cx="895320" cy="912240"/>
              <a:chOff x="4546440" y="3512880"/>
              <a:chExt cx="895320" cy="912240"/>
            </a:xfrm>
          </p:grpSpPr>
          <p:sp>
            <p:nvSpPr>
              <p:cNvPr id="943"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901680" y="3525840"/>
              <a:ext cx="1176840" cy="1267560"/>
              <a:chOff x="3901680" y="3525840"/>
              <a:chExt cx="1176840" cy="1267560"/>
            </a:xfrm>
          </p:grpSpPr>
          <p:sp>
            <p:nvSpPr>
              <p:cNvPr id="946"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9"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50" name=""/>
              <p:cNvGrpSpPr/>
              <p:nvPr/>
            </p:nvGrpSpPr>
            <p:grpSpPr>
              <a:xfrm>
                <a:off x="3942720" y="3866040"/>
                <a:ext cx="1087920" cy="321480"/>
                <a:chOff x="3942720" y="3866040"/>
                <a:chExt cx="1087920" cy="321480"/>
              </a:xfrm>
            </p:grpSpPr>
            <p:sp>
              <p:nvSpPr>
                <p:cNvPr id="951"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2"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3"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55"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6"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7"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8"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9"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1"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62"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3"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4"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70" name=""/>
              <p:cNvGrpSpPr/>
              <p:nvPr/>
            </p:nvGrpSpPr>
            <p:grpSpPr>
              <a:xfrm>
                <a:off x="3933000" y="4044240"/>
                <a:ext cx="1087560" cy="321480"/>
                <a:chOff x="3933000" y="4044240"/>
                <a:chExt cx="1087560" cy="321480"/>
              </a:xfrm>
            </p:grpSpPr>
            <p:sp>
              <p:nvSpPr>
                <p:cNvPr id="971"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3"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4"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5"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6"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7"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2"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3"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4"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7"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8"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90" name=""/>
              <p:cNvGrpSpPr/>
              <p:nvPr/>
            </p:nvGrpSpPr>
            <p:grpSpPr>
              <a:xfrm>
                <a:off x="3930840" y="4343040"/>
                <a:ext cx="1087920" cy="321480"/>
                <a:chOff x="3930840" y="4343040"/>
                <a:chExt cx="1087920" cy="321480"/>
              </a:xfrm>
            </p:grpSpPr>
            <p:sp>
              <p:nvSpPr>
                <p:cNvPr id="991"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2"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3"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5"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7"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8"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0"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1"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02"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7"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8"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10" name=""/>
            <p:cNvGrpSpPr/>
            <p:nvPr/>
          </p:nvGrpSpPr>
          <p:grpSpPr>
            <a:xfrm>
              <a:off x="3347280" y="4156200"/>
              <a:ext cx="895680" cy="912240"/>
              <a:chOff x="3347280" y="4156200"/>
              <a:chExt cx="895680" cy="912240"/>
            </a:xfrm>
          </p:grpSpPr>
          <p:sp>
            <p:nvSpPr>
              <p:cNvPr id="1011"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3"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2641680" y="4190400"/>
              <a:ext cx="1176840" cy="1267560"/>
              <a:chOff x="2641680" y="4190400"/>
              <a:chExt cx="1176840" cy="1267560"/>
            </a:xfrm>
          </p:grpSpPr>
          <p:sp>
            <p:nvSpPr>
              <p:cNvPr id="1015"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8"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19" name=""/>
              <p:cNvGrpSpPr/>
              <p:nvPr/>
            </p:nvGrpSpPr>
            <p:grpSpPr>
              <a:xfrm>
                <a:off x="2682720" y="4530600"/>
                <a:ext cx="1087920" cy="321480"/>
                <a:chOff x="2682720" y="4530600"/>
                <a:chExt cx="1087920" cy="321480"/>
              </a:xfrm>
            </p:grpSpPr>
            <p:sp>
              <p:nvSpPr>
                <p:cNvPr id="1020"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24"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5"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26"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7"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8"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9"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31"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2"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3"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4"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6"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8"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39" name=""/>
              <p:cNvGrpSpPr/>
              <p:nvPr/>
            </p:nvGrpSpPr>
            <p:grpSpPr>
              <a:xfrm>
                <a:off x="2673000" y="4708800"/>
                <a:ext cx="1087560" cy="321480"/>
                <a:chOff x="2673000" y="4708800"/>
                <a:chExt cx="1087560" cy="321480"/>
              </a:xfrm>
            </p:grpSpPr>
            <p:sp>
              <p:nvSpPr>
                <p:cNvPr id="1040"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41"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2"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3"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4"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6"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9"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1"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2"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6"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7"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9" name=""/>
              <p:cNvGrpSpPr/>
              <p:nvPr/>
            </p:nvGrpSpPr>
            <p:grpSpPr>
              <a:xfrm>
                <a:off x="2670840" y="5007600"/>
                <a:ext cx="1087920" cy="321480"/>
                <a:chOff x="2670840" y="5007600"/>
                <a:chExt cx="1087920" cy="321480"/>
              </a:xfrm>
            </p:grpSpPr>
            <p:sp>
              <p:nvSpPr>
                <p:cNvPr id="1060"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1"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2"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3"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4"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6"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7"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9"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0"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71"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2"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73"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6"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8"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79"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914400" y="3897360"/>
              <a:ext cx="1176840" cy="1267560"/>
              <a:chOff x="914400" y="3897360"/>
              <a:chExt cx="1176840" cy="1267560"/>
            </a:xfrm>
          </p:grpSpPr>
          <p:sp>
            <p:nvSpPr>
              <p:cNvPr id="1082"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5"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86" name=""/>
              <p:cNvGrpSpPr/>
              <p:nvPr/>
            </p:nvGrpSpPr>
            <p:grpSpPr>
              <a:xfrm>
                <a:off x="955440" y="4237560"/>
                <a:ext cx="1087920" cy="321480"/>
                <a:chOff x="955440" y="4237560"/>
                <a:chExt cx="1087920" cy="321480"/>
              </a:xfrm>
            </p:grpSpPr>
            <p:sp>
              <p:nvSpPr>
                <p:cNvPr id="1087"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9"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91"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2"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93"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4"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5"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6"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7"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98"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9"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0"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3"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5"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06" name=""/>
              <p:cNvGrpSpPr/>
              <p:nvPr/>
            </p:nvGrpSpPr>
            <p:grpSpPr>
              <a:xfrm>
                <a:off x="945720" y="4415760"/>
                <a:ext cx="1087560" cy="321480"/>
                <a:chOff x="945720" y="4415760"/>
                <a:chExt cx="1087560" cy="321480"/>
              </a:xfrm>
            </p:grpSpPr>
            <p:sp>
              <p:nvSpPr>
                <p:cNvPr id="1107"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8"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9"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0"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2"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3"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4"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7"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8"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0"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3"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4"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6" name=""/>
              <p:cNvGrpSpPr/>
              <p:nvPr/>
            </p:nvGrpSpPr>
            <p:grpSpPr>
              <a:xfrm>
                <a:off x="943560" y="4714560"/>
                <a:ext cx="1087920" cy="321480"/>
                <a:chOff x="943560" y="4714560"/>
                <a:chExt cx="1087920" cy="321480"/>
              </a:xfrm>
            </p:grpSpPr>
            <p:sp>
              <p:nvSpPr>
                <p:cNvPr id="1127"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8"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9"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1"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2"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3"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4"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6"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7"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8"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40"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43"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5"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46" name=""/>
            <p:cNvGrpSpPr/>
            <p:nvPr/>
          </p:nvGrpSpPr>
          <p:grpSpPr>
            <a:xfrm>
              <a:off x="755640" y="3164760"/>
              <a:ext cx="1165320" cy="682920"/>
              <a:chOff x="755640" y="3164760"/>
              <a:chExt cx="1165320" cy="682920"/>
            </a:xfrm>
          </p:grpSpPr>
          <p:sp>
            <p:nvSpPr>
              <p:cNvPr id="1147"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0"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51"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4"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55"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6"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8"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9"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0"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61"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2"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4"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5"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9"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70"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4"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76"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77"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78"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81" name=""/>
          <p:cNvGrpSpPr/>
          <p:nvPr/>
        </p:nvGrpSpPr>
        <p:grpSpPr>
          <a:xfrm>
            <a:off x="684360" y="1413000"/>
            <a:ext cx="5808240" cy="4501800"/>
            <a:chOff x="684360" y="1413000"/>
            <a:chExt cx="5808240" cy="4501800"/>
          </a:xfrm>
        </p:grpSpPr>
        <p:grpSp>
          <p:nvGrpSpPr>
            <p:cNvPr id="1182" name=""/>
            <p:cNvGrpSpPr/>
            <p:nvPr/>
          </p:nvGrpSpPr>
          <p:grpSpPr>
            <a:xfrm>
              <a:off x="684360" y="1413000"/>
              <a:ext cx="5808240" cy="4501800"/>
              <a:chOff x="684360" y="1413000"/>
              <a:chExt cx="5808240" cy="4501800"/>
            </a:xfrm>
          </p:grpSpPr>
          <p:grpSp>
            <p:nvGrpSpPr>
              <p:cNvPr id="1183" name=""/>
              <p:cNvGrpSpPr/>
              <p:nvPr/>
            </p:nvGrpSpPr>
            <p:grpSpPr>
              <a:xfrm>
                <a:off x="684360" y="2013480"/>
                <a:ext cx="5591520" cy="3901320"/>
                <a:chOff x="684360" y="2013480"/>
                <a:chExt cx="5591520" cy="3901320"/>
              </a:xfrm>
            </p:grpSpPr>
            <p:grpSp>
              <p:nvGrpSpPr>
                <p:cNvPr id="1184" name=""/>
                <p:cNvGrpSpPr/>
                <p:nvPr/>
              </p:nvGrpSpPr>
              <p:grpSpPr>
                <a:xfrm>
                  <a:off x="684360" y="2013480"/>
                  <a:ext cx="5591520" cy="3901320"/>
                  <a:chOff x="684360" y="2013480"/>
                  <a:chExt cx="5591520" cy="3901320"/>
                </a:xfrm>
              </p:grpSpPr>
              <p:grpSp>
                <p:nvGrpSpPr>
                  <p:cNvPr id="1185" name=""/>
                  <p:cNvGrpSpPr/>
                  <p:nvPr/>
                </p:nvGrpSpPr>
                <p:grpSpPr>
                  <a:xfrm>
                    <a:off x="684360" y="2013480"/>
                    <a:ext cx="4231080" cy="3901320"/>
                    <a:chOff x="684360" y="2013480"/>
                    <a:chExt cx="4231080" cy="3901320"/>
                  </a:xfrm>
                </p:grpSpPr>
                <p:sp>
                  <p:nvSpPr>
                    <p:cNvPr id="1186"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4"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5"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7"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2718720" y="2081880"/>
                      <a:ext cx="110160" cy="159840"/>
                      <a:chOff x="2718720" y="2081880"/>
                      <a:chExt cx="110160" cy="159840"/>
                    </a:xfrm>
                  </p:grpSpPr>
                  <p:sp>
                    <p:nvSpPr>
                      <p:cNvPr id="1201"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03" name=""/>
                    <p:cNvGrpSpPr/>
                    <p:nvPr/>
                  </p:nvGrpSpPr>
                  <p:grpSpPr>
                    <a:xfrm>
                      <a:off x="3638160" y="2508480"/>
                      <a:ext cx="110160" cy="159840"/>
                      <a:chOff x="3638160" y="2508480"/>
                      <a:chExt cx="110160" cy="159840"/>
                    </a:xfrm>
                  </p:grpSpPr>
                  <p:sp>
                    <p:nvSpPr>
                      <p:cNvPr id="1204"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6"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1316520" y="5094720"/>
                      <a:ext cx="110520" cy="159840"/>
                      <a:chOff x="1316520" y="5094720"/>
                      <a:chExt cx="110520" cy="159840"/>
                    </a:xfrm>
                  </p:grpSpPr>
                  <p:sp>
                    <p:nvSpPr>
                      <p:cNvPr id="1209"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1" name=""/>
                    <p:cNvGrpSpPr/>
                    <p:nvPr/>
                  </p:nvGrpSpPr>
                  <p:grpSpPr>
                    <a:xfrm>
                      <a:off x="2241360" y="5483160"/>
                      <a:ext cx="110160" cy="159840"/>
                      <a:chOff x="2241360" y="5483160"/>
                      <a:chExt cx="110160" cy="159840"/>
                    </a:xfrm>
                  </p:grpSpPr>
                  <p:sp>
                    <p:nvSpPr>
                      <p:cNvPr id="1212"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14"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7"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120120" y="5687640"/>
                      <a:ext cx="357840" cy="227160"/>
                      <a:chOff x="3120120" y="5687640"/>
                      <a:chExt cx="357840" cy="227160"/>
                    </a:xfrm>
                  </p:grpSpPr>
                  <p:sp>
                    <p:nvSpPr>
                      <p:cNvPr id="1229"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3563280" y="5574600"/>
                      <a:ext cx="357840" cy="227160"/>
                      <a:chOff x="3563280" y="5574600"/>
                      <a:chExt cx="357840" cy="227160"/>
                    </a:xfrm>
                  </p:grpSpPr>
                  <p:sp>
                    <p:nvSpPr>
                      <p:cNvPr id="1236"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4021920" y="5463000"/>
                      <a:ext cx="357840" cy="227160"/>
                      <a:chOff x="4021920" y="5463000"/>
                      <a:chExt cx="357840" cy="227160"/>
                    </a:xfrm>
                  </p:grpSpPr>
                  <p:sp>
                    <p:nvSpPr>
                      <p:cNvPr id="1243"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417920" y="5365080"/>
                      <a:ext cx="357840" cy="227160"/>
                      <a:chOff x="4417920" y="5365080"/>
                      <a:chExt cx="357840" cy="227160"/>
                    </a:xfrm>
                  </p:grpSpPr>
                  <p:sp>
                    <p:nvSpPr>
                      <p:cNvPr id="1250"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4607280" y="2930400"/>
                      <a:ext cx="125640" cy="866160"/>
                      <a:chOff x="4607280" y="2930400"/>
                      <a:chExt cx="125640" cy="866160"/>
                    </a:xfrm>
                  </p:grpSpPr>
                  <p:grpSp>
                    <p:nvGrpSpPr>
                      <p:cNvPr id="1257" name=""/>
                      <p:cNvGrpSpPr/>
                      <p:nvPr/>
                    </p:nvGrpSpPr>
                    <p:grpSpPr>
                      <a:xfrm>
                        <a:off x="4622400" y="2930400"/>
                        <a:ext cx="110520" cy="159840"/>
                        <a:chOff x="4622400" y="2930400"/>
                        <a:chExt cx="110520" cy="159840"/>
                      </a:xfrm>
                    </p:grpSpPr>
                    <p:sp>
                      <p:nvSpPr>
                        <p:cNvPr id="1258"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60" name=""/>
                      <p:cNvGrpSpPr/>
                      <p:nvPr/>
                    </p:nvGrpSpPr>
                    <p:grpSpPr>
                      <a:xfrm>
                        <a:off x="4607280" y="3636720"/>
                        <a:ext cx="110520" cy="159840"/>
                        <a:chOff x="4607280" y="3636720"/>
                        <a:chExt cx="110520" cy="159840"/>
                      </a:xfrm>
                    </p:grpSpPr>
                    <p:sp>
                      <p:nvSpPr>
                        <p:cNvPr id="1261"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3" name=""/>
                    <p:cNvGrpSpPr/>
                    <p:nvPr/>
                  </p:nvGrpSpPr>
                  <p:grpSpPr>
                    <a:xfrm>
                      <a:off x="4593240" y="4340160"/>
                      <a:ext cx="110520" cy="159840"/>
                      <a:chOff x="4593240" y="4340160"/>
                      <a:chExt cx="110520" cy="159840"/>
                    </a:xfrm>
                  </p:grpSpPr>
                  <p:sp>
                    <p:nvSpPr>
                      <p:cNvPr id="1264"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66"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67"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74"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4620960" y="3479040"/>
                <a:ext cx="756360" cy="304560"/>
                <a:chOff x="4620960" y="3479040"/>
                <a:chExt cx="756360" cy="304560"/>
              </a:xfrm>
            </p:grpSpPr>
            <p:grpSp>
              <p:nvGrpSpPr>
                <p:cNvPr id="1283" name=""/>
                <p:cNvGrpSpPr/>
                <p:nvPr/>
              </p:nvGrpSpPr>
              <p:grpSpPr>
                <a:xfrm>
                  <a:off x="5267160" y="3489120"/>
                  <a:ext cx="110160" cy="159840"/>
                  <a:chOff x="5267160" y="3489120"/>
                  <a:chExt cx="110160" cy="159840"/>
                </a:xfrm>
              </p:grpSpPr>
              <p:sp>
                <p:nvSpPr>
                  <p:cNvPr id="1284"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86"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27360" y="1639080"/>
                <a:ext cx="2863800" cy="1539000"/>
                <a:chOff x="2727360" y="1639080"/>
                <a:chExt cx="2863800" cy="1539000"/>
              </a:xfrm>
            </p:grpSpPr>
            <p:sp>
              <p:nvSpPr>
                <p:cNvPr id="1292"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2727360" y="1928520"/>
                  <a:ext cx="756360" cy="304560"/>
                  <a:chOff x="2727360" y="1928520"/>
                  <a:chExt cx="756360" cy="304560"/>
                </a:xfrm>
              </p:grpSpPr>
              <p:grpSp>
                <p:nvGrpSpPr>
                  <p:cNvPr id="1297" name=""/>
                  <p:cNvGrpSpPr/>
                  <p:nvPr/>
                </p:nvGrpSpPr>
                <p:grpSpPr>
                  <a:xfrm>
                    <a:off x="3373560" y="1938600"/>
                    <a:ext cx="110160" cy="159840"/>
                    <a:chOff x="3373560" y="1938600"/>
                    <a:chExt cx="110160" cy="159840"/>
                  </a:xfrm>
                </p:grpSpPr>
                <p:sp>
                  <p:nvSpPr>
                    <p:cNvPr id="1298"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0"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651840" y="2351520"/>
                  <a:ext cx="756360" cy="304560"/>
                  <a:chOff x="3651840" y="2351520"/>
                  <a:chExt cx="756360" cy="304560"/>
                </a:xfrm>
              </p:grpSpPr>
              <p:grpSp>
                <p:nvGrpSpPr>
                  <p:cNvPr id="1305" name=""/>
                  <p:cNvGrpSpPr/>
                  <p:nvPr/>
                </p:nvGrpSpPr>
                <p:grpSpPr>
                  <a:xfrm>
                    <a:off x="4298040" y="2361600"/>
                    <a:ext cx="110160" cy="159840"/>
                    <a:chOff x="4298040" y="2361600"/>
                    <a:chExt cx="110160" cy="159840"/>
                  </a:xfrm>
                </p:grpSpPr>
                <p:sp>
                  <p:nvSpPr>
                    <p:cNvPr id="1306"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8"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4636080" y="2773080"/>
                  <a:ext cx="756360" cy="304560"/>
                  <a:chOff x="4636080" y="2773080"/>
                  <a:chExt cx="756360" cy="304560"/>
                </a:xfrm>
              </p:grpSpPr>
              <p:grpSp>
                <p:nvGrpSpPr>
                  <p:cNvPr id="1313" name=""/>
                  <p:cNvGrpSpPr/>
                  <p:nvPr/>
                </p:nvGrpSpPr>
                <p:grpSpPr>
                  <a:xfrm>
                    <a:off x="5282280" y="2783160"/>
                    <a:ext cx="110160" cy="159840"/>
                    <a:chOff x="5282280" y="2783160"/>
                    <a:chExt cx="110160" cy="159840"/>
                  </a:xfrm>
                </p:grpSpPr>
                <p:sp>
                  <p:nvSpPr>
                    <p:cNvPr id="1314"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0"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6"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29"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33" name=""/>
          <p:cNvGrpSpPr/>
          <p:nvPr/>
        </p:nvGrpSpPr>
        <p:grpSpPr>
          <a:xfrm>
            <a:off x="108000" y="2349360"/>
            <a:ext cx="3529080" cy="1508400"/>
            <a:chOff x="108000" y="2349360"/>
            <a:chExt cx="3529080" cy="1508400"/>
          </a:xfrm>
        </p:grpSpPr>
        <p:grpSp>
          <p:nvGrpSpPr>
            <p:cNvPr id="1334" name=""/>
            <p:cNvGrpSpPr/>
            <p:nvPr/>
          </p:nvGrpSpPr>
          <p:grpSpPr>
            <a:xfrm>
              <a:off x="2088000" y="2480760"/>
              <a:ext cx="1081440" cy="595080"/>
              <a:chOff x="2088000" y="2480760"/>
              <a:chExt cx="1081440" cy="595080"/>
            </a:xfrm>
          </p:grpSpPr>
          <p:sp>
            <p:nvSpPr>
              <p:cNvPr id="1335"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
            <p:cNvGrpSpPr/>
            <p:nvPr/>
          </p:nvGrpSpPr>
          <p:grpSpPr>
            <a:xfrm>
              <a:off x="1240200" y="2745360"/>
              <a:ext cx="1083960" cy="597960"/>
              <a:chOff x="1240200" y="2745360"/>
              <a:chExt cx="1083960" cy="597960"/>
            </a:xfrm>
          </p:grpSpPr>
          <p:sp>
            <p:nvSpPr>
              <p:cNvPr id="1341"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11480" y="3004200"/>
              <a:ext cx="1077480" cy="595080"/>
              <a:chOff x="411480" y="3004200"/>
              <a:chExt cx="1077480" cy="595080"/>
            </a:xfrm>
          </p:grpSpPr>
          <p:sp>
            <p:nvSpPr>
              <p:cNvPr id="1347"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4" name=""/>
            <p:cNvGrpSpPr/>
            <p:nvPr/>
          </p:nvGrpSpPr>
          <p:grpSpPr>
            <a:xfrm>
              <a:off x="221040" y="3263400"/>
              <a:ext cx="462600" cy="400680"/>
              <a:chOff x="221040" y="3263400"/>
              <a:chExt cx="462600" cy="400680"/>
            </a:xfrm>
          </p:grpSpPr>
          <p:sp>
            <p:nvSpPr>
              <p:cNvPr id="1355"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2871720" y="2428920"/>
              <a:ext cx="456480" cy="394920"/>
              <a:chOff x="2871720" y="2428920"/>
              <a:chExt cx="456480" cy="394920"/>
            </a:xfrm>
          </p:grpSpPr>
          <p:sp>
            <p:nvSpPr>
              <p:cNvPr id="1360"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67"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68"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
          <p:cNvGrpSpPr/>
          <p:nvPr/>
        </p:nvGrpSpPr>
        <p:grpSpPr>
          <a:xfrm>
            <a:off x="4659480" y="1557360"/>
            <a:ext cx="2952720" cy="3246480"/>
            <a:chOff x="4659480" y="1557360"/>
            <a:chExt cx="2952720" cy="3246480"/>
          </a:xfrm>
        </p:grpSpPr>
        <p:sp>
          <p:nvSpPr>
            <p:cNvPr id="1372"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6" name=""/>
            <p:cNvGrpSpPr/>
            <p:nvPr/>
          </p:nvGrpSpPr>
          <p:grpSpPr>
            <a:xfrm>
              <a:off x="6733440" y="3368520"/>
              <a:ext cx="125640" cy="866160"/>
              <a:chOff x="6733440" y="3368520"/>
              <a:chExt cx="125640" cy="866160"/>
            </a:xfrm>
          </p:grpSpPr>
          <p:grpSp>
            <p:nvGrpSpPr>
              <p:cNvPr id="1377" name=""/>
              <p:cNvGrpSpPr/>
              <p:nvPr/>
            </p:nvGrpSpPr>
            <p:grpSpPr>
              <a:xfrm>
                <a:off x="6748560" y="3368520"/>
                <a:ext cx="110520" cy="159840"/>
                <a:chOff x="6748560" y="3368520"/>
                <a:chExt cx="110520" cy="159840"/>
              </a:xfrm>
            </p:grpSpPr>
            <p:sp>
              <p:nvSpPr>
                <p:cNvPr id="1378"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80" name=""/>
              <p:cNvGrpSpPr/>
              <p:nvPr/>
            </p:nvGrpSpPr>
            <p:grpSpPr>
              <a:xfrm>
                <a:off x="6733440" y="4074840"/>
                <a:ext cx="110520" cy="159840"/>
                <a:chOff x="6733440" y="4074840"/>
                <a:chExt cx="110520" cy="159840"/>
              </a:xfrm>
            </p:grpSpPr>
            <p:sp>
              <p:nvSpPr>
                <p:cNvPr id="1381"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83"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659480" y="1557360"/>
              <a:ext cx="2382480" cy="1821240"/>
              <a:chOff x="4659480" y="1557360"/>
              <a:chExt cx="2382480" cy="1821240"/>
            </a:xfrm>
          </p:grpSpPr>
          <p:sp>
            <p:nvSpPr>
              <p:cNvPr id="1385"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88"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9"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5245920" y="3151440"/>
                <a:ext cx="357840" cy="227160"/>
                <a:chOff x="5245920" y="3151440"/>
                <a:chExt cx="357840" cy="227160"/>
              </a:xfrm>
            </p:grpSpPr>
            <p:sp>
              <p:nvSpPr>
                <p:cNvPr id="1399"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689440" y="3038400"/>
                <a:ext cx="357840" cy="227160"/>
                <a:chOff x="5689440" y="3038400"/>
                <a:chExt cx="357840" cy="227160"/>
              </a:xfrm>
            </p:grpSpPr>
            <p:sp>
              <p:nvSpPr>
                <p:cNvPr id="1406"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2" name=""/>
              <p:cNvGrpSpPr/>
              <p:nvPr/>
            </p:nvGrpSpPr>
            <p:grpSpPr>
              <a:xfrm>
                <a:off x="6147720" y="2926440"/>
                <a:ext cx="357840" cy="227160"/>
                <a:chOff x="6147720" y="2926440"/>
                <a:chExt cx="357840" cy="227160"/>
              </a:xfrm>
            </p:grpSpPr>
            <p:sp>
              <p:nvSpPr>
                <p:cNvPr id="1413"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6544080" y="2828880"/>
                <a:ext cx="357840" cy="227160"/>
                <a:chOff x="6544080" y="2828880"/>
                <a:chExt cx="357840" cy="227160"/>
              </a:xfrm>
            </p:grpSpPr>
            <p:sp>
              <p:nvSpPr>
                <p:cNvPr id="1420"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6" name=""/>
              <p:cNvGrpSpPr/>
              <p:nvPr/>
            </p:nvGrpSpPr>
            <p:grpSpPr>
              <a:xfrm>
                <a:off x="6719400" y="1803600"/>
                <a:ext cx="110160" cy="159840"/>
                <a:chOff x="6719400" y="1803600"/>
                <a:chExt cx="110160" cy="159840"/>
              </a:xfrm>
            </p:grpSpPr>
            <p:sp>
              <p:nvSpPr>
                <p:cNvPr id="1427"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29"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6560640" y="3275640"/>
              <a:ext cx="472320" cy="956160"/>
              <a:chOff x="6560640" y="3275640"/>
              <a:chExt cx="472320" cy="956160"/>
            </a:xfrm>
          </p:grpSpPr>
          <p:sp>
            <p:nvSpPr>
              <p:cNvPr id="1433"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4" name=""/>
              <p:cNvGrpSpPr/>
              <p:nvPr/>
            </p:nvGrpSpPr>
            <p:grpSpPr>
              <a:xfrm>
                <a:off x="6739560" y="3365640"/>
                <a:ext cx="125640" cy="866160"/>
                <a:chOff x="6739560" y="3365640"/>
                <a:chExt cx="125640" cy="866160"/>
              </a:xfrm>
            </p:grpSpPr>
            <p:grpSp>
              <p:nvGrpSpPr>
                <p:cNvPr id="1435" name=""/>
                <p:cNvGrpSpPr/>
                <p:nvPr/>
              </p:nvGrpSpPr>
              <p:grpSpPr>
                <a:xfrm>
                  <a:off x="6754680" y="3365640"/>
                  <a:ext cx="110520" cy="159840"/>
                  <a:chOff x="6754680" y="3365640"/>
                  <a:chExt cx="110520" cy="159840"/>
                </a:xfrm>
              </p:grpSpPr>
              <p:sp>
                <p:nvSpPr>
                  <p:cNvPr id="1436"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38" name=""/>
                <p:cNvGrpSpPr/>
                <p:nvPr/>
              </p:nvGrpSpPr>
              <p:grpSpPr>
                <a:xfrm>
                  <a:off x="6739560" y="4071960"/>
                  <a:ext cx="110520" cy="159840"/>
                  <a:chOff x="6739560" y="4071960"/>
                  <a:chExt cx="110520" cy="159840"/>
                </a:xfrm>
              </p:grpSpPr>
              <p:sp>
                <p:nvSpPr>
                  <p:cNvPr id="1439"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41"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48"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50"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51" name=""/>
          <p:cNvSpPr/>
          <p:nvPr/>
        </p:nvSpPr>
        <p:spPr>
          <a:xfrm>
            <a:off x="4932360" y="544500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a:t>
            </a:r>
            <a:endParaRPr b="0" lang="en-US" sz="1800" spc="-1" strike="noStrike">
              <a:solidFill>
                <a:srgbClr val="000000"/>
              </a:solidFill>
              <a:latin typeface="Arial"/>
            </a:endParaRPr>
          </a:p>
        </p:txBody>
      </p:sp>
      <p:sp>
        <p:nvSpPr>
          <p:cNvPr id="1452"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628640"/>
            <a:ext cx="7417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593720" y="2338560"/>
            <a:ext cx="2000520" cy="52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0"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sp>
        <p:nvSpPr>
          <p:cNvPr id="101" name=""/>
          <p:cNvSpPr/>
          <p:nvPr/>
        </p:nvSpPr>
        <p:spPr>
          <a:xfrm flipH="1" flipV="1" rot="16200000">
            <a:off x="288288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1402560" y="1558080"/>
            <a:ext cx="244944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1754280" y="3008160"/>
            <a:ext cx="1839600" cy="1544400"/>
            <a:chOff x="1754280" y="3008160"/>
            <a:chExt cx="1839600" cy="1544400"/>
          </a:xfrm>
        </p:grpSpPr>
        <p:sp>
          <p:nvSpPr>
            <p:cNvPr id="104" name=""/>
            <p:cNvSpPr/>
            <p:nvPr/>
          </p:nvSpPr>
          <p:spPr>
            <a:xfrm>
              <a:off x="247536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1759680" y="3022920"/>
              <a:ext cx="799920" cy="420840"/>
              <a:chOff x="1759680" y="3022920"/>
              <a:chExt cx="799920" cy="420840"/>
            </a:xfrm>
          </p:grpSpPr>
          <p:sp>
            <p:nvSpPr>
              <p:cNvPr id="106" name=""/>
              <p:cNvSpPr/>
              <p:nvPr/>
            </p:nvSpPr>
            <p:spPr>
              <a:xfrm>
                <a:off x="1759680" y="3022920"/>
                <a:ext cx="799920" cy="34992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58320" y="3094200"/>
                <a:ext cx="599400" cy="34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1759680" y="3387240"/>
              <a:ext cx="1800360" cy="669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10440" y="3678120"/>
              <a:ext cx="40032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112200" y="3678120"/>
              <a:ext cx="39996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762560" y="3882600"/>
              <a:ext cx="1814400" cy="349560"/>
              <a:chOff x="1762560" y="3882600"/>
              <a:chExt cx="1814400" cy="349560"/>
            </a:xfrm>
          </p:grpSpPr>
          <p:sp>
            <p:nvSpPr>
              <p:cNvPr id="112" name=""/>
              <p:cNvSpPr/>
              <p:nvPr/>
            </p:nvSpPr>
            <p:spPr>
              <a:xfrm>
                <a:off x="1762560" y="3882600"/>
                <a:ext cx="1800720" cy="34956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6288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0092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896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7700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1332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1793160" y="4057560"/>
              <a:ext cx="1800720" cy="174600"/>
              <a:chOff x="1793160" y="4057560"/>
              <a:chExt cx="1800720" cy="174600"/>
            </a:xfrm>
          </p:grpSpPr>
          <p:grpSp>
            <p:nvGrpSpPr>
              <p:cNvPr id="119" name=""/>
              <p:cNvGrpSpPr/>
              <p:nvPr/>
            </p:nvGrpSpPr>
            <p:grpSpPr>
              <a:xfrm>
                <a:off x="1793160" y="4057560"/>
                <a:ext cx="1800720" cy="174600"/>
                <a:chOff x="1793160" y="4057560"/>
                <a:chExt cx="1800720" cy="174600"/>
              </a:xfrm>
            </p:grpSpPr>
            <p:sp>
              <p:nvSpPr>
                <p:cNvPr id="120" name=""/>
                <p:cNvSpPr/>
                <p:nvPr/>
              </p:nvSpPr>
              <p:spPr>
                <a:xfrm>
                  <a:off x="179352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79280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3480" y="405756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
              <p:cNvSpPr/>
              <p:nvPr/>
            </p:nvSpPr>
            <p:spPr>
              <a:xfrm>
                <a:off x="2193480" y="4057560"/>
                <a:ext cx="999720" cy="17460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193840" y="3882600"/>
              <a:ext cx="1000080" cy="34956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27360" y="3638880"/>
              <a:ext cx="1650960" cy="214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95280" y="3663360"/>
              <a:ext cx="19980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027160" y="3663360"/>
              <a:ext cx="20016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258640" y="3330720"/>
              <a:ext cx="799920" cy="524880"/>
              <a:chOff x="2258640" y="3330720"/>
              <a:chExt cx="799920" cy="524880"/>
            </a:xfrm>
          </p:grpSpPr>
          <p:sp>
            <p:nvSpPr>
              <p:cNvPr id="129" name=""/>
              <p:cNvSpPr/>
              <p:nvPr/>
            </p:nvSpPr>
            <p:spPr>
              <a:xfrm>
                <a:off x="2258640" y="3330720"/>
                <a:ext cx="799920" cy="52488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56920" y="3446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564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6831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9800" y="38012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754280" y="3008160"/>
              <a:ext cx="839520" cy="22428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72628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1793880" y="2263320"/>
            <a:ext cx="1440" cy="7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1160" y="3006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3562200" y="3007440"/>
            <a:ext cx="800280" cy="1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3543480" y="2862000"/>
            <a:ext cx="1440" cy="525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rot="5400000">
            <a:off x="65304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44" name="" descr=""/>
          <p:cNvPicPr/>
          <p:nvPr/>
        </p:nvPicPr>
        <p:blipFill>
          <a:blip r:embed="rId1"/>
          <a:srcRect l="11994" t="11858" r="39953" b="21680"/>
          <a:stretch/>
        </p:blipFill>
        <p:spPr>
          <a:xfrm>
            <a:off x="684360" y="1484280"/>
            <a:ext cx="4646520" cy="4824360"/>
          </a:xfrm>
          <a:prstGeom prst="rect">
            <a:avLst/>
          </a:prstGeom>
          <a:ln w="0">
            <a:noFill/>
          </a:ln>
        </p:spPr>
      </p:pic>
      <p:sp>
        <p:nvSpPr>
          <p:cNvPr id="145"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7-07-26T20:07:45Z</dcterms:modified>
  <cp:revision>9</cp:revision>
  <dc:subject/>
  <dc:title>Clase I</dc:title>
</cp:coreProperties>
</file>