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3CBD6-42EC-4CE3-AAE7-5061B4D4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ABDD7-1B50-49D6-ACF8-F7FAE152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12705-38C9-4D19-B48F-007FBDAEE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10A13-57B2-4320-9449-449E29D1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7B2E1-44B0-4F06-A10D-11F3014F1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B896-0579-4BDB-903D-98E776C48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BDD85-BBBD-4B64-8B50-D9CE38B1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74063-16DD-40EE-8785-A202D6B8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FD71-BF01-4E80-82FF-514605B71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22E9-DEFF-4ED0-BE72-682DAC5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89AF1-6E1A-49DE-8D97-8173789D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15CE7-ADA1-4F79-B5B7-B9346C3B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148B0-F01A-4DB9-A8D0-A0B56D3D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39C6-8733-45C3-A69F-ECA5FA9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5E965-0519-4AA8-99B5-072A3543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54E9-6ECA-4468-B497-F965AD031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1F09E-DD12-44B2-8573-062EEC9E9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9D793-F41F-4D83-808B-1BD89666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C6D6D-386A-49F2-B9B0-4D80F826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011EA-37F4-4C2C-9ADF-7BFE1ECC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C55464-917A-4BFB-8FFF-24A8E1E31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CB20-5399-48A0-84EB-F4A8D1EC5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6D54A1-FE6C-4504-AD95-357079A39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0188D-2021-4B83-B1EA-DD987900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6719-FDC7-4241-B76E-B85D0BD1E6C8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0A07A-8960-45B2-A7DD-E7A3F779AD81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rcastro@ing.uchile.cl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708000" y="2420640"/>
            <a:ext cx="5108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ffffff"/>
                </a:solidFill>
                <a:latin typeface="Arial"/>
              </a:rPr>
              <a:t>Introducción 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61928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400" spc="-1" strike="noStrike">
                <a:solidFill>
                  <a:srgbClr val="000000"/>
                </a:solidFill>
                <a:latin typeface="Arial"/>
              </a:rPr>
              <a:t>MI57G: Manejo de minerales y Ventilació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Importancia de carguío y transporte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n minería se requiere mover grandes volúmenes de material (mineral y estéril) desde su ubicación original. Esto requiere de proveer soluciones de transporte acorde a los requerimientos de producción con un costo míni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a elección de un sistema de transporte de mineral tiene impacto en la operación de la mi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iseño de desarrollos requeridos para que opere el sistema de transporte de manera eficien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Determinación de inversiones mina: equipos e infraestructura asociadas (MUS$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00"/>
                </a:solidFill>
                <a:latin typeface="Arial"/>
              </a:rPr>
              <a:t>Costo operación m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Costo mina= Cpreparación+ Carranque +Ccarguío + Ctransporte + C servicios + Cgenerales m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Arial"/>
              </a:rPr>
              <a:t>Importancia ventil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La ventilación es el pulmón de la mina subterrán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in la adecuada ventilación no pueden operar personas y equipos al interior de la 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3300"/>
                </a:solidFill>
                <a:latin typeface="Arial"/>
              </a:rPr>
              <a:t>Referenci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rtman, H. 1992. SME Mining Engineering Hand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Le-Feaux, 1997. Apuntes del curso MI57G, 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artman, L, Ramani, R. V., Mutmansky, J.M., Wang, Y.J. 1997. Mine Ventilation and air conditioning, 3th e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Yanes, E. Manual de ventilac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ferencias (estudios de cas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ssMin 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ssMin 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Sistemas de explotación de mina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95280" y="2331720"/>
            <a:ext cx="82296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s subterráne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por hund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 auto so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sopor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étodos de explotación a tajo abier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auto-soportados: Caserones por subnivel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39370" t="13886" r="11022" b="11803"/>
          <a:stretch/>
        </p:blipFill>
        <p:spPr>
          <a:xfrm>
            <a:off x="755640" y="1197000"/>
            <a:ext cx="5400720" cy="5057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6588000" y="1484280"/>
            <a:ext cx="2087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on rad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:Scra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aserones y pilar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38769" t="30523" r="11106" b="20878"/>
          <a:stretch/>
        </p:blipFill>
        <p:spPr>
          <a:xfrm>
            <a:off x="4356000" y="1413000"/>
            <a:ext cx="4610160" cy="300672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rcRect l="37238" t="18812" r="11799" b="16876"/>
          <a:stretch/>
        </p:blipFill>
        <p:spPr>
          <a:xfrm>
            <a:off x="324000" y="1484280"/>
            <a:ext cx="3743280" cy="295272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539640" y="4581360"/>
            <a:ext cx="30956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Sim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653000"/>
            <a:ext cx="3744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perf. Man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scra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de Hundimiento por subnivel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36228" t="23519" r="11274" b="13114"/>
          <a:stretch/>
        </p:blipFill>
        <p:spPr>
          <a:xfrm>
            <a:off x="0" y="1557360"/>
            <a:ext cx="6121440" cy="46180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227640" y="1628640"/>
            <a:ext cx="3095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usando Jumbo rad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cc3300"/>
                </a:solidFill>
                <a:latin typeface="Arial"/>
              </a:rPr>
              <a:t>Métodos por hundimiento de bloques</a:t>
            </a:r>
            <a:endParaRPr b="0" lang="en-US" sz="40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46725" t="18169" r="20210" b="17275"/>
          <a:stretch/>
        </p:blipFill>
        <p:spPr>
          <a:xfrm>
            <a:off x="755640" y="1484280"/>
            <a:ext cx="4013280" cy="48974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751280" y="1628640"/>
            <a:ext cx="4392720" cy="27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de la base usando Jumbo radial Carguío usando LH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ducción secund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: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ique traspa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ransporte ferrocarr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Tajo abiert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>
            <a:lum bright="-10000"/>
          </a:blip>
          <a:srcRect l="4893" t="12827" r="21118" b="3448"/>
          <a:stretch/>
        </p:blipFill>
        <p:spPr>
          <a:xfrm>
            <a:off x="179280" y="1628640"/>
            <a:ext cx="5905440" cy="44704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6659640" y="1916280"/>
            <a:ext cx="194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264360" y="1700280"/>
            <a:ext cx="2879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erforación de la base usando D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am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r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jemplos de apl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e define una explotación por medio de caserones abiertos por sub niveles que sera explotada a un ritmo de 50.000 tons/mes. Se pide determin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la infraestructura asociada al sist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tipo de sistema de carguío y transporte a utili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la flota de transporte de mi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terminar costos asociados al sis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Simular si el sistema cumplirá con los requerimientos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ontenido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uerpo doc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Hor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valu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troducción general al t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étodos de explo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mportancia del curso en explotación de 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Importancia de la ventil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querimiento esencial para la operación de minas subterráne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minas de carbón es un tema prioritario por riesgos asociados a explosiones de ga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n minería metalífera existen riesgos como incendios, gases provenientes de equipos en operación que pueden causar muerte en concentraciones peligros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sto mi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e define un método de explotación mediante SLS. Se pide determina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requerimientos de aire en las distintas f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circuito de ventilación (Infraestructura de ventil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 tipo de ventilador y su punto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Los costos de operación asoci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sto de operación del sistema de ventil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uerpo docente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fesor de cáte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aúl Cas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geniero Civil de Minas, U de Chile, 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h.D., University Of Queensland, Australia,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pecialidad: Block Caving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Mail: </a:t>
            </a:r>
            <a:r>
              <a:rPr b="0" lang="es-MX" sz="24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rcastro@ing.uchile.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sponibilidad: siempre pero no el día antes del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f. Auxili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los Castillo, Milka Casagr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studiantes Ingeniería Civil de Mi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Horario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1844640"/>
            <a:ext cx="648036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áted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Lun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 10:15- 11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Juev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:  16:15- 17:45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lase ejerc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Viernes: 10:15- 11: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Evaluacione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urso tiene 10 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2 contro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1 exa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jercicios: 40% nota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en clases vía ejercici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57200" y="1616040"/>
            <a:ext cx="8229600" cy="30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cc3300"/>
                </a:solidFill>
                <a:latin typeface="Arial"/>
              </a:rPr>
              <a:t>Operaciones unitarias en la explotación de minas</a:t>
            </a:r>
            <a:endParaRPr b="0" lang="en-US" sz="28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765000"/>
            <a:ext cx="8569080" cy="561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11280" y="4449600"/>
            <a:ext cx="1512720" cy="1513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PERFOR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ONADU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24120" y="4521240"/>
            <a:ext cx="1584360" cy="13683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CARGU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92600" y="4486320"/>
            <a:ext cx="1392120" cy="144144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732720" y="4473720"/>
            <a:ext cx="1584360" cy="1465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Servicios m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VENTILAC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00000"/>
                </a:solidFill>
                <a:latin typeface="Arial"/>
              </a:rPr>
              <a:t>DREN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916360" y="1341360"/>
            <a:ext cx="345744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CURSOS GEOLOGI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27280" y="2133720"/>
            <a:ext cx="2233800" cy="3682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ISEÑO MINE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914560" y="2997360"/>
            <a:ext cx="34578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OPERACIONES UNITAR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9" idx="7"/>
          </p:cNvCxnSpPr>
          <p:nvPr/>
        </p:nvCxnSpPr>
        <p:spPr>
          <a:xfrm flipH="1">
            <a:off x="1901520" y="3373200"/>
            <a:ext cx="2741760" cy="1299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25" idx="2"/>
            <a:endCxn id="120" idx="0"/>
          </p:cNvCxnSpPr>
          <p:nvPr/>
        </p:nvCxnSpPr>
        <p:spPr>
          <a:xfrm flipH="1">
            <a:off x="3516120" y="3373560"/>
            <a:ext cx="1127520" cy="1148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5" idx="2"/>
            <a:endCxn id="121" idx="0"/>
          </p:cNvCxnSpPr>
          <p:nvPr/>
        </p:nvCxnSpPr>
        <p:spPr>
          <a:xfrm>
            <a:off x="4642920" y="3373200"/>
            <a:ext cx="747000" cy="11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5" idx="2"/>
            <a:endCxn id="122" idx="0"/>
          </p:cNvCxnSpPr>
          <p:nvPr/>
        </p:nvCxnSpPr>
        <p:spPr>
          <a:xfrm>
            <a:off x="4643280" y="3373560"/>
            <a:ext cx="2882160" cy="1100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084720" y="2133720"/>
            <a:ext cx="22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Reservas min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"/>
          <p:cNvCxnSpPr>
            <a:stCxn id="124" idx="3"/>
            <a:endCxn id="130" idx="1"/>
          </p:cNvCxnSpPr>
          <p:nvPr/>
        </p:nvCxnSpPr>
        <p:spPr>
          <a:xfrm>
            <a:off x="5760720" y="2322000"/>
            <a:ext cx="324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4" idx="2"/>
            <a:endCxn id="125" idx="0"/>
          </p:cNvCxnSpPr>
          <p:nvPr/>
        </p:nvCxnSpPr>
        <p:spPr>
          <a:xfrm flipH="1">
            <a:off x="4642560" y="2509920"/>
            <a:ext cx="2520" cy="488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3132000" y="836640"/>
            <a:ext cx="31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XPLOTACION DE M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"/>
          <p:cNvCxnSpPr>
            <a:stCxn id="124" idx="0"/>
            <a:endCxn id="123" idx="2"/>
          </p:cNvCxnSpPr>
          <p:nvPr/>
        </p:nvCxnSpPr>
        <p:spPr>
          <a:xfrm flipV="1">
            <a:off x="4644720" y="1717200"/>
            <a:ext cx="1080" cy="41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</p:cxnSp>
      <p:sp>
        <p:nvSpPr>
          <p:cNvPr id="135" name=""/>
          <p:cNvSpPr/>
          <p:nvPr/>
        </p:nvSpPr>
        <p:spPr>
          <a:xfrm>
            <a:off x="755640" y="2133720"/>
            <a:ext cx="223380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Geomecá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>
            <a:stCxn id="135" idx="3"/>
            <a:endCxn id="124" idx="1"/>
          </p:cNvCxnSpPr>
          <p:nvPr/>
        </p:nvCxnSpPr>
        <p:spPr>
          <a:xfrm>
            <a:off x="2989440" y="2322000"/>
            <a:ext cx="53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Objetivos del curso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oporcionar las herramientas, criterios y antecedentes que permitan apreciar la necesidad de contar con sistemas de carguío, transporte y ventilación efici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Diseñar, especificar y calcular estos sistemas para condiciones específic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cc3300"/>
                </a:solidFill>
                <a:latin typeface="Arial"/>
              </a:rPr>
              <a:t>Competencias buscadas</a:t>
            </a:r>
            <a:endParaRPr b="0" lang="en-US" sz="4400" spc="-1" strike="noStrike">
              <a:solidFill>
                <a:srgbClr val="cc33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Al final del curso el alumno deberá saber lo siguien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los distintos sistemas de carguío y su oper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Dado un método de explotación determinar los equipos de carguío y transporte a utiliz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ntender los distintos componentes de los sistemas de carguío y transporte y su calculo para el diseño de flota de carguí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imar ciclos y rendimientos de sistemas de carguío y transp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Estimar costos de transporte, carguío y venti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Identificar posibles vias de optimizar dichos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Conocer aspectos de la legislación minera respecto a decisiones de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Arial"/>
              </a:rPr>
              <a:t>Proyectar y evaluar sistemas de carguío, transporte y venti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2:45:58Z</dcterms:created>
  <dc:creator>Raul Castro</dc:creator>
  <dc:description/>
  <dc:language>en-US</dc:language>
  <cp:lastModifiedBy>Raul Castro</cp:lastModifiedBy>
  <dcterms:modified xsi:type="dcterms:W3CDTF">2007-07-23T15:27:50Z</dcterms:modified>
  <cp:revision>8</cp:revision>
  <dc:subject/>
  <dc:title>MI57-G</dc:title>
</cp:coreProperties>
</file>