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41925-E9ED-486F-B1DD-677911C0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63BA-6B2B-406B-AA8D-2A90D1FA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663BC-1DBC-425C-9440-ABE72E5C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63A09-D5DC-42F4-AAEB-94264A74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94BA-DE3A-4E48-81C6-39784DE2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93EB-EEAE-4A63-8E23-C79F3252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881E-8663-4574-9516-8B019F47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882E-1D9E-43B4-82E1-C5E9B3BC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DE96-4863-4021-9AB8-36FA5168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5857-C53E-4683-B0AE-22BB6480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5A6B-FBDD-4DDC-AA6B-99B8C72C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09209-A9EF-4225-9CC6-3830B122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110B-F547-4FE1-AB68-0E5BA057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88AB-9667-4F8A-A5F6-D7C726AA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08C5-6E19-40C2-A2DC-8665C267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8C7C-A94F-4285-B006-DCAC6149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3BC8-FD5E-480B-82D8-1F75065E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6803E-9F03-4CF0-82DE-66AE2443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8AC7-F8F7-4F3E-8B54-EFED5860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3ED54-2B0F-4EF4-839F-564B5043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6DB0E-8423-4B22-8B90-21BC61DE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BFBF3-308A-47E3-B598-034CE68C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58FC2-1041-4529-B5D2-501B4E12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2F02-C66B-4023-B093-BEB990C1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5E9C-A07F-41AF-88F8-28D9F3AF4732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44AC-41E8-49AD-82A4-9F2D6A6E4413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rcastro@ing.uchile.c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08000" y="2420640"/>
            <a:ext cx="5108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ffff"/>
                </a:solidFill>
                <a:latin typeface="Arial"/>
              </a:rPr>
              <a:t>Introducción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19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MI57G: Manejo de minerales y Ventila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3300"/>
                </a:solidFill>
                <a:latin typeface="Arial"/>
              </a:rPr>
              <a:t>Importancia de carguío y transporte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minería se requiere mover grandes volúmenes de material (mineral y estéril) desde su ubicación original. Esto requiere de proveer soluciones de transporte acorde a los requerimientos de producción con un costo míni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elección de un sistema de transporte de mineral tiene impacto en la operación de la mi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seño de desarrollos requeridos para que opere el sistema de transporte de manera efic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terminación de inversiones mina: equipos e infraestructura asociadas (MUS$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sto operación mi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sto mina= Cpreparación+ Carranque +Ccarguío + Ctransporte + C servicios + Cgenerales 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3300"/>
                </a:solidFill>
                <a:latin typeface="Arial"/>
              </a:rPr>
              <a:t>Importancia ventil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ventilación es el pulmón de la mina subterrán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n la adecuada ventilación no pueden operar personas y equipos al interior de la 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33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rtman, H. 1992. SME Mining Engineering Hand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e-Feaux, 1997. Apuntes del curso MI57G, Universidad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rtman, L, Ramani, R. V., Mutmansky, J.M., Wang, Y.J. 1997. Mine Ventilation and air conditioning, 3th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anes, E. Manual de ventil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ferencias (estudios de cas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ssM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ssMin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3300"/>
                </a:solidFill>
                <a:latin typeface="Arial"/>
              </a:rPr>
              <a:t>Sistemas de explotación de mina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23317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étodos subterrán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étodos por hu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étodo auto sopor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étodos sopor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étodos de explotación a tajo abi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3300"/>
                </a:solidFill>
                <a:latin typeface="Arial"/>
              </a:rPr>
              <a:t>Métodos auto-soportados: Caserones por subnivele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39370" t="13886" r="11022" b="11803"/>
          <a:stretch/>
        </p:blipFill>
        <p:spPr>
          <a:xfrm>
            <a:off x="755640" y="1197000"/>
            <a:ext cx="5400720" cy="5057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588000" y="1484280"/>
            <a:ext cx="2087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erforacion rad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guío:Scr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nsporte: Cam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Caserones y pilar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38769" t="30523" r="11106" b="20878"/>
          <a:stretch/>
        </p:blipFill>
        <p:spPr>
          <a:xfrm>
            <a:off x="4356000" y="1413000"/>
            <a:ext cx="4610160" cy="3006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37238" t="18812" r="11799" b="16876"/>
          <a:stretch/>
        </p:blipFill>
        <p:spPr>
          <a:xfrm>
            <a:off x="324000" y="1484280"/>
            <a:ext cx="3743280" cy="2952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39640" y="4581360"/>
            <a:ext cx="30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erforación usando Sim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guío usando L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nsporte: cam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4653000"/>
            <a:ext cx="374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erforación usando perf. 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guío usando scra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nsporte: ferrocar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3300"/>
                </a:solidFill>
                <a:latin typeface="Arial"/>
              </a:rPr>
              <a:t>Métodos de Hundimiento por subnivele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36228" t="23519" r="11274" b="13114"/>
          <a:stretch/>
        </p:blipFill>
        <p:spPr>
          <a:xfrm>
            <a:off x="0" y="1557360"/>
            <a:ext cx="6121440" cy="4618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227640" y="1628640"/>
            <a:ext cx="309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erforación usando Jumbo ra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guío usando L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ique trasp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nsporte: ferrocarr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3300"/>
                </a:solidFill>
                <a:latin typeface="Arial"/>
              </a:rPr>
              <a:t>Métodos por hundimiento de bloque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46725" t="18169" r="20210" b="17275"/>
          <a:stretch/>
        </p:blipFill>
        <p:spPr>
          <a:xfrm>
            <a:off x="755640" y="1484280"/>
            <a:ext cx="4013280" cy="4897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751280" y="1628640"/>
            <a:ext cx="43927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erforación de la base usando Jumbo radial Carguío usando L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ducción secund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ique trasp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nsporte: ferrocarr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ique trasp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nsporte ferrocarr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Tajo abiert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bright="-10000"/>
          </a:blip>
          <a:srcRect l="4893" t="12827" r="21118" b="3448"/>
          <a:stretch/>
        </p:blipFill>
        <p:spPr>
          <a:xfrm>
            <a:off x="179280" y="1628640"/>
            <a:ext cx="5905440" cy="4470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659640" y="191628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64360" y="1700280"/>
            <a:ext cx="2879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erforación de la base usando 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m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r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Ejemplos de aplic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define una explotación por medio de caserones abiertos por sub niveles que sera explotada a un ritmo de 50.000 tons/mes. Se pide determin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terminar la infraestructura asociada a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tipo de sistema de carguío y transporte a util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terminar la flota de transporte de mi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terminar costos asociados a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mular si el sistema cumplirá con los requerimientos de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uerpo do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o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troducción general al 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étodos de explo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mportancia del curso en explotación de m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Importancia de la ventil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querimiento esencial para la operación de minas subterrán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minas de carbón es un tema prioritario por riesgos asociados a explosiones de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minería metalífera existen riesgos como incendios, gases provenientes de equipos en operación que pueden causar muerte en concentraciones peligros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sto m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Ejemplo de aplic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define un método de explotación mediante SLS. Se pide determin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requerimientos de aire en las distintas f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circuito de ventilación (Infraestructura de ventil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tipo de ventilador y su punto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costos de operación asoci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sto de operación del sistema de vent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Cuerpo docent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fesor de cát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aúl Ca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geniero Civil de Minas, U de Chile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h.D., University Of Queensland, Australia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pecialidad: Block Cav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ail: </a:t>
            </a:r>
            <a:r>
              <a:rPr b="0" lang="es-MX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rcastro@ing.uchile.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ponibilidad: siempre pero no el día antes de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f. Auxili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rlos Castillo, Milka Casag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udiantes Ingeniería Civil de M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Horario curs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1844640"/>
            <a:ext cx="6480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áte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un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 10:15- 11: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Juev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 16:15- 17:45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lase ejerc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iernes: 10:15- 11: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Evaluacion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urso tiene 10 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 contro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 ex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jercicios: 40% nota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en clases vía ejerci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16040"/>
            <a:ext cx="822960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3300"/>
                </a:solidFill>
                <a:latin typeface="Arial"/>
              </a:rPr>
              <a:t>Operaciones unitarias en la explotación de minas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765000"/>
            <a:ext cx="8569080" cy="561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4449600"/>
            <a:ext cx="1512720" cy="151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ERFOR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ONAD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24120" y="4521240"/>
            <a:ext cx="1584360" cy="1368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ARGU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92600" y="4486320"/>
            <a:ext cx="1392120" cy="1441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2720" y="4473720"/>
            <a:ext cx="1584360" cy="1465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rvicios m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VENTIL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REN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16360" y="1341360"/>
            <a:ext cx="345744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CURSOS GEOLO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27280" y="2133720"/>
            <a:ext cx="2233800" cy="368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EÑO MI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14560" y="2997360"/>
            <a:ext cx="345780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PERACIONES UNI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9" idx="7"/>
          </p:cNvCxnSpPr>
          <p:nvPr/>
        </p:nvCxnSpPr>
        <p:spPr>
          <a:xfrm flipH="1">
            <a:off x="1901520" y="3373200"/>
            <a:ext cx="2741760" cy="12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5" idx="2"/>
            <a:endCxn id="120" idx="0"/>
          </p:cNvCxnSpPr>
          <p:nvPr/>
        </p:nvCxnSpPr>
        <p:spPr>
          <a:xfrm flipH="1">
            <a:off x="3516120" y="3373560"/>
            <a:ext cx="1127520" cy="114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5" idx="2"/>
            <a:endCxn id="121" idx="0"/>
          </p:cNvCxnSpPr>
          <p:nvPr/>
        </p:nvCxnSpPr>
        <p:spPr>
          <a:xfrm>
            <a:off x="4642920" y="3373200"/>
            <a:ext cx="747000" cy="11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5" idx="2"/>
            <a:endCxn id="122" idx="0"/>
          </p:cNvCxnSpPr>
          <p:nvPr/>
        </p:nvCxnSpPr>
        <p:spPr>
          <a:xfrm>
            <a:off x="4643280" y="3373560"/>
            <a:ext cx="2882160" cy="11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084720" y="2133720"/>
            <a:ext cx="2233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servas min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4" idx="3"/>
            <a:endCxn id="130" idx="1"/>
          </p:cNvCxnSpPr>
          <p:nvPr/>
        </p:nvCxnSpPr>
        <p:spPr>
          <a:xfrm>
            <a:off x="5760720" y="2322000"/>
            <a:ext cx="32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4" idx="2"/>
            <a:endCxn id="125" idx="0"/>
          </p:cNvCxnSpPr>
          <p:nvPr/>
        </p:nvCxnSpPr>
        <p:spPr>
          <a:xfrm flipH="1">
            <a:off x="4642560" y="2509920"/>
            <a:ext cx="2520" cy="48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3132000" y="836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PLOTACION DE M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24" idx="0"/>
            <a:endCxn id="123" idx="2"/>
          </p:cNvCxnSpPr>
          <p:nvPr/>
        </p:nvCxnSpPr>
        <p:spPr>
          <a:xfrm flipV="1">
            <a:off x="4644720" y="1717200"/>
            <a:ext cx="108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35" name=""/>
          <p:cNvSpPr/>
          <p:nvPr/>
        </p:nvSpPr>
        <p:spPr>
          <a:xfrm>
            <a:off x="755640" y="2133720"/>
            <a:ext cx="2233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eomecá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5" idx="3"/>
            <a:endCxn id="124" idx="1"/>
          </p:cNvCxnSpPr>
          <p:nvPr/>
        </p:nvCxnSpPr>
        <p:spPr>
          <a:xfrm>
            <a:off x="2989440" y="2322000"/>
            <a:ext cx="538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Objetivos del curs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oporcionar las herramientas, criterios y antecedentes que permitan apreciar la necesidad de contar con sistemas de carguío, transporte y ventilación efic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eñar, especificar y calcular estos sistemas para condiciones específ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Competencias buscada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l final del curso el alumno deberá saber lo siguien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dentificar los distintos sistemas de carguío y su 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ado un método de explotación determinar los equipos de carguío y transporte a utiliz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tender los distintos componentes de los sistemas de carguío y transporte y su calculo para el diseño de flota de carguí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timar ciclos y rendimientos de sistemas de carguío y 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timar costos de transporte, carguío y venti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dentificar posibles vias de optimizar dichos 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ocer aspectos de la legislación minera respecto a decisiones de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yectar y evaluar sistemas de carguío, transporte y venti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2:45:58Z</dcterms:created>
  <dc:creator>Raul Castro</dc:creator>
  <dc:description/>
  <dc:language>en-US</dc:language>
  <cp:lastModifiedBy>Raul Castro</cp:lastModifiedBy>
  <dcterms:modified xsi:type="dcterms:W3CDTF">2007-07-23T15:27:50Z</dcterms:modified>
  <cp:revision>8</cp:revision>
  <dc:subject/>
  <dc:title>MI57-G</dc:title>
</cp:coreProperties>
</file>