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8062-1DA3-415D-883C-9CD9540C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FD5B-F20D-4588-A3AD-D29E8EA5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45E-C03B-4DDB-911B-379DAD5E9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42BB-D26E-4332-8EFB-F8FF0382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17DC-04B5-4B1E-9DD0-21A3B6984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E9E0A-2FCA-453B-BB21-FC9EB1CE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9C2C2-0976-4CC7-948C-9D68CB207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9B6C-BA22-45B0-A7CA-26510AB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4716-BBFC-4C0E-9D18-3D740272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432B-61C6-4447-9E46-4BDF3E6B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AC1C-D2D0-4544-9A0F-88327C2A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ED97-62A0-40F8-83C5-4DC9516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1A0D-96B6-41C7-A48D-49539D0A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AC25-A6A6-4765-ACB0-B3E2C995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66FD-5CA3-4185-AAD6-B7BD010F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317A-4ACC-4F89-8E14-1BACD1A2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67A3-07C5-4808-8F38-1860F5CCC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1CD5-B2AC-4830-84C1-E9B0A7AE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EA88-C8B1-4098-9676-90C43011B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78FF-493D-4D69-A4C9-094DB180C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8126-C7F5-4722-8B02-534DEAA4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CC15-FF53-482B-BAF9-6207ABC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EED-BE21-431E-8249-846EFF73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4C34-F5D1-4877-AF6F-B099EB91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4F70-4DF0-40C2-B21D-11CCA10703D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4854-9A91-447C-8047-B51E2A20297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apítulo 2b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Peligros natura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Terremot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erremotos son causados por una súbita liberación de energía acumulada lentamente por deformaciones a lo largo de una falla en la corteza terrest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s asociad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sacudimiento del suel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fallami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deslizamientos da tier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licuefacción de material no consolidad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subsidencia o depresión de superfici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tsunamis u ondas sísmicas marítimas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: 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s inundaciones marinas originadas por tormentas, son un aumento anormal del nivel del mar, asociado con los huracanes y otras tormentas marítima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destrucción debido a las inundaciones marinas es atribuibl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l impacto de las olas y al choque físico con objetos asociados al paso de las ol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 las fuerzas hidrostáticas/dinámicas y los efectos del agua al levantar y acarrear objeto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s inundaciones terrestres ocurren cuando se excede la capacidad de los lechos de los ríos para conducir el agua y esta rebalsa las riberas. Las inundaciones son fenómenos naturales que pueden ocurrir a Intervalos irregulares en cualquier riachuelo o río. El asentamiento en llanuras de inundación es la causa principal de los danos producidos por las inundacion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Arial"/>
              </a:rPr>
              <a:t>Tsunam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sunamis son ondas marinas de período largo generadas por eventos tales como los terremotos, actividad volcánica o deslizamientos de tierra submarinos. La cresta de estas ondas puede ser superior a alturas de 25 metros al llegar a aguas poco profundas. Las características singulares de los tsunamis (longitudes de onda generalmente mayores de 100 km, velocidades en el océano profundo hasta de 700 km por hora, y alturas de ola muy pequeñas en agua profunda) hacen que su detección y monitoreo sea muy difíci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probabilidad se refiere al grado de certeza de ocurrencia de un evento en particular. Usualmente está basada en la frecuencia histórica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probabilidad de un huracán en un año dado podría 10%, si los huracanes han ocurrido en dos de los últimos 20 años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riesgo es generalmente definido como la probabilidad de pérdida. En términos económicos esto se refiere a una disminución del ingreso debido a pérdidas que resultan de un peligro na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aversión al riesgo se refiere a la actitud individual hacia el riesgo. La mayoría de las personas son contrarias al riesgo, es decir, están llanas a aceptar algún costo para evitar el riesgo. Pero hay un amplio espectro en los grados de aversión: para evitar un nivel dado de riesgo, algunas personas pagarán más que otr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valuación es la cuantifícación de un riesgo. Requiere determinar tanto las consecuencias de un evento como las probabilidades de que ocurra.    </a:t>
            </a: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manejo de riesgo se refiere a acciones tomadas para reducir las consecuencias o la probabilidad de eventos desfavorables. De igual manera, el manejo del peligro natural se refiere a las actividades que se ejecute para reducir los efectos negativos d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Un proyecto de inversión es el uso de capital para crear bienes capaces de generar un flujo de beneficios en el tiempo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278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, como los recursos naturales, son parte de lo que ofrecen nuestros sistemas natura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Pueden ser considerados como recursos negativo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 constituyen un elemento de los "problemas ambientales": alteran los ecosistemas naturales e incrementan el impacto de su degradación, reflejan el daño hecho por los humanos a su medio ambiente y pueden afectar a gran número de perso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ortantes áreas del mundo se encuentran sujetas a los riesgos naturales: terremotos, erupciones volcánicas, sequías,  inundaciones y huraca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iste una estrecha relación mutua entre el deterioro del ambiente y los peligros naturales: la erosión del suelo, la deforestación, la desertificación y la degradación costanera, aumentan el riesgo de los eventos extrem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la vez los peligros naturales aceleran la degradación ambient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potencial para ocasionar pérdidas humanas y económicas se relaciona directamente con su vulnerabilidad ant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urante las últimas décadas, los eventos extremos han aumentado en número e impacto, obstaculizando gravemente el proceso de desarrollo y requiriendo una substancial reasignación de recursos destinados para el desarrollo, el socorro y la recuper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a vulnerabilidad ante los desastres naturales aumenta debido a la continua degradación ambiental, crecimiento demográfico, ubicación de inversiones en áreas vulnerables, y concentración de infraestructura e industrias en áreas sujetas a los desastres.</a:t>
            </a: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peligros naturales son "aquellos elementos del medio ambiente físico perjudiciales al hombre y causados por fuerzas ajenas a él" (Burton 1978)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Todos los fenómenos atmosféricos, hidrológicos, geológicos (especialmente sísmicos y volcánicos) u originados por el fuego que, por razón del lugar en que ocurren, su severidad y frecuencia, pueden afectar de manera adversa a los seres humanos, a sus estructuras o actividades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 algunos países se utiliza el término amenaza natural en sustitución de la de peligro natur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calificativo natural es utilizado para excluir de la definición peligros originados por los seres humanos tales como guerras, polución y contaminación química, o peligros no necesariamente relacionados con el entorno físico: tales los casos de enfermedades infecciosa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¿Cuan naturales son los peligros naturales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 pesar de la calificación de "naturales", estos peligros tienen ciertos elementos de participación human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3 concep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vento físico: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fenómeno natural que no afecta a los seres human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 natural: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fenómeno natural que ocurre en un área poblada o con infraestructura que puede ser dañad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Desastre natural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, es un peligro natural que causa un número inaceptable de muertes o daños a propiedade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7840" y="90792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Atmosfér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de grani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Huracan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ay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orn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tropical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Sísm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uptura de fall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cudimiento del terren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sparcimiento later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Licuefac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sunami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ich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640"/>
            <a:ext cx="4496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Geológicos/hidrológicos</a:t>
            </a: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Avalanchas por derrub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Suelos expan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de tierra (“aluvión”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Caída de roc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submar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Hundimi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24280" y="907560"/>
            <a:ext cx="4191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Volcán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tra (ceniza, "lapilli"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Ga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av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od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royectiles y explosiones later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piroclást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ncendi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Chamarasc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Bosqu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as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ban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360" y="836640"/>
            <a:ext cx="4419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Hidrológ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Desertific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liniz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qu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rosión y sediment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marinas y marejada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22:57Z</dcterms:created>
  <dc:creator>ING. Minas </dc:creator>
  <dc:description/>
  <dc:language>en-US</dc:language>
  <cp:lastModifiedBy>Ingrid</cp:lastModifiedBy>
  <dcterms:modified xsi:type="dcterms:W3CDTF">2007-08-16T13:57:55Z</dcterms:modified>
  <cp:revision>25</cp:revision>
  <dc:subject/>
  <dc:title>Gestión Ambiental en Minería MI55D</dc:title>
</cp:coreProperties>
</file>