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CB10-B18E-47CF-88AB-7942B1F10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80528-DFFE-4173-9561-C5607047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9B0C-6DB4-4276-AEF8-C80C065DE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02A6-6DC6-4103-88EC-6B47ECFC9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FEB0-D50E-4732-A395-046536999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35F6B-F929-4A45-96FE-BF4B18F9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F835-CF7C-4EA4-A93E-07CA42829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7E339-F24B-4A5A-B11F-CEF0788B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8D04-F340-400C-A91C-A79503255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16CBE-C508-47F4-B109-051435174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4F0E-856A-4597-8958-746DDCC74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E19A-3DA8-4D47-9C91-F5B525903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D3CF3-10B7-4B6D-8F80-ACCC4A00C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85059-D58B-4B54-A221-FFA9E3AE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33703-7EC0-459C-BAFD-79C09566B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26A7B-9132-4AD8-97B6-441B2173D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EDB32-65DC-4180-86B0-5508C9B5E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090E-25E8-47FE-BD6F-18C96FFF2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04F1D-B4C4-41E3-A44B-257717E54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28CA-4F0A-4780-8ED2-B5C81B65E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85B9-9B2D-4EA3-80F8-D1F176976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6529-FB1B-419D-8151-579FFE7C8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A7F4-C974-48CD-82FE-643D7A5F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9B79-377A-401A-9653-D8FD93E9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E5ADC-9E58-4804-9E68-2F567ECCC380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C3369-1102-48D4-9879-384CBA7F094A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2a3d7a"/>
                </a:solidFill>
                <a:latin typeface="Times New Roman"/>
              </a:rPr>
              <a:t>Gestión Ambiental en Minería MI55D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838080" y="4495320"/>
            <a:ext cx="74678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Capítulo 2b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Peligros naturale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Terremoto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Arial"/>
                <a:ea typeface="Arial"/>
              </a:rPr>
              <a:t>Los terremotos son causados por una súbita liberación de energía acumulada lentamente por deformaciones a lo largo de una falla en la corteza terrestre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Peligros asociados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El sacudimiento del suel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El fallamient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Los deslizamientos da tierra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La licuefacción de material no consolidado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La subsidencia o depresión de superficie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Los tsunamis u ondas sísmicas marítimas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Inundacione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Inundaciones costeras: l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as inundaciones marinas originadas por tormentas, son un aumento anormal del nivel del mar, asociado con los huracanes y otras tormentas marítimas: 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la destrucción debido a las inundaciones marinas es atribuible: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al impacto de las olas y al choque físico con objetos asociados al paso de las olas.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Arial"/>
              </a:rPr>
              <a:t>a las fuerzas hidrostáticas/dinámicas y los efectos del agua al levantar y acarrear objetos.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Inundacione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Inundaciones de ríos: 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Las inundaciones terrestres ocurren cuando se excede la capacidad de los lechos de los ríos para conducir el agua y esta rebalsa las riberas. Las inundaciones son fenómenos naturales que pueden ocurrir a Intervalos irregulares en cualquier riachuelo o río. El asentamiento en llanuras de inundación es la causa principal de los danos producidos por las inundaciones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  <a:ea typeface="Arial"/>
              </a:rPr>
              <a:t>Tsunamis</a:t>
            </a:r>
            <a:r>
              <a:rPr b="0" lang="en-US" sz="36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Arial"/>
                <a:ea typeface="Arial"/>
              </a:rPr>
              <a:t>Los tsunamis son ondas marinas de período largo generadas por eventos tales como los terremotos, actividad volcánica o deslizamientos de tierra submarinos. La cresta de estas ondas puede ser superior a alturas de 25 metros al llegar a aguas poco profundas. Las características singulares de los tsunamis (longitudes de onda generalmente mayores de 100 km, velocidades en el océano profundo hasta de 700 km por hora, y alturas de ola muy pequeñas en agua profunda) hacen que su detección y monitoreo sea muy difícil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Conceptos básico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4360" y="148392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La probabilidad se refiere al grado de certeza de ocurrencia de un evento en particular. Usualmente está basada en la frecuencia histórica: 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la probabilidad de un huracán en un año dado podría 10%, si los huracanes han ocurrido en dos de los últimos 20 años.</a:t>
            </a: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El riesgo es generalmente definido como la probabilidad de pérdida. En términos económicos esto se refiere a una disminución del ingreso debido a pérdidas que resultan de un peligro natural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Conceptos básico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La aversión al riesgo se refiere a la actitud individual hacia el riesgo. La mayoría de las personas son contrarias al riesgo, es decir, están llanas a aceptar algún costo para evitar el riesgo. Pero hay un amplio espectro en los grados de aversión: para evitar un nivel dado de riesgo, algunas personas pagarán más que otra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La valuación es la cuantifícación de un riesgo. Requiere determinar tanto las consecuencias de un evento como las probabilidades de que ocurra.    </a:t>
            </a:r>
            <a:r>
              <a:rPr b="0" lang="es-ES" sz="28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Times New Roman"/>
              </a:rPr>
              <a:t>Conceptos básicos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El manejo de riesgo se refiere a acciones tomadas para reducir las consecuencias o la probabilidad de eventos desfavorables. De igual manera, el manejo del peligro natural se refiere a las actividades que se ejecute para reducir los efectos negativos de los peligros natural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Un proyecto de inversión es el uso de capital para crear bienes capaces de generar un flujo de beneficios en el tiempo.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Arial"/>
              </a:rPr>
              <a:t>Introducción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0920" y="1557360"/>
            <a:ext cx="8227800" cy="465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b5249"/>
                </a:solidFill>
                <a:latin typeface="Arial"/>
              </a:rPr>
              <a:t>Los peligros naturales, como los recursos naturales, son parte de lo que ofrecen nuestros sistemas naturales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b5249"/>
                </a:solidFill>
                <a:latin typeface="Arial"/>
              </a:rPr>
              <a:t>Pueden ser considerados como recursos negativos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5b5249"/>
                </a:solidFill>
                <a:latin typeface="Arial"/>
              </a:rPr>
              <a:t>Los peligros naturales constituyen un elemento de los "problemas ambientales": alteran los ecosistemas naturales e incrementan el impacto de su degradación, reflejan el daño hecho por los humanos a su medio ambiente y pueden afectar a gran número de persona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Arial"/>
              </a:rPr>
              <a:t>Introducción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27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Importantes áreas del mundo se encuentran sujetas a los riesgos naturales: terremotos, erupciones volcánicas, sequías,  inundaciones y huracan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xiste una estrecha relación mutua entre el deterioro del ambiente y los peligros naturales: la erosión del suelo, la deforestación, la desertificación y la degradación costanera, aumentan el riesgo de los eventos extremos;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A la vez los peligros naturales aceleran la degradación ambiental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Times New Roman"/>
              </a:rPr>
              <a:t>El potencial para ocasionar pérdidas humanas y económicas se relaciona directamente con su vulnerabilidad ante los peligros naturales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2a3d7a"/>
                </a:solidFill>
                <a:latin typeface="Arial"/>
              </a:rPr>
              <a:t>Introducción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0920" y="1557000"/>
            <a:ext cx="82278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Durante las últimas décadas, los eventos extremos han aumentado en número e impacto, obstaculizando gravemente el proceso de desarrollo y requiriendo una substancial reasignación de recursos destinados para el desarrollo, el socorro y la recuperación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La vulnerabilidad ante los desastres naturales aumenta debido a la continua degradación ambiental, crecimiento demográfico, ubicación de inversiones en áreas vulnerables, y concentración de infraestructura e industrias en áreas sujetas a los desastres.</a:t>
            </a:r>
            <a:r>
              <a:rPr b="0" lang="es-MX" sz="2800" spc="-1" strike="noStrike">
                <a:solidFill>
                  <a:srgbClr val="5b524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98100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Arial"/>
                <a:ea typeface="Times New Roman"/>
              </a:rPr>
              <a:t>¿Qué son peligros naturales?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55640" y="170028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Arial"/>
                <a:ea typeface="Arial"/>
              </a:rPr>
              <a:t>Los peligros naturales son "aquellos elementos del medio ambiente físico perjudiciales al hombre y causados por fuerzas ajenas a él" (Burton 1978).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5b5249"/>
                </a:solidFill>
                <a:latin typeface="Arial"/>
                <a:ea typeface="Arial"/>
              </a:rPr>
              <a:t>Todos los fenómenos atmosféricos, hidrológicos, geológicos (especialmente sísmicos y volcánicos) u originados por el fuego que, por razón del lugar en que ocurren, su severidad y frecuencia, pueden afectar de manera adversa a los seres humanos, a sus estructuras o actividades.</a:t>
            </a:r>
            <a:r>
              <a:rPr b="0" lang="es-ES" sz="28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4360" y="9079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Arial"/>
                <a:ea typeface="Times New Roman"/>
              </a:rPr>
              <a:t>¿Qué son peligros naturales?</a:t>
            </a: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Arial"/>
              </a:rPr>
              <a:t>En algunos países se utiliza el término amenaza natural en sustitución de la de peligro natural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El calificativo natural es utilizado para excluir de la definición peligros originados por los seres humanos tales como guerras, polución y contaminación química, o peligros no necesariamente relacionados con el entorno físico: tales los casos de enfermedades infecciosas.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54936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a3d7a"/>
                </a:solidFill>
                <a:latin typeface="Arial"/>
                <a:ea typeface="Arial"/>
              </a:rPr>
              <a:t>¿Cuan naturales son los peligros naturales?</a:t>
            </a:r>
            <a:endParaRPr b="0" lang="en-US" sz="36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191592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A pesar de la calificación de "naturales", estos peligros tienen ciertos elementos de participación humana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Arial"/>
                <a:ea typeface="Times New Roman"/>
              </a:rPr>
              <a:t>3 conceptos: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Evento físico: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 fenómeno natural que no afecta a los seres humanos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Peligro natural: 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fenómeno natural que ocurre en un área poblada o con infraestructura que puede ser dañada.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Desastre natural</a:t>
            </a:r>
            <a:r>
              <a:rPr b="0" lang="en-US" sz="2400" spc="-1" strike="noStrike">
                <a:solidFill>
                  <a:srgbClr val="5b5249"/>
                </a:solidFill>
                <a:latin typeface="Arial"/>
                <a:ea typeface="Times New Roman"/>
              </a:rPr>
              <a:t>, es un peligro natural que causa un número inaceptable de muertes o daños a propiedades.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537840" y="907920"/>
            <a:ext cx="39625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5b5249"/>
                </a:solidFill>
                <a:uFillTx/>
                <a:latin typeface="Arial"/>
                <a:ea typeface="Arial"/>
              </a:rPr>
              <a:t>Atmosféricos</a:t>
            </a: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Tempestades de granizo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Huracane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Rayo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Tornado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Tempestades tropicales.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5b5249"/>
                </a:solidFill>
                <a:uFillTx/>
                <a:latin typeface="Arial"/>
                <a:ea typeface="Arial"/>
              </a:rPr>
              <a:t>Sísmicos</a:t>
            </a: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Ruptura de falla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Sacudimiento del terreno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Esparcimiento lateral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Licuefacción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Tsunami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Seiche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355640" y="836640"/>
            <a:ext cx="449604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5b5249"/>
                </a:solidFill>
                <a:uFillTx/>
                <a:latin typeface="Arial"/>
                <a:ea typeface="Arial"/>
              </a:rPr>
              <a:t>Geológicos/hidrológicos</a:t>
            </a:r>
            <a:r>
              <a:rPr b="0" lang="en-US" sz="2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Arial"/>
                <a:ea typeface="Arial"/>
              </a:rPr>
              <a:t>Avalanchas por derrubio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Arial"/>
                <a:ea typeface="Arial"/>
              </a:rPr>
              <a:t>Suelos expansivo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Arial"/>
                <a:ea typeface="Arial"/>
              </a:rPr>
              <a:t>Deslizamientos de tierra (“aluvión”)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Arial"/>
                <a:ea typeface="Arial"/>
              </a:rPr>
              <a:t>Caída de roca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Arial"/>
                <a:ea typeface="Arial"/>
              </a:rPr>
              <a:t>Deslizamientos submarino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b5249"/>
                </a:solidFill>
                <a:latin typeface="Arial"/>
                <a:ea typeface="Arial"/>
              </a:rPr>
              <a:t>Hundimiento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724280" y="907560"/>
            <a:ext cx="4191120" cy="56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5b5249"/>
                </a:solidFill>
                <a:uFillTx/>
                <a:latin typeface="Arial"/>
                <a:ea typeface="Arial"/>
              </a:rPr>
              <a:t>Volcánicos</a:t>
            </a: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Tetra (ceniza, "lapilli")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Gase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Flujos de lava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Flujos de lodo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Proyectiles y explosiones laterale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Flujos piroclástico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5b5249"/>
                </a:solidFill>
                <a:uFillTx/>
                <a:latin typeface="Arial"/>
                <a:ea typeface="Arial"/>
              </a:rPr>
              <a:t>Incendios</a:t>
            </a: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 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Chamarasca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Bosque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Pasto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Sabana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7360" y="836640"/>
            <a:ext cx="441936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 u="sng">
                <a:solidFill>
                  <a:srgbClr val="5b5249"/>
                </a:solidFill>
                <a:uFillTx/>
                <a:latin typeface="Arial"/>
                <a:ea typeface="Arial"/>
              </a:rPr>
              <a:t>Hidrológico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Inundaciones costera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Desertificación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Salinización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Sequía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Erosión y sedimentación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Inundaciones de ríos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5b5249"/>
                </a:solidFill>
                <a:latin typeface="Arial"/>
                <a:ea typeface="Arial"/>
              </a:rPr>
              <a:t>Tempestades marinas y marejadas</a:t>
            </a:r>
            <a:r>
              <a:rPr b="0" lang="es-ES" sz="26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8T21:22:57Z</dcterms:created>
  <dc:creator>ING. Minas </dc:creator>
  <dc:description/>
  <dc:language>en-US</dc:language>
  <cp:lastModifiedBy>Ingrid</cp:lastModifiedBy>
  <dcterms:modified xsi:type="dcterms:W3CDTF">2007-08-16T13:57:55Z</dcterms:modified>
  <cp:revision>25</cp:revision>
  <dc:subject/>
  <dc:title>Gestión Ambiental en Minería MI55D</dc:title>
</cp:coreProperties>
</file>