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28F7-2987-4D62-82F7-EB177996B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2DAC-5303-4FBC-8E42-5D131017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7285-8416-4F78-937A-AE6E9FCF8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895E-9A58-4D48-9909-00CD2AE5F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5EC9B-6657-4B63-A7E4-36C5C8DB2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6BBF6-6280-4A2F-97ED-12202C23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D81B-BF52-4812-855A-458E195E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0839-7C79-43C9-9B98-C236C9B70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95130-32C3-46A7-B883-5D0B3D49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8014-ED09-46EE-B32C-C55F3980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EAB63-A64F-4F07-9E57-759388B6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6A95-E8A3-44F5-976F-EBBD133E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5150-8C57-4585-916E-70E89044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2D0C5-6B77-43C2-AC1A-9745F182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E343C-BE4B-436C-B265-3BBEDD74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6742-88B8-4662-BE83-885EF0D12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7F88-22BB-42AF-B0C5-1509954FC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4D61-DC33-4F61-BC42-B712AB66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6708-2A4B-4D1A-B595-848A8156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CA68-43AB-44EF-BF2A-7E85AE92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7FDD-4502-4F4C-9812-1E0C88DA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405A-2ED0-4FC7-9B9E-5725E41A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F8F6-0DF5-4716-B456-BE2B542D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F292-53CB-4868-A309-B0262C4B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B92E-8673-4D1E-BA2A-6AF35840910E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557B-C3E1-4CC7-8396-F39244784762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2a3d7a"/>
                </a:solidFill>
                <a:latin typeface="Times New Roman"/>
              </a:rPr>
              <a:t>Gestión Ambiental en Minería MI55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38080" y="4495320"/>
            <a:ext cx="74678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Capítulo 2b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Peligros naturale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Terremoto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Arial"/>
                <a:ea typeface="Arial"/>
              </a:rPr>
              <a:t>Los terremotos son causados por una súbita liberación de energía acumulada lentamente por deformaciones a lo largo de una falla en la corteza terrestre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Arial"/>
                <a:ea typeface="Times New Roman"/>
              </a:rPr>
              <a:t>Peligros asociados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b5249"/>
                </a:solidFill>
                <a:latin typeface="Arial"/>
                <a:ea typeface="Times New Roman"/>
              </a:rPr>
              <a:t>El sacudimiento del suel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b5249"/>
                </a:solidFill>
                <a:latin typeface="Arial"/>
                <a:ea typeface="Times New Roman"/>
              </a:rPr>
              <a:t>El fallamient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b5249"/>
                </a:solidFill>
                <a:latin typeface="Arial"/>
                <a:ea typeface="Times New Roman"/>
              </a:rPr>
              <a:t>Los deslizamientos da tierr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b5249"/>
                </a:solidFill>
                <a:latin typeface="Arial"/>
                <a:ea typeface="Times New Roman"/>
              </a:rPr>
              <a:t>La licuefacción de material no consolidad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b5249"/>
                </a:solidFill>
                <a:latin typeface="Arial"/>
                <a:ea typeface="Times New Roman"/>
              </a:rPr>
              <a:t>La subsidencia o depresión de superficie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b5249"/>
                </a:solidFill>
                <a:latin typeface="Arial"/>
                <a:ea typeface="Times New Roman"/>
              </a:rPr>
              <a:t>Los tsunamis u ondas sísmicas marítimas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Inundacione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Inundaciones costeras: l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Times New Roman"/>
              </a:rPr>
              <a:t>as inundaciones marinas originadas por tormentas, son un aumento anormal del nivel del mar, asociado con los huracanes y otras tormentas marítimas: 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la destrucción debido a las inundaciones marinas es atribuible: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al impacto de las olas y al choque físico con objetos asociados al paso de las olas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a las fuerzas hidrostáticas/dinámicas y los efectos del agua al levantar y acarrear objetos.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Inundacione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Inundaciones de ríos: 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Times New Roman"/>
              </a:rPr>
              <a:t>Las inundaciones terrestres ocurren cuando se excede la capacidad de los lechos de los ríos para conducir el agua y esta rebalsa las riberas. Las inundaciones son fenómenos naturales que pueden ocurrir a Intervalos irregulares en cualquier riachuelo o río. El asentamiento en llanuras de inundación es la causa principal de los danos producidos por las inundaciones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  <a:ea typeface="Arial"/>
              </a:rPr>
              <a:t>Tsunamis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Arial"/>
                <a:ea typeface="Arial"/>
              </a:rPr>
              <a:t>Los tsunamis son ondas marinas de período largo generadas por eventos tales como los terremotos, actividad volcánica o deslizamientos de tierra submarinos. La cresta de estas ondas puede ser superior a alturas de 25 metros al llegar a aguas poco profundas. Las características singulares de los tsunamis (longitudes de onda generalmente mayores de 100 km, velocidades en el océano profundo hasta de 700 km por hora, y alturas de ola muy pequeñas en agua profunda) hacen que su detección y monitoreo sea muy difícil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Conceptos básico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La probabilidad se refiere al grado de certeza de ocurrencia de un evento en particular. Usualmente está basada en la frecuencia histórica: 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Times New Roman"/>
              </a:rPr>
              <a:t>la probabilidad de un huracán en un año dado podría 10%, si los huracanes han ocurrido en dos de los últimos 20 años.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Times New Roman"/>
              </a:rPr>
              <a:t>El riesgo es generalmente definido como la probabilidad de pérdida. En términos económicos esto se refiere a una disminución del ingreso debido a pérdidas que resultan de un peligro natura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Conceptos básico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Arial"/>
                <a:ea typeface="Times New Roman"/>
              </a:rPr>
              <a:t>La aversión al riesgo se refiere a la actitud individual hacia el riesgo. La mayoría de las personas son contrarias al riesgo, es decir, están llanas a aceptar algún costo para evitar el riesgo. Pero hay un amplio espectro en los grados de aversión: para evitar un nivel dado de riesgo, algunas personas pagarán más que otra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Arial"/>
                <a:ea typeface="Times New Roman"/>
              </a:rPr>
              <a:t>La valuación es la cuantifícación de un riesgo. Requiere determinar tanto las consecuencias de un evento como las probabilidades de que ocurra.    </a:t>
            </a:r>
            <a:r>
              <a:rPr b="0" lang="es-ES" sz="2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Conceptos básico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Times New Roman"/>
              </a:rPr>
              <a:t>El manejo de riesgo se refiere a acciones tomadas para reducir las consecuencias o la probabilidad de eventos desfavorables. De igual manera, el manejo del peligro natural se refiere a las actividades que se ejecute para reducir los efectos negativos de los peligros natural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Times New Roman"/>
              </a:rPr>
              <a:t>Un proyecto de inversión es el uso de capital para crear bienes capaces de generar un flujo de beneficios en el tiempo.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Arial"/>
              </a:rPr>
              <a:t>Introducción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8227800" cy="46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b5249"/>
                </a:solidFill>
                <a:latin typeface="Arial"/>
              </a:rPr>
              <a:t>Los peligros naturales, como los recursos naturales, son parte de lo que ofrecen nuestros sistemas naturale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b5249"/>
                </a:solidFill>
                <a:latin typeface="Arial"/>
              </a:rPr>
              <a:t>Pueden ser considerados como recursos negativos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b5249"/>
                </a:solidFill>
                <a:latin typeface="Arial"/>
              </a:rPr>
              <a:t>Los peligros naturales constituyen un elemento de los "problemas ambientales": alteran los ecosistemas naturales e incrementan el impacto de su degradación, reflejan el daño hecho por los humanos a su medio ambiente y pueden afectar a gran número de persona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Arial"/>
              </a:rPr>
              <a:t>Introducción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27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Importantes áreas del mundo se encuentran sujetas a los riesgos naturales: terremotos, erupciones volcánicas, sequías,  inundaciones y huracan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Existe una estrecha relación mutua entre el deterioro del ambiente y los peligros naturales: la erosión del suelo, la deforestación, la desertificación y la degradación costanera, aumentan el riesgo de los eventos extremos;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A la vez los peligros naturales aceleran la degradación ambiental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El potencial para ocasionar pérdidas humanas y económicas se relaciona directamente con su vulnerabilidad ante los peligros natural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Arial"/>
              </a:rPr>
              <a:t>Introducción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27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Durante las últimas décadas, los eventos extremos han aumentado en número e impacto, obstaculizando gravemente el proceso de desarrollo y requiriendo una substancial reasignación de recursos destinados para el desarrollo, el socorro y la recuperación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La vulnerabilidad ante los desastres naturales aumenta debido a la continua degradación ambiental, crecimiento demográfico, ubicación de inversiones en áreas vulnerables, y concentración de infraestructura e industrias en áreas sujetas a los desastres.</a:t>
            </a:r>
            <a:r>
              <a:rPr b="0" lang="es-MX" sz="2800" spc="-1" strike="noStrike">
                <a:solidFill>
                  <a:srgbClr val="5b524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Arial"/>
                <a:ea typeface="Times New Roman"/>
              </a:rPr>
              <a:t>¿Qué son peligros naturales?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Arial"/>
                <a:ea typeface="Arial"/>
              </a:rPr>
              <a:t>Los peligros naturales son "aquellos elementos del medio ambiente físico perjudiciales al hombre y causados por fuerzas ajenas a él" (Burton 1978).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Arial"/>
                <a:ea typeface="Arial"/>
              </a:rPr>
              <a:t>Todos los fenómenos atmosféricos, hidrológicos, geológicos (especialmente sísmicos y volcánicos) u originados por el fuego que, por razón del lugar en que ocurren, su severidad y frecuencia, pueden afectar de manera adversa a los seres humanos, a sus estructuras o actividades.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Arial"/>
                <a:ea typeface="Times New Roman"/>
              </a:rPr>
              <a:t>¿Qué son peligros naturales?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En algunos países se utiliza el término amenaza natural en sustitución de la de peligro natural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Times New Roman"/>
              </a:rPr>
              <a:t>El calificativo natural es utilizado para excluir de la definición peligros originados por los seres humanos tales como guerras, polución y contaminación química, o peligros no necesariamente relacionados con el entorno físico: tales los casos de enfermedades infecciosas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Arial"/>
                <a:ea typeface="Arial"/>
              </a:rPr>
              <a:t>¿Cuan naturales son los peligros naturales?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Times New Roman"/>
              </a:rPr>
              <a:t>A pesar de la calificación de "naturales", estos peligros tienen ciertos elementos de participación humana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Times New Roman"/>
              </a:rPr>
              <a:t>3 conceptos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Arial"/>
                <a:ea typeface="Times New Roman"/>
              </a:rPr>
              <a:t>Evento físico:</a:t>
            </a: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Times New Roman"/>
              </a:rPr>
              <a:t> fenómeno natural que no afecta a los seres humanos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Arial"/>
                <a:ea typeface="Times New Roman"/>
              </a:rPr>
              <a:t>Peligro natural: </a:t>
            </a: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Times New Roman"/>
              </a:rPr>
              <a:t>fenómeno natural que ocurre en un área poblada o con infraestructura que puede ser dañada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Arial"/>
                <a:ea typeface="Times New Roman"/>
              </a:rPr>
              <a:t>Desastre natural</a:t>
            </a: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Times New Roman"/>
              </a:rPr>
              <a:t>, es un peligro natural que causa un número inaceptable de muertes o daños a propiedades.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7840" y="907920"/>
            <a:ext cx="39625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5b5249"/>
                </a:solidFill>
                <a:uFillTx/>
                <a:latin typeface="Arial"/>
                <a:ea typeface="Arial"/>
              </a:rPr>
              <a:t>Atmosféricos</a:t>
            </a: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Tempestades de granizo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Huracane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Rayo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Tornado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Tempestades tropicales.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5b5249"/>
                </a:solidFill>
                <a:uFillTx/>
                <a:latin typeface="Arial"/>
                <a:ea typeface="Arial"/>
              </a:rPr>
              <a:t>Sísmicos</a:t>
            </a: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Ruptura de falla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Sacudimiento del terreno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Esparcimiento lateral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Licuefacción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Tsunami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Seiche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355640" y="836640"/>
            <a:ext cx="449604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5b5249"/>
                </a:solidFill>
                <a:uFillTx/>
                <a:latin typeface="Arial"/>
                <a:ea typeface="Arial"/>
              </a:rPr>
              <a:t>Geológicos/hidrológicos</a:t>
            </a:r>
            <a:r>
              <a:rPr b="0" lang="en-US" sz="26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Arial"/>
                <a:ea typeface="Arial"/>
              </a:rPr>
              <a:t>Avalanchas por derrubio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Arial"/>
                <a:ea typeface="Arial"/>
              </a:rPr>
              <a:t>Suelos expansivo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Arial"/>
                <a:ea typeface="Arial"/>
              </a:rPr>
              <a:t>Deslizamientos de tierra (“aluvión”)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Arial"/>
                <a:ea typeface="Arial"/>
              </a:rPr>
              <a:t>Caída de roca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Arial"/>
                <a:ea typeface="Arial"/>
              </a:rPr>
              <a:t>Deslizamientos submarino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Arial"/>
                <a:ea typeface="Arial"/>
              </a:rPr>
              <a:t>Hundimiento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724280" y="907560"/>
            <a:ext cx="4191120" cy="56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5b5249"/>
                </a:solidFill>
                <a:uFillTx/>
                <a:latin typeface="Arial"/>
                <a:ea typeface="Arial"/>
              </a:rPr>
              <a:t>Volcánicos</a:t>
            </a: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Tetra (ceniza, "lapilli")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Gase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Flujos de lava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Flujos de lodo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Proyectiles y explosiones laterale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Flujos piroclástico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5b5249"/>
                </a:solidFill>
                <a:uFillTx/>
                <a:latin typeface="Arial"/>
                <a:ea typeface="Arial"/>
              </a:rPr>
              <a:t>Incendios</a:t>
            </a: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Chamarasca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Bosque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Pasto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Sabana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7360" y="836640"/>
            <a:ext cx="441936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5b5249"/>
                </a:solidFill>
                <a:uFillTx/>
                <a:latin typeface="Arial"/>
                <a:ea typeface="Arial"/>
              </a:rPr>
              <a:t>Hidrológico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Inundaciones costera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Desertificación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Salinización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Sequía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Erosión y sedimentación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Inundaciones de río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Tempestades marinas y marejadas</a:t>
            </a:r>
            <a:r>
              <a:rPr b="0" lang="es-ES" sz="26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8T21:22:57Z</dcterms:created>
  <dc:creator>ING. Minas </dc:creator>
  <dc:description/>
  <dc:language>en-US</dc:language>
  <cp:lastModifiedBy>Ingrid</cp:lastModifiedBy>
  <dcterms:modified xsi:type="dcterms:W3CDTF">2007-08-16T13:57:55Z</dcterms:modified>
  <cp:revision>25</cp:revision>
  <dc:subject/>
  <dc:title>Gestión Ambiental en Minería MI55D</dc:title>
</cp:coreProperties>
</file>