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D0E-534F-4F07-A2D8-24CCD863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39D-C2AA-4AA6-92D8-5EF8413A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D8B-AD76-4F4D-A31C-350717D5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FE9-94F7-4047-AA16-29C32256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9243-A275-4CE4-9C5D-1A35216C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F634-25CA-4AC4-9118-5661210F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6201-741A-42AF-BC03-300623C8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752D-4227-4124-8B74-7B99AA84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EB74-9FCB-435A-A0F4-561460EB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8BB9-0248-4C7D-AC2E-97546BA8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CEC8-BDFE-477D-9869-F226FCD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AD1-AF13-484C-A490-19806C62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E36F-3F19-42B2-A690-7BBC122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40B3-3EB9-4891-83D1-A853C67D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D3A4-15D5-447F-AEFE-12A665D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FCA1-3258-4307-8D19-27A9995D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6117-97B3-4821-AD98-77BA2F19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AB2-66F3-4872-89AF-AD24B6A3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6A2-5DE5-4923-88DF-CE245103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CDD-41F7-42D4-80C0-4756F899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553-FE1E-4C0B-BC74-7AD78445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D3A-A0A1-4F10-B13B-56FF469E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F22-2CE9-43BF-9000-72EF2A9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73F-67EE-44C6-A8CB-FCD03E0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7DE1-6A69-47A4-9879-36499BDF86A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09D9-B192-47BD-86B4-68693689C5B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apítulo 2b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Peligros natural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Terremot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erremotos son causados por una súbita liberación de energía acumulada lentamente por deformaciones a lo largo de una falla en la corteza terrestr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s asociad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sacudimiento del suel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fallamien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deslizamientos da tier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licuefacción de material no consolidad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subsidencia o depresión de superfici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tsunamis u ondas sísmicas marítimas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: 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s inundaciones marinas originadas por tormentas, son un aumento anormal del nivel del mar, asociado con los huracanes y otras tormentas marítima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destrucción debido a las inundaciones marinas es atribuible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l impacto de las olas y al choque físico con objetos asociados al paso de las ola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 las fuerzas hidrostáticas/dinámicas y los efectos del agua al levantar y acarrear objeto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s inundaciones terrestres ocurren cuando se excede la capacidad de los lechos de los ríos para conducir el agua y esta rebalsa las riberas. Las inundaciones son fenómenos naturales que pueden ocurrir a Intervalos irregulares en cualquier riachuelo o río. El asentamiento en llanuras de inundación es la causa principal de los danos producidos por las inundacion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Arial"/>
              </a:rPr>
              <a:t>Tsunami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sunamis son ondas marinas de período largo generadas por eventos tales como los terremotos, actividad volcánica o deslizamientos de tierra submarinos. La cresta de estas ondas puede ser superior a alturas de 25 metros al llegar a aguas poco profundas. Las características singulares de los tsunamis (longitudes de onda generalmente mayores de 100 km, velocidades en el océano profundo hasta de 700 km por hora, y alturas de ola muy pequeñas en agua profunda) hacen que su detección y monitoreo sea muy difíci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probabilidad se refiere al grado de certeza de ocurrencia de un evento en particular. Usualmente está basada en la frecuencia histórica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probabilidad de un huracán en un año dado podría 10%, si los huracanes han ocurrido en dos de los últimos 20 años.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riesgo es generalmente definido como la probabilidad de pérdida. En términos económicos esto se refiere a una disminución del ingreso debido a pérdidas que resultan de un peligro natu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aversión al riesgo se refiere a la actitud individual hacia el riesgo. La mayoría de las personas son contrarias al riesgo, es decir, están llanas a aceptar algún costo para evitar el riesgo. Pero hay un amplio espectro en los grados de aversión: para evitar un nivel dado de riesgo, algunas personas pagarán más que otr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valuación es la cuantifícación de un riesgo. Requiere determinar tanto las consecuencias de un evento como las probabilidades de que ocurra.    </a:t>
            </a: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manejo de riesgo se refiere a acciones tomadas para reducir las consecuencias o la probabilidad de eventos desfavorables. De igual manera, el manejo del peligro natural se refiere a las actividades que se ejecute para reducir los efectos negativos d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Un proyecto de inversión es el uso de capital para crear bienes capaces de generar un flujo de beneficios en el tiempo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278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Los peligros naturales, como los recursos naturales, son parte de lo que ofrecen nuestros sistemas natural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Pueden ser considerados como recursos negativo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Los peligros naturales constituyen un elemento de los "problemas ambientales": alteran los ecosistemas naturales e incrementan el impacto de su degradación, reflejan el daño hecho por los humanos a su medio ambiente y pueden afectar a gran número de person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2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mportantes áreas del mundo se encuentran sujetas a los riesgos naturales: terremotos, erupciones volcánicas, sequías,  inundaciones y huraca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iste una estrecha relación mutua entre el deterioro del ambiente y los peligros naturales: la erosión del suelo, la deforestación, la desertificación y la degradación costanera, aumentan el riesgo de los eventos extremo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la vez los peligros naturales aceleran la degradación ambient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 potencial para ocasionar pérdidas humanas y económicas se relaciona directamente con su vulnerabilidad ant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27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urante las últimas décadas, los eventos extremos han aumentado en número e impacto, obstaculizando gravemente el proceso de desarrollo y requiriendo una substancial reasignación de recursos destinados para el desarrollo, el socorro y la recuperació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a vulnerabilidad ante los desastres naturales aumenta debido a la continua degradación ambiental, crecimiento demográfico, ubicación de inversiones en áreas vulnerables, y concentración de infraestructura e industrias en áreas sujetas a los desastres.</a:t>
            </a: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peligros naturales son "aquellos elementos del medio ambiente físico perjudiciales al hombre y causados por fuerzas ajenas a él" (Burton 1978)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Todos los fenómenos atmosféricos, hidrológicos, geológicos (especialmente sísmicos y volcánicos) u originados por el fuego que, por razón del lugar en que ocurren, su severidad y frecuencia, pueden afectar de manera adversa a los seres humanos, a sus estructuras o actividades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En algunos países se utiliza el término amenaza natural en sustitución de la de peligro natur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calificativo natural es utilizado para excluir de la definición peligros originados por los seres humanos tales como guerras, polución y contaminación química, o peligros no necesariamente relacionados con el entorno físico: tales los casos de enfermedades infecciosa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Arial"/>
              </a:rPr>
              <a:t>¿Cuan naturales son los peligros naturales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 pesar de la calificación de "naturales", estos peligros tienen ciertos elementos de participación human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3 concept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vento físico: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 fenómeno natural que no afecta a los seres humano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 natural: 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fenómeno natural que ocurre en un área poblada o con infraestructura que puede ser dañad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Desastre natural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, es un peligro natural que causa un número inaceptable de muertes o daños a propiedade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7840" y="90792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Atmosfér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de graniz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Huracan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ay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ornad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tropicale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Sísm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uptura de fall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cudimiento del terren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sparcimiento later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Licuefac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sunami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ich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5640" y="836640"/>
            <a:ext cx="44960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Geológicos/hidrológicos</a:t>
            </a: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Avalanchas por derrubi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Suelos expans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de tierra (“aluvión”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Caída de roc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submarin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Hundimi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24280" y="907560"/>
            <a:ext cx="419112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Volcán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tra (ceniza, "lapilli"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Gas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av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od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royectiles y explosiones latera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piroclást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Incendi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Chamarasc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Bosqu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ast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ban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7360" y="836640"/>
            <a:ext cx="4419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Hidrológ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Desertific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liniz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quí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rosión y sediment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marinas y marejadas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22:57Z</dcterms:created>
  <dc:creator>ING. Minas </dc:creator>
  <dc:description/>
  <dc:language>en-US</dc:language>
  <cp:lastModifiedBy>Ingrid</cp:lastModifiedBy>
  <dcterms:modified xsi:type="dcterms:W3CDTF">2007-08-16T13:57:55Z</dcterms:modified>
  <cp:revision>25</cp:revision>
  <dc:subject/>
  <dc:title>Gestión Ambiental en Minería MI55D</dc:title>
</cp:coreProperties>
</file>