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4.png" ContentType="image/png"/>
  <Override PartName="/ppt/media/image11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3.jpeg" ContentType="image/jpeg"/>
  <Override PartName="/ppt/media/image3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12.png" ContentType="image/png"/>
  <Override PartName="/ppt/media/image49.jpeg" ContentType="image/jpeg"/>
  <Override PartName="/ppt/media/image34.jpeg" ContentType="image/jpeg"/>
  <Override PartName="/ppt/media/image42.png" ContentType="image/png"/>
  <Override PartName="/ppt/media/image33.png" ContentType="image/png"/>
  <Override PartName="/ppt/media/image52.jpeg" ContentType="image/jpeg"/>
  <Override PartName="/ppt/media/image45.png" ContentType="image/png"/>
  <Override PartName="/ppt/media/image46.png" ContentType="image/png"/>
  <Override PartName="/ppt/media/image32.jpeg" ContentType="image/jpeg"/>
  <Override PartName="/ppt/media/image5.jpeg" ContentType="image/jpeg"/>
  <Override PartName="/ppt/media/image51.png" ContentType="image/png"/>
  <Override PartName="/ppt/media/image30.jpeg" ContentType="image/jpeg"/>
  <Override PartName="/ppt/media/image43.png" ContentType="image/png"/>
  <Override PartName="/ppt/media/image48.png" ContentType="image/png"/>
  <Override PartName="/ppt/media/image9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6.png" ContentType="image/png"/>
  <Override PartName="/ppt/media/image2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A6CF-24BB-4D75-BDB7-AF9377C3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8064-A2D3-4CBF-BB60-0B4112EB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EB1E-9F28-4383-80F0-D332852F7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8E59-ACDF-4524-A42A-9E7C66376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E3DA-467B-42F2-833A-3C83949D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56CA-ABC3-4FFB-A221-4FF30F91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2F89-AEDA-4EEC-B15D-BB38542A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1A0F-E88A-422C-B186-87157E00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E37C-29E3-4529-BA88-7B3826CE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0BA2-6CF1-4FFC-933C-67F0FADA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8670-A2E9-4D17-9545-D9F70889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8FBA-CA95-40D2-86C8-16145482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3FA6-585D-4657-9540-AAE141C0B6E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2852640"/>
            <a:ext cx="79250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Tema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Sistema de Observ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en Meteorolog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62120" y="12780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962520" y="12780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562720" y="1278000"/>
            <a:ext cx="1600200" cy="1143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2362320" y="12780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238880" y="1278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2268360" y="2421000"/>
            <a:ext cx="5112000" cy="4103640"/>
            <a:chOff x="2268360" y="2421000"/>
            <a:chExt cx="5112000" cy="4103640"/>
          </a:xfrm>
        </p:grpSpPr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2268360" y="2421000"/>
              <a:ext cx="5112000" cy="41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2268360" y="2421000"/>
              <a:ext cx="1625400" cy="205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"/>
          <p:cNvSpPr/>
          <p:nvPr/>
        </p:nvSpPr>
        <p:spPr>
          <a:xfrm>
            <a:off x="755640" y="126828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Nefobasimetro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Ceilometer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): Envia y recibe pulso laser. Retorno depende de existencia de nubes, permitiendo conocer la altura de su base. Uso en aeropuerto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l menos 3 en Chile (DMC, UCH). US$ 3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1880" y="692280"/>
            <a:ext cx="57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ercepción remota: plataformas en superfi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700360" y="69228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jemplo NEFOBASI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@ DGF-UCH (en operación desde Enero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95280" y="1755720"/>
            <a:ext cx="8424720" cy="4749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95280" y="404640"/>
            <a:ext cx="16574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771640" y="2421000"/>
            <a:ext cx="4321440" cy="4043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84360" y="1413000"/>
            <a:ext cx="82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LIDAR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 Envia y recive pulso laser. Su disperción y retorno depende de la presencia de aerosoles, permitiendo conocer la altura de la capa de mezcla. Uso en estudios de calida del aire. US$ 100.000. No hay en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3360" y="762120"/>
            <a:ext cx="57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ercepción remota: plataformas en superfi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115272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763640" y="692280"/>
            <a:ext cx="60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ercepción remota: plataformas en superfi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24000" y="3213000"/>
            <a:ext cx="3816360" cy="2862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84360" y="1413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SODAR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 Envia y recive pulso acustico. Su disperción y retorno depende de la velocidad del viento, permitiendo conocer su perfil vertical (</a:t>
            </a:r>
            <a:r>
              <a:rPr b="1" lang="es-CL" sz="1800" spc="-1" strike="noStrike">
                <a:solidFill>
                  <a:srgbClr val="ff9999"/>
                </a:solidFill>
                <a:latin typeface="Arial"/>
              </a:rPr>
              <a:t>wind profiler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). Uso en estudios de calida del aire, generación eolica, etc. US$ 200.000. Varios en Chile (Paipote, Ventana, Chuqicam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356000" y="2997360"/>
            <a:ext cx="435636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9640" y="1484280"/>
            <a:ext cx="808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RAS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(Radio Acoustic Sounding System): Emite y recibe ondas de radio, cuya disperción depende de la temperatura y turbulencia, permitiendo estimar el perfil de temperatura. Uso en estudios de calida del air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US$ 200.000. No hay en Chile actualm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63640" y="692280"/>
            <a:ext cx="60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ercepción remota: plataformas en superfi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11280" y="3429000"/>
            <a:ext cx="360036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500720" y="3284640"/>
            <a:ext cx="41036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2340000" y="2637000"/>
            <a:ext cx="4463640" cy="3847680"/>
            <a:chOff x="2340000" y="2637000"/>
            <a:chExt cx="4463640" cy="3847680"/>
          </a:xfrm>
        </p:grpSpPr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2340000" y="2637000"/>
              <a:ext cx="4463640" cy="38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2340000" y="2637000"/>
              <a:ext cx="1782360" cy="17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"/>
          <p:cNvSpPr/>
          <p:nvPr/>
        </p:nvSpPr>
        <p:spPr>
          <a:xfrm>
            <a:off x="900000" y="1413000"/>
            <a:ext cx="75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adares meteorológico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emplean dispersión de microondas por hidrometeoros y efecto doppler para determinar precipitación y v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US$ 600.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1880" y="765000"/>
            <a:ext cx="57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ercepción remota: plataformas en superfi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0880" y="685800"/>
            <a:ext cx="8610840" cy="35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cepción Remo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taformas sateli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ómetros y radares en orbita nos permiten conocer variables atmosféricas a una escala global y con resolución de mesoescala. Particularmente bienvenidos donde datos superficiales / radiosondas son escasos (e.g., Pacifico su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eros satélites meteorológicos (TIROS) datan de los 50’, pero desde los años 90’ hay un aumento increíble de la capacidad y diversidad de “satélites ambientales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ejemplos mas notables s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676520" y="4486320"/>
            <a:ext cx="5429160" cy="1380960"/>
            <a:chOff x="1676520" y="4486320"/>
            <a:chExt cx="5429160" cy="138096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1676520" y="4486320"/>
              <a:ext cx="2133360" cy="138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3886200" y="4486320"/>
              <a:ext cx="1828800" cy="137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4"/>
            <a:stretch/>
          </p:blipFill>
          <p:spPr>
            <a:xfrm>
              <a:off x="5791320" y="4486320"/>
              <a:ext cx="131436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"/>
          <p:cNvSpPr/>
          <p:nvPr/>
        </p:nvSpPr>
        <p:spPr>
          <a:xfrm>
            <a:off x="2118960" y="595476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G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68160" y="594360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TR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66920" y="594360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Quiks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52480" y="1008000"/>
            <a:ext cx="6019920" cy="5011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752480" y="5791320"/>
            <a:ext cx="6019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..pero hay muchos ma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523880" y="1905120"/>
            <a:ext cx="2819520" cy="1990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648320" y="41911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4724280" y="190512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523880" y="419904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134080" y="914400"/>
            <a:ext cx="512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OES: Geostationary environmental satell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osee un radiometro multicanal: VIS, IR, W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01640" y="556272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W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02040" y="2057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54520" y="556272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V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666880" y="1828800"/>
            <a:ext cx="3524400" cy="4505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447920" y="9907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iguiendo los ragos nubosos de GOES se puede inferir el campo de viento a distintos nivele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26920" y="784080"/>
            <a:ext cx="77724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66"/>
                </a:solidFill>
                <a:latin typeface="Arial"/>
              </a:rPr>
              <a:t>Preguntas cla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Arial"/>
              </a:rPr>
              <a:t>¿cómo conocemos las condiciones en superificie y altu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Arial"/>
              </a:rPr>
              <a:t>¿quién se encarga de todo es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Arial"/>
              </a:rPr>
              <a:t>¿cómo nos ayudan los satelites a conocer el tiemp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Arial"/>
              </a:rPr>
              <a:t>¿cómo representamos la atmósfe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495680" y="297180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58760" y="1447920"/>
            <a:ext cx="3956040" cy="4724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356560" y="660240"/>
            <a:ext cx="580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TRMM: Tropical Rainfall Measurement 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152388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adar (microondas) a bordo del satelite de orbita polar permite cuantificar el numero y tamaño de los hidrometeor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876920" y="3124080"/>
            <a:ext cx="3886200" cy="3413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04920" y="1752480"/>
            <a:ext cx="4286160" cy="47628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358000" y="660240"/>
            <a:ext cx="476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QuikSCAT (seawind) y otras mi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14479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caterometer (mide rugos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n superficie del mar) a bordo del satelite de orbita polar permite estimar viento en superfic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771640" y="620640"/>
            <a:ext cx="32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66"/>
                </a:solidFill>
                <a:latin typeface="Arial"/>
              </a:rPr>
              <a:t>REDES DE OBSERV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50920" y="1268280"/>
          <a:ext cx="8713800" cy="5040360"/>
        </p:xfrm>
        <a:graphic>
          <a:graphicData uri="http://schemas.openxmlformats.org/drawingml/2006/table">
            <a:tbl>
              <a:tblPr/>
              <a:tblGrid>
                <a:gridCol w="1800000"/>
                <a:gridCol w="2376720"/>
                <a:gridCol w="2089080"/>
                <a:gridCol w="2448000"/>
              </a:tblGrid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as p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849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óptic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eer datos para diagnóstico y pronóstico del tiem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, Td, Pres, Precip, Viento, Tiempo, etc. </a:t>
                      </a:r>
                      <a:r>
                        <a:rPr b="0" lang="es-E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atos de al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ios Meteorológicos Nacionales (e.g., DM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ológ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eer un registro continuo, largo y homogéneo de variables atmosfér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, HR, precip., pres., et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ios Meteorológicos Nacionales (e.g., DM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dad de aire y contaminación atmosfé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eer datos met. para gestión de calidad del ai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, HR, viento, turbulencia, etc. + Observaciones de calidad de ai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ncias ambientales (e.g., CONAMA) y empresas privadas (e.g., CODELC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dro-meteorológ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eer datos met. para gestión d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pitación, Caudal, Tempera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ncias hidrológicas (e.g., DGA) y empresas privadas (e.g, ENDES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66"/>
                    </a:solidFill>
                  </a:tcPr>
                </a:tc>
              </a:tr>
              <a:tr h="93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o-meteorológ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eer datos met. para gestión de recursos agrícol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, HR, radiación solar, evapotranspiración, humedad del suelo, et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ios Meteorológicos Nacionales y empresas privadas (e.g., DO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066680" y="2692440"/>
            <a:ext cx="7086600" cy="3784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62120" y="762120"/>
            <a:ext cx="7467480" cy="1618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d de estaciones de Sinópticas en Superfi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tierra + ocean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bservaciones met. cada 6 horas (UTC): 0, 6, 12,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Chile HL=UTC-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990720" y="2590920"/>
            <a:ext cx="7229520" cy="26128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736640" y="1335240"/>
            <a:ext cx="607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odo es coordinado por la OM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traves de los servicios met. n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3657600" cy="4572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79800" y="6068880"/>
            <a:ext cx="342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weather.uwyo.edu/surface/meteogra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38480" y="6095880"/>
            <a:ext cx="494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infomet.dgf.uchile.cl/OBSERVACIONES/observacione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33480" y="609480"/>
            <a:ext cx="75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Datos se transmiten en tiempo real a traves del GTS...disponible via interne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343400" y="1371600"/>
            <a:ext cx="43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990720" y="2438280"/>
            <a:ext cx="6933960" cy="3778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33520" y="1143000"/>
            <a:ext cx="7848360" cy="1008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d de Radiosondas (OMM, G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files verticales (20 km) de T, HR, viento, presión, cada 12 / 24 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33520" y="4952880"/>
            <a:ext cx="1631880" cy="15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09480" y="1066680"/>
            <a:ext cx="3810240" cy="50799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3733920" y="1676520"/>
            <a:ext cx="5105160" cy="4343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317840" y="609480"/>
            <a:ext cx="481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eather.uwyo.edu/upperair/sounding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914400" y="2639880"/>
            <a:ext cx="7407360" cy="3760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62120" y="762120"/>
            <a:ext cx="7848360" cy="1618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Observaciones en altura IV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nfo. Obtenida por Aviones comer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files verticales (0-10 km) de T, HR, viento, presión, y datos a nivel (10 km) a distintas horas. También se transmiten via G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11280" y="5300640"/>
            <a:ext cx="223200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666880" y="1066680"/>
            <a:ext cx="3944880" cy="4114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d de observación local (CONAMA-DM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5486400"/>
            <a:ext cx="3944880" cy="800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jemplo: red de CONAMA-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bservaciones horarias de T, HR, vient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ad. Solar y calidad del 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219320" y="990720"/>
          <a:ext cx="6858000" cy="4952880"/>
        </p:xfrm>
        <a:graphic>
          <a:graphicData uri="http://schemas.openxmlformats.org/drawingml/2006/table">
            <a:tbl>
              <a:tblPr/>
              <a:tblGrid>
                <a:gridCol w="2514600"/>
                <a:gridCol w="2514600"/>
                <a:gridCol w="1828800"/>
              </a:tblGrid>
              <a:tr h="37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a del 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o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max, T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edad del 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rometro / Psicro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s pa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4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pit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viometro / Nivo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por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pori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ometro / Vele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f,dd) o (u,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ión Atmosfér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ometro / Alti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fc, Pn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as de sol, intens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io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ación so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rano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a, difu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ación infraroja / ne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metro IR / ne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a del suel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ometr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os nive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jo calor al submed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jos turbulen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o. són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, LE, 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ació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metro multica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V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68320" y="533520"/>
            <a:ext cx="43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Observaciones en Superfi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00200" y="6095880"/>
            <a:ext cx="6111720" cy="337320"/>
            <a:chOff x="1600200" y="6095880"/>
            <a:chExt cx="6111720" cy="337320"/>
          </a:xfrm>
        </p:grpSpPr>
        <p:sp>
          <p:nvSpPr>
            <p:cNvPr id="51" name=""/>
            <p:cNvSpPr/>
            <p:nvPr/>
          </p:nvSpPr>
          <p:spPr>
            <a:xfrm>
              <a:off x="1600200" y="6171840"/>
              <a:ext cx="228600" cy="2286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28800" y="6095880"/>
              <a:ext cx="115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AgroM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4560" y="6171840"/>
              <a:ext cx="228600" cy="2286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13160" y="6171840"/>
              <a:ext cx="228600" cy="2286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717720" y="6095880"/>
              <a:ext cx="115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Sino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32120" y="6171840"/>
              <a:ext cx="228600" cy="228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60720" y="6095880"/>
              <a:ext cx="115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MicroM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324480" y="6171840"/>
              <a:ext cx="228600" cy="22860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53080" y="6095880"/>
              <a:ext cx="115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U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4419720" cy="3465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664720" y="1041480"/>
            <a:ext cx="474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stación meteorologica conven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34960" y="2514600"/>
            <a:ext cx="3698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bertizo meteorológic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ermómetro (Hg) normal y max/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ermómetro de bulbo húmedo/seco (q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Higr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etro de cabello (H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arómetro (presió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Pluviómet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Anemómetro-vel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Arial"/>
              </a:rPr>
              <a:t>Heliógrafo (horas de so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3514680" cy="4971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194360" y="1295280"/>
            <a:ext cx="4140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ción Meteorológica automát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rmómetro e higro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ira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tro (Rad. Solar / ne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luvió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nemómetro-vel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tros sens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atalogger – modulo mem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stema de transmisión (tel., radio, s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44600" y="4724280"/>
            <a:ext cx="4857840" cy="1067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ediciones más precis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ediciones más frecuentes (1h, 1min, 1seg, etc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onitoreo en tiempo real / remoto / continu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ost-procesamiento de la información (alert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371600" y="914400"/>
            <a:ext cx="6477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ervaciones en altura I: Globos Pilotos (PIB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ón económica de vientos en altura a través del seguimiento óptico (az,el) de un globo de H o H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828800" y="2514600"/>
            <a:ext cx="548640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684360" y="2971440"/>
            <a:ext cx="4298400" cy="3073680"/>
            <a:chOff x="684360" y="2971440"/>
            <a:chExt cx="4298400" cy="3073680"/>
          </a:xfrm>
        </p:grpSpPr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684360" y="2971800"/>
              <a:ext cx="2031480" cy="307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3"/>
            <a:stretch/>
          </p:blipFill>
          <p:spPr>
            <a:xfrm>
              <a:off x="3198600" y="2971800"/>
              <a:ext cx="1784160" cy="30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 flipV="1">
              <a:off x="1446120" y="2971440"/>
              <a:ext cx="1752120" cy="1981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522080" y="5257440"/>
              <a:ext cx="167616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371600" y="914400"/>
            <a:ext cx="685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Observaciones en altura II: Radioson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edición de viento (GPS), temperatura y humedad a distintos niveles de presión / altura. Aprox. US$ 200 / 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292720" y="2924280"/>
            <a:ext cx="35272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85800" y="2819520"/>
            <a:ext cx="4405320" cy="3303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410080" y="1219320"/>
            <a:ext cx="2799000" cy="4146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57200" y="685800"/>
            <a:ext cx="685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ervaciones en altura III: Globos Cau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ción de viento (GPS), temperatura y humedad a distintos niveles de presión / altura. Alcance limi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2120" y="762120"/>
            <a:ext cx="7848360" cy="1618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Observaciones en altura IV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nfo. Obtenida por Aviones comer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files verticales (0-10 km) de T, HR, viento, presión, y datos a nivel (10 km) a distintas horas. También se transmiten via G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24000" y="2637000"/>
            <a:ext cx="4876560" cy="2090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39640" y="4508640"/>
            <a:ext cx="1308240" cy="1461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564000" y="3933720"/>
            <a:ext cx="3510000" cy="2603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6084720" y="2492280"/>
            <a:ext cx="259272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9:46:14Z</dcterms:created>
  <dc:creator>U. de Chile</dc:creator>
  <dc:description/>
  <dc:language>en-US</dc:language>
  <cp:lastModifiedBy>Ingrid</cp:lastModifiedBy>
  <dcterms:modified xsi:type="dcterms:W3CDTF">2007-08-29T18:45:39Z</dcterms:modified>
  <cp:revision>91</cp:revision>
  <dc:subject/>
  <dc:title>Diapositiva 1</dc:title>
</cp:coreProperties>
</file>