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42.png" ContentType="image/png"/>
  <Override PartName="/ppt/media/image33.png" ContentType="image/png"/>
  <Override PartName="/ppt/media/image52.jpeg" ContentType="image/jpeg"/>
  <Override PartName="/ppt/media/image45.png" ContentType="image/png"/>
  <Override PartName="/ppt/media/image46.png" ContentType="image/png"/>
  <Override PartName="/ppt/media/image32.jpeg" ContentType="image/jpeg"/>
  <Override PartName="/ppt/media/image5.jpeg" ContentType="image/jpeg"/>
  <Override PartName="/ppt/media/image51.png" ContentType="image/png"/>
  <Override PartName="/ppt/media/image30.jpeg" ContentType="image/jpeg"/>
  <Override PartName="/ppt/media/image43.png" ContentType="image/png"/>
  <Override PartName="/ppt/media/image48.png" ContentType="image/png"/>
  <Override PartName="/ppt/media/image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582-2C27-4E63-8ED1-8DF8127B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BA4-33C9-4F65-B83F-E119C8A1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215-652C-4506-B4BC-B77CE0BE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55E-40E4-4491-9B64-85C8603A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594-24B0-4D8C-ACA9-964B99EC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DD5-4D4A-4FB1-A266-32EC8767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C45-ECFC-4921-ACEC-FE8BAE14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D47-42AC-4322-8562-28BE3017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735-0042-4B06-84F5-EEFA721B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07A-D8F5-4B50-B026-9130CCFF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5C8-DB2E-49BD-9352-9CCD0C9E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694-B817-4037-9865-A9090C1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AD56-21D4-4E91-BC7B-51D13B8514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852640"/>
            <a:ext cx="79250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ma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istema de Ob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n Meteor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562720" y="12780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623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8880" y="1278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68360" y="2421000"/>
            <a:ext cx="5112000" cy="4103640"/>
            <a:chOff x="2268360" y="2421000"/>
            <a:chExt cx="5112000" cy="4103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268360" y="2421000"/>
              <a:ext cx="5112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2268360" y="2421000"/>
              <a:ext cx="1625400" cy="205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755640" y="1268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Nefobasimetr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Ceilomet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: Envia y recibe pulso laser. Retorno depende de existencia de nubes, permitiendo conocer la altura de su base. Uso en aeropuert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 menos 3 en Chile (DMC, UCH). US$ 3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1880" y="69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00360" y="692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 NEFOBASI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@ DGF-UCH (en operación desde Enero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755720"/>
            <a:ext cx="8424720" cy="474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4321440" cy="4043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141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I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laser. Su disperción y retorno depende de la presencia de aerosoles, permitiendo conocer la altura de la capa de mezcla. Uso en estudios de calida del aire. US$ 100.000. No hay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3360" y="76212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11527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141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SO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acustico. Su disperción y retorno depende de la velocidad del viento, permitiendo conocer su perfil vertical (</a:t>
            </a:r>
            <a:r>
              <a:rPr b="1" lang="es-CL" sz="1800" spc="-1" strike="noStrike">
                <a:solidFill>
                  <a:srgbClr val="ff9999"/>
                </a:solidFill>
                <a:latin typeface="Arial"/>
              </a:rPr>
              <a:t>wind profil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. Uso en estudios de calida del aire, generación eolica, etc. US$ 200.000. Varios en Chile (Paipote, Ventana, Chuqicam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356000" y="2997360"/>
            <a:ext cx="4356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484280"/>
            <a:ext cx="80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RAS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(Radio Acoustic Sounding System): Emite y recibe ondas de radio, cuya disperción depende de la temperatura y turbulencia, permitiendo estimar el perfil de temperatura. Uso en estudios de calida del air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S$ 200.000. No hay en Chile ac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60036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103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340000" y="2637000"/>
            <a:ext cx="4463640" cy="3847680"/>
            <a:chOff x="2340000" y="2637000"/>
            <a:chExt cx="4463640" cy="38476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340000" y="2637000"/>
              <a:ext cx="4463640" cy="38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40000" y="2637000"/>
              <a:ext cx="1782360" cy="17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900000" y="14130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es meteorológic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emplean dispersión de microondas por hidrometeoros y efecto doppler para determinar precipitación y v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US$ 60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1880" y="76500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85800"/>
            <a:ext cx="86108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ción Rem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aformas satel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ómetros y radares en orbita nos permiten conocer variables atmosféricas a una escala global y con resolución de mesoescala. Particularmente bienvenidos donde datos superficiales / radiosondas son escasos (e.g., Pacifico s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os satélites meteorológicos (TIROS) datan de los 50’, pero desde los años 90’ hay un aumento increíble de la capacidad y diversidad de “satélites ambientale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ejemplos mas notabl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76520" y="4486320"/>
            <a:ext cx="5429160" cy="1380960"/>
            <a:chOff x="1676520" y="4486320"/>
            <a:chExt cx="5429160" cy="138096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676520" y="4486320"/>
              <a:ext cx="213336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3886200" y="4486320"/>
              <a:ext cx="182880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5791320" y="4486320"/>
              <a:ext cx="13143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2118960" y="59547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8160" y="5943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6920" y="59436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1008000"/>
            <a:ext cx="6019920" cy="501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5791320"/>
            <a:ext cx="6019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..pero hay muchos m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2819520" cy="199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24280" y="19051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23880" y="41990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34080" y="914400"/>
            <a:ext cx="51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ES: Geostationary environmental satel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see un radiometro multicanal: VIS, IR, 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164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204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452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66880" y="1828800"/>
            <a:ext cx="3524400" cy="4505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990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uiendo los ragos nubosos de GOES se puede inferir el campo de viento a distintos nive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784080"/>
            <a:ext cx="7772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Preguntas cla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conocemos las condiciones en superificie y al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quién se encarga de todo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nos ayudan los satelites a conocer el tiem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representamos la atmósf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8760" y="1447920"/>
            <a:ext cx="395604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56560" y="66024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: Tropical Rainfall Measurement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5238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 (microondas) a bordo del satelite de orbita polar permite cuantificar el numero y tamaño de los hidrometeo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341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4286160" cy="4762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58000" y="6602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 (seawind) y otras m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447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caterometer (mide rugos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superficie del mar) a bordo del satelite de orbita polar permite estimar viento en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71640" y="620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REDES DE OBSER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268280"/>
          <a:ext cx="8713800" cy="5040360"/>
        </p:xfrm>
        <a:graphic>
          <a:graphicData uri="http://schemas.openxmlformats.org/drawingml/2006/table">
            <a:tbl>
              <a:tblPr/>
              <a:tblGrid>
                <a:gridCol w="1800000"/>
                <a:gridCol w="2376720"/>
                <a:gridCol w="2089080"/>
                <a:gridCol w="2448000"/>
              </a:tblGrid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as p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óp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para diagnóstico y pronóstico del ti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Td, Pres, Precip, Viento, Tiempo, etc. </a:t>
                      </a: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os de a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un registro continuo, largo y homogéneo de variables atmosfér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precip., pres.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aire y contaminación atmosf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calidad del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viento, turbulencia, etc. + Observaciones de calidad de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ambientales (e.g., CONAMA) y empresas privadas (e.g., CODEL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, Caudal, Temp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hidrológicas (e.g., DGA) y empresas privadas (e.g, ENDES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agrí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radiación solar, evapotranspiración, humedad del suelo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y empresas privadas (e.g., DO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2692440"/>
            <a:ext cx="7086600" cy="378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762120"/>
            <a:ext cx="746748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estaciones de Sinóptic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tierra + ocea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servaciones met. cada 6 horas (UTC): 0, 6, 12,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hile HL=UTC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229520" cy="2612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36640" y="1335240"/>
            <a:ext cx="60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do es coordinado por la OM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raves de los servicios met. 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9800" y="606888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eather.uwyo.edu/surface/meteo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6095880"/>
            <a:ext cx="49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infomet.dgf.uchile.cl/OBSERVACIONES/observacion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33480" y="609480"/>
            <a:ext cx="75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se transmiten en tiempo real a traves del GTS...disponible via intern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3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933960" cy="377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1143000"/>
            <a:ext cx="784836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Radiosondas (OMM, G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20 km) de T, HR, viento, presión, cada 12 / 24 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16318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733920" y="1676520"/>
            <a:ext cx="510516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317840" y="609480"/>
            <a:ext cx="481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eather.uwyo.edu/upperair/soundin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2639880"/>
            <a:ext cx="7407360" cy="3760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2232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4488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observación local (CONAMA-D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486400"/>
            <a:ext cx="3944880" cy="800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: red de CONAMA-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servaciones horarias de T, HR, vie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. Solar y calidad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19320" y="990720"/>
          <a:ext cx="6858000" cy="49528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18288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x, T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dad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rometro / Psicr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s pa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viometro / Niv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ro / Vel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f,dd) o (u,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 Atmosfé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ro / Alt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fc, P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 sol, inten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, dif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infraroja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IR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suel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s niv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 calor al sub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s turbul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. s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, LE,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multi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68320" y="53352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bservaciones en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6095880"/>
            <a:ext cx="6111720" cy="337320"/>
            <a:chOff x="1600200" y="6095880"/>
            <a:chExt cx="6111720" cy="337320"/>
          </a:xfrm>
        </p:grpSpPr>
        <p:sp>
          <p:nvSpPr>
            <p:cNvPr id="51" name=""/>
            <p:cNvSpPr/>
            <p:nvPr/>
          </p:nvSpPr>
          <p:spPr>
            <a:xfrm>
              <a:off x="160020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g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456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3160" y="6171840"/>
              <a:ext cx="22860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7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in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32120" y="617184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60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ic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24480" y="6171840"/>
              <a:ext cx="228600" cy="22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419720" cy="346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4720" y="104148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ación meteorologica conv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960" y="2514600"/>
            <a:ext cx="3698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bertizo meteoroló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(Hg) normal y max/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de bulbo húmedo/seco (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i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tro de cabello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rómetro (pres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Heliógrafo (horas de s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514680" cy="497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4360" y="1295280"/>
            <a:ext cx="41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ón Meteorológica automá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mómetro e higr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r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tro (Rad. Solar / 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sen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alogger – modulo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 de transmisión (tel., radio, s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44600" y="4724280"/>
            <a:ext cx="4857840" cy="106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precis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frecuentes (1h, 1min, 1seg, etc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itoreo en tiempo real / remoto / contin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t-procesamiento de la información (alert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91440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: Globos Pilotos (PIB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económica de vientos en altura a través del seguimiento óptico (az,el) de un globo de H o H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5486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84360" y="2971440"/>
            <a:ext cx="4298400" cy="3073680"/>
            <a:chOff x="684360" y="2971440"/>
            <a:chExt cx="4298400" cy="30736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84360" y="2971800"/>
              <a:ext cx="2031480" cy="30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198600" y="2971800"/>
              <a:ext cx="17841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V="1">
              <a:off x="1446120" y="2971440"/>
              <a:ext cx="175212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2080" y="5257440"/>
              <a:ext cx="167616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371600" y="9144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I: Radioso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prox. US$ 200 / 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527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405320" cy="330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10080" y="1219320"/>
            <a:ext cx="2799000" cy="414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6858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II: Globos Ca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lcance limi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4876560" cy="209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308240" cy="14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64000" y="3933720"/>
            <a:ext cx="3510000" cy="2603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084720" y="2492280"/>
            <a:ext cx="2592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46:14Z</dcterms:created>
  <dc:creator>U. de Chile</dc:creator>
  <dc:description/>
  <dc:language>en-US</dc:language>
  <cp:lastModifiedBy>Ingrid</cp:lastModifiedBy>
  <dcterms:modified xsi:type="dcterms:W3CDTF">2007-08-29T18:45:39Z</dcterms:modified>
  <cp:revision>91</cp:revision>
  <dc:subject/>
  <dc:title>Diapositiva 1</dc:title>
</cp:coreProperties>
</file>