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49.jpeg" ContentType="image/jpeg"/>
  <Override PartName="/ppt/media/image34.jpeg" ContentType="image/jpeg"/>
  <Override PartName="/ppt/media/image42.png" ContentType="image/png"/>
  <Override PartName="/ppt/media/image33.png" ContentType="image/png"/>
  <Override PartName="/ppt/media/image52.jpeg" ContentType="image/jpeg"/>
  <Override PartName="/ppt/media/image45.png" ContentType="image/png"/>
  <Override PartName="/ppt/media/image46.png" ContentType="image/png"/>
  <Override PartName="/ppt/media/image32.jpeg" ContentType="image/jpeg"/>
  <Override PartName="/ppt/media/image5.jpeg" ContentType="image/jpeg"/>
  <Override PartName="/ppt/media/image51.png" ContentType="image/png"/>
  <Override PartName="/ppt/media/image30.jpeg" ContentType="image/jpeg"/>
  <Override PartName="/ppt/media/image43.png" ContentType="image/png"/>
  <Override PartName="/ppt/media/image48.png" ContentType="image/png"/>
  <Override PartName="/ppt/media/image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DF3-DA6D-4000-961D-3D714D8E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3AB-BAAB-4733-934F-1EA13063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6A8-56AB-4F76-A4D0-3372DAD9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009-0F8B-412C-A74B-D6274747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04C-D65B-4B73-A8DF-D6F7153A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CF56-3083-40FC-BBDA-F2E10A55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6127-8C7E-4558-B04D-5F5E7F00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0A5-BDDD-4652-BADD-34AD129D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E3E-D0DF-4830-8446-10EF2DAD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51E-F0F1-4948-83C3-A1A70AC5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6B30-B601-4BC3-AF55-BA7EDFBE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2039-41C5-4674-AD0F-BE924BCC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C55B-3B18-4F57-88D5-EBE00392B57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852640"/>
            <a:ext cx="79250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ma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istema de Ob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n Meteor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562720" y="12780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623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38880" y="1278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68360" y="2421000"/>
            <a:ext cx="5112000" cy="4103640"/>
            <a:chOff x="2268360" y="2421000"/>
            <a:chExt cx="5112000" cy="41036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268360" y="2421000"/>
              <a:ext cx="5112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2268360" y="2421000"/>
              <a:ext cx="1625400" cy="205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755640" y="1268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Nefobasimetr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Ceilomete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: Envia y recibe pulso laser. Retorno depende de existencia de nubes, permitiendo conocer la altura de su base. Uso en aeropuert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 menos 3 en Chile (DMC, UCH). US$ 3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1880" y="69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00360" y="692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 NEFOBASI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@ DGF-UCH (en operación desde Enero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755720"/>
            <a:ext cx="8424720" cy="474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4321440" cy="4043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1413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LIDA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Envia y recive pulso laser. Su disperción y retorno depende de la presencia de aerosoles, permitiendo conocer la altura de la capa de mezcla. Uso en estudios de calida del aire. US$ 100.000. No hay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3360" y="76212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11527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63640" y="692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141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SODA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Envia y recive pulso acustico. Su disperción y retorno depende de la velocidad del viento, permitiendo conocer su perfil vertical (</a:t>
            </a:r>
            <a:r>
              <a:rPr b="1" lang="es-CL" sz="1800" spc="-1" strike="noStrike">
                <a:solidFill>
                  <a:srgbClr val="ff9999"/>
                </a:solidFill>
                <a:latin typeface="Arial"/>
              </a:rPr>
              <a:t>wind profile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. Uso en estudios de calida del aire, generación eolica, etc. US$ 200.000. Varios en Chile (Paipote, Ventana, Chuqicam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356000" y="2997360"/>
            <a:ext cx="4356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484280"/>
            <a:ext cx="80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RAS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(Radio Acoustic Sounding System): Emite y recibe ondas de radio, cuya disperción depende de la temperatura y turbulencia, permitiendo estimar el perfil de temperatura. Uso en estudios de calida del air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S$ 200.000. No hay en Chile ac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692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60036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103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340000" y="2637000"/>
            <a:ext cx="4463640" cy="3847680"/>
            <a:chOff x="2340000" y="2637000"/>
            <a:chExt cx="4463640" cy="38476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340000" y="2637000"/>
              <a:ext cx="4463640" cy="38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40000" y="2637000"/>
              <a:ext cx="1782360" cy="17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900000" y="14130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adares meteorológic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emplean dispersión de microondas por hidrometeoros y efecto doppler para determinar precipitación y v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US$ 60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1880" y="76500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85800"/>
            <a:ext cx="86108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ción Rem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aformas satel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ómetros y radares en orbita nos permiten conocer variables atmosféricas a una escala global y con resolución de mesoescala. Particularmente bienvenidos donde datos superficiales / radiosondas son escasos (e.g., Pacifico su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ros satélites meteorológicos (TIROS) datan de los 50’, pero desde los años 90’ hay un aumento increíble de la capacidad y diversidad de “satélites ambientale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ejemplos mas notabl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76520" y="4486320"/>
            <a:ext cx="5429160" cy="1380960"/>
            <a:chOff x="1676520" y="4486320"/>
            <a:chExt cx="5429160" cy="138096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1676520" y="4486320"/>
              <a:ext cx="213336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3886200" y="4486320"/>
              <a:ext cx="182880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5791320" y="4486320"/>
              <a:ext cx="131436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2118960" y="59547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8160" y="5943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6920" y="59436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iks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1008000"/>
            <a:ext cx="6019920" cy="501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5791320"/>
            <a:ext cx="6019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..pero hay muchos m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2819520" cy="199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24280" y="19051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23880" y="419904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34080" y="914400"/>
            <a:ext cx="51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ES: Geostationary environmental satell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see un radiometro multicanal: VIS, IR, 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1640" y="5562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204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4520" y="5562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66880" y="1828800"/>
            <a:ext cx="3524400" cy="4505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990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uiendo los ragos nubosos de GOES se puede inferir el campo de viento a distintos nive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784080"/>
            <a:ext cx="7772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Preguntas cla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conocemos las condiciones en superificie y alt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quién se encarga de todo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nos ayudan los satelites a conocer el tiem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representamos la atmósf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8760" y="1447920"/>
            <a:ext cx="395604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56560" y="66024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MM: Tropical Rainfall Measurement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5238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adar (microondas) a bordo del satelite de orbita polar permite cuantificar el numero y tamaño de los hidrometeo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341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4286160" cy="4762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58000" y="66024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ikSCAT (seawind) y otras m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447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caterometer (mide rugos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superficie del mar) a bordo del satelite de orbita polar permite estimar viento en superfi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71640" y="6206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66"/>
                </a:solidFill>
                <a:latin typeface="Arial"/>
              </a:rPr>
              <a:t>REDES DE OBSER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268280"/>
          <a:ext cx="8713800" cy="5040360"/>
        </p:xfrm>
        <a:graphic>
          <a:graphicData uri="http://schemas.openxmlformats.org/drawingml/2006/table">
            <a:tbl>
              <a:tblPr/>
              <a:tblGrid>
                <a:gridCol w="1800000"/>
                <a:gridCol w="2376720"/>
                <a:gridCol w="2089080"/>
                <a:gridCol w="2448000"/>
              </a:tblGrid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as p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ópt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para diagnóstico y pronóstico del ti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Td, Pres, Precip, Viento, Tiempo, etc. </a:t>
                      </a: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os de a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(e.g., D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un registro continuo, largo y homogéneo de variables atmosfér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precip., pres.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(e.g., D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aire y contaminación atmosf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calidad del 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viento, turbulencia, etc. + Observaciones de calidad de 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as ambientales (e.g., CONAMA) y empresas privadas (e.g., CODEL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o-meteor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ción, Caudal, Temp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as hidrológicas (e.g., DGA) y empresas privadas (e.g, ENDES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-meteor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recursos agríc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radiación solar, evapotranspiración, humedad del suelo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y empresas privadas (e.g., DO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2692440"/>
            <a:ext cx="7086600" cy="378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762120"/>
            <a:ext cx="746748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estaciones de Sinóptic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tierra + ocea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servaciones met. cada 6 horas (UTC): 0, 6, 12,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hile HL=UTC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229520" cy="2612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36640" y="1335240"/>
            <a:ext cx="60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do es coordinado por la OM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raves de los servicios met. 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9800" y="606888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eather.uwyo.edu/surface/meteogra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6095880"/>
            <a:ext cx="49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infomet.dgf.uchile.cl/OBSERVACIONES/observacion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33480" y="609480"/>
            <a:ext cx="75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se transmiten en tiempo real a traves del GTS...disponible via intern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3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6933960" cy="3778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1143000"/>
            <a:ext cx="784836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Radiosondas (OMM, G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20 km) de T, HR, viento, presión, cada 12 / 24 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163188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733920" y="1676520"/>
            <a:ext cx="510516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317840" y="609480"/>
            <a:ext cx="481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eather.uwyo.edu/upperair/soundin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2639880"/>
            <a:ext cx="7407360" cy="3760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762120"/>
            <a:ext cx="7848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. Obtenida por Aviones come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0-10 km) de T, HR, viento, presión, y datos a nivel (10 km) a distintas horas. También se transmiten via 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22320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94488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observación local (CONAMA-D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486400"/>
            <a:ext cx="3944880" cy="800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: red de CONAMA-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servaciones horarias de T, HR, vien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. Solar y calidad d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19320" y="990720"/>
          <a:ext cx="6858000" cy="49528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18288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l 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x, T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edad del 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rometro / Psicr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s pa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viometro / Niv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i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ro / Vel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f,dd) o (u,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 Atmosfé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ro / Alti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fc, P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 sol, inten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i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, dif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infraroja / n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o IR / n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l suel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metr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s niv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jo calor al sub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jos turbul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. s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, LE,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o multi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68320" y="53352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bservaciones en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6095880"/>
            <a:ext cx="6111720" cy="337320"/>
            <a:chOff x="1600200" y="6095880"/>
            <a:chExt cx="6111720" cy="337320"/>
          </a:xfrm>
        </p:grpSpPr>
        <p:sp>
          <p:nvSpPr>
            <p:cNvPr id="51" name=""/>
            <p:cNvSpPr/>
            <p:nvPr/>
          </p:nvSpPr>
          <p:spPr>
            <a:xfrm>
              <a:off x="1600200" y="6171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groM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4560" y="6171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13160" y="6171840"/>
              <a:ext cx="22860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772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in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32120" y="617184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6072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icroM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24480" y="6171840"/>
              <a:ext cx="228600" cy="2286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5308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419720" cy="346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64720" y="104148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ación meteorologica conve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960" y="2514600"/>
            <a:ext cx="3698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bertizo meteoroló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rmómetro (Hg) normal y max/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rmómetro de bulbo húmedo/seco (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i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tro de cabello (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rómetro (pres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uvi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nemómetro-vel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Heliógrafo (horas de s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514680" cy="497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94360" y="1295280"/>
            <a:ext cx="414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ón Meteorológica automá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mómetro e higr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ra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tro (Rad. Solar / 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uvi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emómetro-ve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sen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alogger – modulo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 de transmisión (tel., radio, s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44600" y="4724280"/>
            <a:ext cx="4857840" cy="106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ciones más precis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ciones más frecuentes (1h, 1min, 1seg, etc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itoreo en tiempo real / remoto / contin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t-procesamiento de la información (alert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914400"/>
            <a:ext cx="647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altura I: Globos Pilotos (PIB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ón económica de vientos en altura a través del seguimiento óptico (az,el) de un globo de H o H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5486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84360" y="2971440"/>
            <a:ext cx="4298400" cy="3073680"/>
            <a:chOff x="684360" y="2971440"/>
            <a:chExt cx="4298400" cy="30736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684360" y="2971800"/>
              <a:ext cx="2031480" cy="30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198600" y="2971800"/>
              <a:ext cx="17841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flipV="1">
              <a:off x="1446120" y="2971440"/>
              <a:ext cx="175212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2080" y="5257440"/>
              <a:ext cx="167616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371600" y="9144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I: Radioso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ción de viento (GPS), temperatura y humedad a distintos niveles de presión / altura. Aprox. US$ 200 / 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527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405320" cy="330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410080" y="1219320"/>
            <a:ext cx="2799000" cy="414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6858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altura III: Globos Ca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ón de viento (GPS), temperatura y humedad a distintos niveles de presión / altura. Alcance limi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762120"/>
            <a:ext cx="7848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. Obtenida por Aviones come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0-10 km) de T, HR, viento, presión, y datos a nivel (10 km) a distintas horas. También se transmiten via 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4876560" cy="209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308240" cy="14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64000" y="3933720"/>
            <a:ext cx="3510000" cy="2603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084720" y="2492280"/>
            <a:ext cx="2592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46:14Z</dcterms:created>
  <dc:creator>U. de Chile</dc:creator>
  <dc:description/>
  <dc:language>en-US</dc:language>
  <cp:lastModifiedBy>Ingrid</cp:lastModifiedBy>
  <dcterms:modified xsi:type="dcterms:W3CDTF">2007-08-29T18:45:39Z</dcterms:modified>
  <cp:revision>91</cp:revision>
  <dc:subject/>
  <dc:title>Diapositiva 1</dc:title>
</cp:coreProperties>
</file>